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6.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notesSlide18.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8.jpeg" ContentType="image/jpeg"/>
  <Override PartName="/ppt/media/image55.jpeg" ContentType="image/jpeg"/>
  <Override PartName="/ppt/media/image40.gif" ContentType="image/gif"/>
  <Override PartName="/ppt/media/image54.jpeg" ContentType="image/jpeg"/>
  <Override PartName="/ppt/media/image53.jpeg" ContentType="image/jpeg"/>
  <Override PartName="/ppt/media/image52.jpeg" ContentType="image/jpeg"/>
  <Override PartName="/ppt/media/image57.jpeg" ContentType="image/jpeg"/>
  <Override PartName="/ppt/media/image50.gif" ContentType="image/gif"/>
  <Override PartName="/ppt/media/image56.jpeg" ContentType="image/jpeg"/>
  <Override PartName="/ppt/media/image49.jpeg" ContentType="image/jpeg"/>
  <Override PartName="/ppt/media/image48.gif" ContentType="image/gif"/>
  <Override PartName="/ppt/media/image47.jpeg" ContentType="image/jpeg"/>
  <Override PartName="/ppt/media/image43.gif" ContentType="image/gif"/>
  <Override PartName="/ppt/media/image38.gif" ContentType="image/gif"/>
  <Override PartName="/ppt/media/image44.gif" ContentType="image/gif"/>
  <Override PartName="/ppt/media/image37.jpeg" ContentType="image/jpeg"/>
  <Override PartName="/ppt/media/image3.jpeg" ContentType="image/jpeg"/>
  <Override PartName="/ppt/media/image74.gif" ContentType="image/gif"/>
  <Override PartName="/ppt/media/image36.jpeg" ContentType="image/jpeg"/>
  <Override PartName="/ppt/media/image2.jpeg" ContentType="image/jpeg"/>
  <Override PartName="/ppt/media/image18.jpeg" ContentType="image/jpeg"/>
  <Override PartName="/ppt/media/image59.gif" ContentType="image/gif"/>
  <Override PartName="/ppt/media/image20.jpeg" ContentType="image/jpeg"/>
  <Override PartName="/ppt/media/image21.jpeg" ContentType="image/jpeg"/>
  <Override PartName="/ppt/media/image65.png" ContentType="image/png"/>
  <Override PartName="/ppt/media/image25.jpeg" ContentType="image/jpeg"/>
  <Override PartName="/ppt/media/image15.jpeg" ContentType="image/jpeg"/>
  <Override PartName="/ppt/media/image29.gif" ContentType="image/gif"/>
  <Override PartName="/ppt/media/image60.jpeg" ContentType="image/jpeg"/>
  <Override PartName="/ppt/media/image64.png" ContentType="image/png"/>
  <Override PartName="/ppt/media/image42.png" ContentType="image/png"/>
  <Override PartName="/ppt/media/image26.jpeg" ContentType="image/jpeg"/>
  <Override PartName="/ppt/media/image72.jpeg" ContentType="image/jpeg"/>
  <Override PartName="/ppt/media/image67.jpeg" ContentType="image/jpeg"/>
  <Override PartName="/ppt/media/image71.jpeg" ContentType="image/jpeg"/>
  <Override PartName="/ppt/media/image73.gif" ContentType="image/gif"/>
  <Override PartName="/ppt/media/image66.jpeg" ContentType="image/jpeg"/>
  <Override PartName="/ppt/media/image9.jpeg" ContentType="image/jpeg"/>
  <Override PartName="/ppt/media/image70.jpeg" ContentType="image/jpeg"/>
  <Override PartName="/ppt/media/image69.jpeg" ContentType="image/jpeg"/>
  <Override PartName="/ppt/media/image68.jpeg" ContentType="image/jpeg"/>
  <Override PartName="/ppt/media/image19.jpeg" ContentType="image/jpeg"/>
  <Override PartName="/ppt/media/image63.jpeg" ContentType="image/jpeg"/>
  <Override PartName="/ppt/media/image6.jpeg" ContentType="image/jpeg"/>
  <Override PartName="/ppt/media/image17.jpeg" ContentType="image/jpeg"/>
  <Override PartName="/ppt/media/image61.jpeg" ContentType="image/jpeg"/>
  <Override PartName="/ppt/media/image24.jpeg" ContentType="image/jpeg"/>
  <Override PartName="/ppt/media/image27.gif" ContentType="image/gif"/>
  <Override PartName="/ppt/media/image51.jpeg" ContentType="image/jpeg"/>
  <Override PartName="/ppt/media/image22.jpeg" ContentType="image/jpeg"/>
  <Override PartName="/ppt/media/image46.gif" ContentType="image/gif"/>
  <Override PartName="/ppt/media/image1.jpeg" ContentType="image/jpeg"/>
  <Override PartName="/ppt/media/image35.jpeg" ContentType="image/jpeg"/>
  <Override PartName="/ppt/media/image62.jpeg" ContentType="image/jpeg"/>
  <Override PartName="/ppt/media/image4.gif" ContentType="image/gif"/>
  <Override PartName="/ppt/media/image33.jpeg" ContentType="image/jpeg"/>
  <Override PartName="/ppt/media/image28.gif" ContentType="image/gif"/>
  <Override PartName="/ppt/media/image14.jpeg" ContentType="image/jpeg"/>
  <Override PartName="/ppt/media/image41.jpeg" ContentType="image/jpeg"/>
  <Override PartName="/ppt/media/image23.jpeg" ContentType="image/jpeg"/>
  <Override PartName="/ppt/media/image5.gif" ContentType="image/gif"/>
  <Override PartName="/ppt/media/image12.jpeg" ContentType="image/jpeg"/>
  <Override PartName="/ppt/media/image11.jpeg" ContentType="image/jpeg"/>
  <Override PartName="/ppt/media/image8.jpeg" ContentType="image/jpeg"/>
  <Override PartName="/ppt/media/image45.gif" ContentType="image/gif"/>
  <Override PartName="/ppt/media/image10.jpeg" ContentType="image/jpeg"/>
  <Override PartName="/ppt/media/image16.jpeg" ContentType="image/jpeg"/>
  <Override PartName="/ppt/media/image39.gif" ContentType="image/gif"/>
  <Override PartName="/ppt/media/image7.jpeg" ContentType="image/jpeg"/>
  <Override PartName="/ppt/media/image13.gif" ContentType="image/gif"/>
  <Override PartName="/ppt/media/image30.jpeg" ContentType="image/jpeg"/>
  <Override PartName="/ppt/media/image31.jpeg" ContentType="image/jpeg"/>
  <Override PartName="/ppt/media/image32.jpeg" ContentType="image/jpeg"/>
  <Override PartName="/ppt/media/image3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0D32C5-9004-4906-A90B-D923BB6E43B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43000" y="685800"/>
            <a:ext cx="4572000" cy="3429000"/>
          </a:xfrm>
          <a:prstGeom prst="rect">
            <a:avLst/>
          </a:prstGeom>
          <a:ln w="0">
            <a:noFill/>
          </a:ln>
        </p:spPr>
      </p:sp>
      <p:sp>
        <p:nvSpPr>
          <p:cNvPr id="3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F60776-6320-4046-B139-B99330E03D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Arial"/>
            </a:endParaRPr>
          </a:p>
        </p:txBody>
      </p:sp>
      <p:sp>
        <p:nvSpPr>
          <p:cNvPr id="3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786494-3C5E-484B-AA74-75274A8FDCBB}" type="slidenum">
              <a:rPr b="0" lang="en-AU" sz="1200" spc="-1" strike="noStrike">
                <a:solidFill>
                  <a:srgbClr val="000000"/>
                </a:solidFill>
                <a:latin typeface="Lucida Console"/>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1143000" y="685800"/>
            <a:ext cx="4572000" cy="3429000"/>
          </a:xfrm>
          <a:prstGeom prst="rect">
            <a:avLst/>
          </a:prstGeom>
          <a:ln w="0">
            <a:noFill/>
          </a:ln>
        </p:spPr>
      </p:sp>
      <p:sp>
        <p:nvSpPr>
          <p:cNvPr id="3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Arial"/>
            </a:endParaRPr>
          </a:p>
        </p:txBody>
      </p:sp>
      <p:sp>
        <p:nvSpPr>
          <p:cNvPr id="3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BC8BF0-B833-4026-8B77-39A841B8CA03}" type="slidenum">
              <a:rPr b="0" lang="en-AU" sz="1200" spc="-1" strike="noStrike">
                <a:solidFill>
                  <a:srgbClr val="000000"/>
                </a:solidFill>
                <a:latin typeface="Lucida Console"/>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Arial"/>
            </a:endParaRPr>
          </a:p>
        </p:txBody>
      </p:sp>
      <p:sp>
        <p:nvSpPr>
          <p:cNvPr id="3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ADFF56-EBBD-4A36-9768-5A6596EE6E04}" type="slidenum">
              <a:rPr b="0" lang="en-AU" sz="1200" spc="-1" strike="noStrike">
                <a:solidFill>
                  <a:srgbClr val="000000"/>
                </a:solidFill>
                <a:latin typeface="Lucida Console"/>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09AE36-AB72-44BB-B958-E8B5DA6FB6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1015FA-C4B5-4FB4-BDCC-3E32D1ADFD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FFA746-8D2E-443A-B44D-DB9C18BD24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D0D742-0F09-4D59-BD0F-BD8179CE2F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43A9B2-1004-4195-BE08-BF8D9C6C5A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ECB01E-F158-4047-B4D0-BAA42E92BE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D141A5-878A-4EF9-8A4B-3CD28FEADB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702F9B-E3C7-48CF-B8DA-21F079C5A9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3937A0-F592-4F08-863B-E11BD4589B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1D3850-FB6B-4189-ADDB-B8F2197685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4F8397-C443-4BF3-97F9-A77D61B39D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DB8DD7-6624-499D-AB49-02E940358F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DCF6C1-7814-4556-9D8F-AB5D4590F72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images.google.com.au/imgres?imgurl=http://tolweb.org/tree/ToLimages/Gryllo5.jpg&amp;imgrefurl=http://tolweb.org/Grylloblattidae&amp;usg=__5OLjfAMqEuLZoPjKtKH2HcWbt6c=&amp;h=350&amp;w=326&amp;sz=59&amp;hl=en&amp;start=2&amp;um=1&amp;tbnid=O2uozeWUv2_IXM:&amp;tbnh=120&amp;tbnw=112&amp;prev=/images%3Fq%3DGrylloblattodea%26hl%3Den%26lr%3D%26rlz%3D1G1GGLQ_ENAU338%26um%3D1" TargetMode="External"/><Relationship Id="rId3" Type="http://schemas.openxmlformats.org/officeDocument/2006/relationships/image" Target="../media/image2.jpeg"/><Relationship Id="rId4" Type="http://schemas.openxmlformats.org/officeDocument/2006/relationships/hyperlink" Target="http://images.google.com.au/imgres?imgurl=http://nature.berkeley.edu/citybugs/search/ident_images/IDed/Grylloblattodea/1404_grylloblattidae_%2520Ice%2520crawler.jpg&amp;imgrefurl=http://www.discoverlife.org/mp/20o%3Fsearch%3DGrylloblattodea&amp;usg=__2YMZA9xCbq5wfKA_Tw_2ym3LGLk=&amp;h=169&amp;w=300&amp;sz=68&amp;hl=en&amp;start=10&amp;um=1&amp;tbnid=yiF7pNsd-E-T1M:&amp;tbnh=65&amp;tbnw=116&amp;prev=/images%3Fq%3DGrylloblattodea%26hl%3Den%26lr%3D%26rlz%3D1G1GGLQ_ENAU338%26sa%3DN%26um%3D1" TargetMode="External"/><Relationship Id="rId5" Type="http://schemas.openxmlformats.org/officeDocument/2006/relationships/image" Target="../media/image3.jpeg"/><Relationship Id="rId6" Type="http://schemas.openxmlformats.org/officeDocument/2006/relationships/image" Target="../media/image4.gif"/><Relationship Id="rId7" Type="http://schemas.openxmlformats.org/officeDocument/2006/relationships/image" Target="../media/image5.gif"/><Relationship Id="rId8"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hyperlink" Target="http://images.google.com.au/imgres?imgurl=http://www.tolweb.org/tree/ToLimages/Coptotermes_formosanus.jpg&amp;imgrefurl=http://www.tolweb.org/Dictyoptera/8253&amp;usg=__nAscUa0lYURnwtxGDDftQy7JCUY=&amp;h=300&amp;w=180&amp;sz=11&amp;hl=en&amp;start=48&amp;um=1&amp;tbnid=ZgALzdrYu2ANdM:&amp;tbnh=116&amp;tbnw=70&amp;prev=/images%3Fq%3DInsecta,Plecoptera,Grylloblattidae%26ndsp%3D20%26hl%3Den%26lr%3D%26rlz%3D1G1GGLQ_ENAU338%26sa%3DN%26start%3D40%26um%3D1" TargetMode="External"/><Relationship Id="rId3" Type="http://schemas.openxmlformats.org/officeDocument/2006/relationships/image" Target="../media/image26.jpeg"/><Relationship Id="rId4" Type="http://schemas.openxmlformats.org/officeDocument/2006/relationships/image" Target="../media/image27.gif"/><Relationship Id="rId5" Type="http://schemas.openxmlformats.org/officeDocument/2006/relationships/image" Target="../media/image28.gif"/><Relationship Id="rId6" Type="http://schemas.openxmlformats.org/officeDocument/2006/relationships/image" Target="../media/image29.gif"/><Relationship Id="rId7"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hyperlink" Target="http://images.google.com.au/imgres?imgurl=http://farm4.static.flickr.com/3122/2331292491_3817972f2f.jpg&amp;imgrefurl=http://www.flickr.com/photos/9646365%40N03/2331292491/&amp;usg=__2O7PtkELb6rMheJN7cD5sFjyKQo=&amp;h=315&amp;w=500&amp;sz=78&amp;hl=en&amp;start=21&amp;tbnid=eESYDgczvelbkM:&amp;tbnh=82&amp;tbnw=130&amp;prev=/images%3Fq%3DMegaloptera%26gbv%3D2%26ndsp%3D20%26hl%3Den%26sa%3DN%26start%3D20" TargetMode="External"/><Relationship Id="rId2" Type="http://schemas.openxmlformats.org/officeDocument/2006/relationships/image" Target="../media/image30.jpeg"/><Relationship Id="rId3" Type="http://schemas.openxmlformats.org/officeDocument/2006/relationships/hyperlink" Target="http://images.google.com.au/imgres?imgurl=http://www.benthos.org/imagelibrary/images/macro046.jpg&amp;imgrefurl=http://www.benthos.org/imagelibrary/filedet.cfm%3Ffile_name%3Dmacro046%26file_type%3Djpg&amp;usg=__2eQCrWMBn6Gw5dE7mZW9YI592j0=&amp;h=535&amp;w=800&amp;sz=210&amp;hl=en&amp;start=24&amp;um=1&amp;tbnid=kSY9AJgeXX9oRM:&amp;tbnh=96&amp;tbnw=143&amp;prev=/images%3Fq%3DMegaloptera%26ndsp%3D20%26hl%3Den%26lr%3D%26rlz%3D1G1GGLQ_ENAU338%26sa%3DN%26start%3D20%26um%3D1" TargetMode="External"/><Relationship Id="rId4" Type="http://schemas.openxmlformats.org/officeDocument/2006/relationships/image" Target="../media/image31.jpe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hyperlink" Target="http://images.google.com.au/imgres?imgurl=http://www.medilexicon.com/images/pages/the_world_belongs_to_you.jpg&amp;imgrefurl=http://www.medilexicon.com/medicalassociations.php&amp;usg=__q4YW_9U8rPfY0uGYJvXo3RUd5yI=&amp;h=346&amp;w=407&amp;sz=13&amp;hl=en&amp;start=10&amp;um=1&amp;tbnid=5bqI7ELtcIRePM:&amp;tbnh=106&amp;tbnw=125&amp;prev=/images%3Fq%3Dthe%2Bworld%26ndsp%3D20%26hl%3Den%26lr%3D%26rlz%3D1G1GGLQ_ENAU338%26sa%3DN%26um%3D1" TargetMode="External"/><Relationship Id="rId2" Type="http://schemas.openxmlformats.org/officeDocument/2006/relationships/image" Target="../media/image32.jpeg"/><Relationship Id="rId3" Type="http://schemas.openxmlformats.org/officeDocument/2006/relationships/hyperlink" Target="http://images.google.com.au/imgres?imgurl=http://startswithabang.com/wp-content/uploads/2009/03/question_mark2.jpg&amp;imgrefurl=http://startswithabang.com/%3Fp%3D1638&amp;usg=__F8MD7N3tJUdR9akNOyoMQ3Mdr3I=&amp;h=480&amp;w=394&amp;sz=208&amp;hl=en&amp;start=8&amp;um=1&amp;tbnid=-DRiI4Eu9PLuyM:&amp;tbnh=129&amp;tbnw=106&amp;prev=/images%3Fq%3Dquestion%2Bmark%26hl%3Den%26lr%3D%26rlz%3D1G1GGLQ_ENAU338%26um%3D1" TargetMode="External"/><Relationship Id="rId4" Type="http://schemas.openxmlformats.org/officeDocument/2006/relationships/image" Target="../media/image33.jpeg"/><Relationship Id="rId5" Type="http://schemas.openxmlformats.org/officeDocument/2006/relationships/hyperlink" Target="http://images.google.com.au/imgres?imgurl=http://www.istockphoto.com/file_thumbview_approve/7651615/2/istockphoto_7651615-question-mark.jpg&amp;imgrefurl=http://www.istockphoto.com/stock-photo-7651615-question-mark.php&amp;usg=__2FD2Ts1CeyEodEuUQEUrYjqr6ns=&amp;h=380&amp;w=380&amp;sz=30&amp;hl=en&amp;start=101&amp;um=1&amp;tbnid=YoKtG3eZqpQTlM:&amp;tbnh=123&amp;tbnw=123&amp;prev=/images%3Fq%3Dquestion%2Bmark%26ndsp%3D20%26hl%3Den%26lr%3D%26rlz%3D1G1GGLQ_ENAU338%26sa%3DN%26start%3D100%26um%3D1" TargetMode="External"/><Relationship Id="rId6" Type="http://schemas.openxmlformats.org/officeDocument/2006/relationships/image" Target="../media/image34.jpeg"/><Relationship Id="rId7" Type="http://schemas.openxmlformats.org/officeDocument/2006/relationships/hyperlink" Target="http://images.google.com.au/imgres?imgurl=http://www.dreamstime.com/question-mark-box-thumb1317187.jpg&amp;imgrefurl=http://www.dreamstime.com/question-mark-box-image1317187&amp;usg=__mgUaYhrLPIYMGDQVBfRRtZ7lLXo=&amp;h=300&amp;w=300&amp;sz=51&amp;hl=en&amp;start=103&amp;um=1&amp;tbnid=tP-pXKnV5QFQdM:&amp;tbnh=116&amp;tbnw=116&amp;prev=/images%3Fq%3Dquestion%2Bmark%26ndsp%3D20%26hl%3Den%26lr%3D%26rlz%3D1G1GGLQ_ENAU338%26sa%3DN%26start%3D100%26um%3D1" TargetMode="External"/><Relationship Id="rId8" Type="http://schemas.openxmlformats.org/officeDocument/2006/relationships/image" Target="../media/image35.jpeg"/><Relationship Id="rId9" Type="http://schemas.openxmlformats.org/officeDocument/2006/relationships/hyperlink" Target="http://images.google.com.au/imgres?imgurl=http://sixminutes.dlugan.com/wp-content/uploads/2008/02/question-mark.jpg&amp;imgrefurl=http://sixminutes.dlugan.com/2007/11/02/leading-the-perfect-qa/&amp;usg=__QL1M8ga2V2vv9ixldXqvxQ3gCgo=&amp;h=412&amp;w=300&amp;sz=23&amp;hl=en&amp;start=75&amp;um=1&amp;tbnid=zuzIC_hjRnW58M:&amp;tbnh=125&amp;tbnw=91&amp;prev=/images%3Fq%3Dquestion%2Bmark%26ndsp%3D20%26hl%3Den%26lr%3D%26rlz%3D1G1GGLQ_ENAU338%26sa%3DN%26start%3D60%26um%3D1" TargetMode="External"/><Relationship Id="rId10" Type="http://schemas.openxmlformats.org/officeDocument/2006/relationships/image" Target="../media/image36.jpeg"/><Relationship Id="rId11" Type="http://schemas.openxmlformats.org/officeDocument/2006/relationships/image" Target="../media/image37.jpeg"/><Relationship Id="rId1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8.gif"/><Relationship Id="rId2" Type="http://schemas.openxmlformats.org/officeDocument/2006/relationships/image" Target="../media/image39.gif"/><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40.gi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image" Target="../media/image42.pn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43.gif"/><Relationship Id="rId2" Type="http://schemas.openxmlformats.org/officeDocument/2006/relationships/image" Target="../media/image44.gif"/><Relationship Id="rId3" Type="http://schemas.openxmlformats.org/officeDocument/2006/relationships/image" Target="../media/image44.gif"/><Relationship Id="rId4" Type="http://schemas.openxmlformats.org/officeDocument/2006/relationships/image" Target="../media/image45.gif"/><Relationship Id="rId5" Type="http://schemas.openxmlformats.org/officeDocument/2006/relationships/image" Target="../media/image46.gif"/><Relationship Id="rId6"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8.gi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www.reference.com/go/http:/wikipedia.org/wiki/Grylloblatta_campodeiformis" TargetMode="External"/><Relationship Id="rId2" Type="http://schemas.openxmlformats.org/officeDocument/2006/relationships/hyperlink" Target="http://www.reference.com/browse/wiki/Cricket_%28insect%29" TargetMode="External"/><Relationship Id="rId3" Type="http://schemas.openxmlformats.org/officeDocument/2006/relationships/hyperlink" Target="http://www.reference.com/browse/wiki/Cockroach" TargetMode="External"/><Relationship Id="rId4" Type="http://schemas.openxmlformats.org/officeDocument/2006/relationships/hyperlink" Target="http://www.reference.com/browse/wiki/Campodea" TargetMode="External"/><Relationship Id="rId5" Type="http://schemas.openxmlformats.org/officeDocument/2006/relationships/hyperlink" Target="http://images.google.com.au/imgres?imgurl=http://www.geocities.com/~fransjanssens/images/joe/Campodea_staphylinus_20071214_Joe_Botting_UK_London_l.jpg&amp;imgrefurl=http://www.geocities.com/~fransjanssens/taxa/collembo.htm&amp;usg=__kxw6grkbpc-Cn8JWqUljTDV8T4k=&amp;h=768&amp;w=1024&amp;sz=683&amp;hl=en&amp;start=2&amp;tbnid=JMJ5VHfyuGuTDM:&amp;tbnh=113&amp;tbnw=150&amp;prev=/images%3Fq%3DCampodea%26gbv%3D2%26hl%3Den%26sa%3DG" TargetMode="External"/><Relationship Id="rId6" Type="http://schemas.openxmlformats.org/officeDocument/2006/relationships/image" Target="../media/image6.jpeg"/><Relationship Id="rId7" Type="http://schemas.openxmlformats.org/officeDocument/2006/relationships/hyperlink" Target="http://images.google.com.au/imgres?imgurl=http://www.hip2b2.com/images/uploaded_images/cricket.jpg&amp;imgrefurl=http://www.hip2b2.com/news/how-to-silence-a-cricket/29060/&amp;usg=__QC28l3EdvZS7an7A7Yn18MATKZo=&amp;h=375&amp;w=500&amp;sz=30&amp;hl=en&amp;start=19&amp;tbnid=AcwWlStcVlBrVM:&amp;tbnh=98&amp;tbnw=130&amp;prev=/images%3Fq%3DCricket%26gbv%3D2%26hl%3Den" TargetMode="External"/><Relationship Id="rId8" Type="http://schemas.openxmlformats.org/officeDocument/2006/relationships/image" Target="../media/image7.jpeg"/><Relationship Id="rId9" Type="http://schemas.openxmlformats.org/officeDocument/2006/relationships/hyperlink" Target="http://images.google.com.au/imgres?imgurl=http://en.wikivisual.com/images/d/d4/Madagascan.hissing.cockroach.750pix.jpg&amp;imgrefurl=http://en.wikivisual.com/index.php/Madagascar_hissing_cockroach&amp;usg=__yFl88hphZ7RpIZyoco2mf0VYpNY=&amp;h=673&amp;w=750&amp;sz=91&amp;hl=en&amp;start=60&amp;tbnid=LXPdDBe_RdmjGM:&amp;tbnh=127&amp;tbnw=141&amp;prev=/images%3Fq%3DCockroach%26gbv%3D2%26ndsp%3D20%26hl%3Den%26sa%3DN%26start%3D40" TargetMode="External"/><Relationship Id="rId10" Type="http://schemas.openxmlformats.org/officeDocument/2006/relationships/image" Target="../media/image8.jpeg"/><Relationship Id="rId11" Type="http://schemas.openxmlformats.org/officeDocument/2006/relationships/hyperlink" Target="http://images.google.com.au/imgres?imgurl=http://www.cals.ncsu.edu/course/ent425/library/spotid/grylloblattodea/rollover1.jpg&amp;imgrefurl=http://www.cals.ncsu.edu/course/ent425/library/spotid/grylloblattodea/grylloblattodea.html&amp;usg=__LkjRwWXOuSl2uRzCs1mEuzjgW1E=&amp;h=288&amp;w=458&amp;sz=35&amp;hl=en&amp;start=6&amp;tbnid=9mA4W2Ex8p9clM:&amp;tbnh=80&amp;tbnw=128&amp;prev=/images%3Fq%3DGrylloblattodea%26gbv%3D2%26hl%3Den%26sa%3DX" TargetMode="External"/><Relationship Id="rId12" Type="http://schemas.openxmlformats.org/officeDocument/2006/relationships/image" Target="../media/image9.jpeg"/><Relationship Id="rId1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50.gi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hyperlink" Target="http://images.google.com.au/imgres?imgurl=http://www.danconnolly.co.uk/wp-content/uploads/2009/06/insect1.jpg&amp;imgrefurl=http://www.danconnolly.co.uk/%3Fcat%3D24&amp;usg=__NJnQ1-O2u4_h45Q4ZFnNMisQSjY=&amp;h=450&amp;w=450&amp;sz=136&amp;hl=en&amp;start=47&amp;tbnid=TAEtEceS-XJe8M:&amp;tbnh=127&amp;tbnw=127&amp;prev=/images%3Fq%3DDead%2Binsects%26gbv%3D2%26ndsp%3D20%26hl%3Den%26sa%3DN%26start%3D40" TargetMode="External"/><Relationship Id="rId3" Type="http://schemas.openxmlformats.org/officeDocument/2006/relationships/image" Target="../media/image52.jpeg"/><Relationship Id="rId4" Type="http://schemas.openxmlformats.org/officeDocument/2006/relationships/hyperlink" Target="http://images.google.com.au/imgres?imgurl=http://schmidling.com/larvae.jpg&amp;imgrefurl=http://schmidling.com/insects.htm&amp;usg=__Q_feL5mXgJJkDCbRXKK9cDLnLR4=&amp;h=360&amp;w=500&amp;sz=45&amp;hl=en&amp;start=54&amp;um=1&amp;tbnid=rIZXqlCIARyruM:&amp;tbnh=94&amp;tbnw=130&amp;prev=/images%3Fq%3Dlarvae%26ndsp%3D20%26hl%3Den%26rlz%3D1G1GGLQ_ENAU338%26sa%3DN%26start%3D40%26um%3D1" TargetMode="External"/><Relationship Id="rId5" Type="http://schemas.openxmlformats.org/officeDocument/2006/relationships/image" Target="../media/image53.jpeg"/><Relationship Id="rId6" Type="http://schemas.openxmlformats.org/officeDocument/2006/relationships/hyperlink" Target="http://bugguide.net/node/view/280722" TargetMode="External"/><Relationship Id="rId7" Type="http://schemas.openxmlformats.org/officeDocument/2006/relationships/image" Target="../media/image54.jpeg"/><Relationship Id="rId8" Type="http://schemas.openxmlformats.org/officeDocument/2006/relationships/hyperlink" Target="http://images.google.com.au/imgres?imgurl=http://www.ontariowildflower.com/images/lilyyellow.jpg&amp;imgrefurl=http://www.ontariowildflower.com/lakes.htm&amp;usg=__vi_ku9Uh1a8bA28LcB6gDCSDkYY=&amp;h=344&amp;w=400&amp;sz=13&amp;hl=en&amp;start=5&amp;tbnid=bKgKW9asXsvvlM:&amp;tbnh=107&amp;tbnw=124&amp;prev=/images%3Fq%3Dyellow%2Bpond%2Blily%26gbv%3D2%26hl%3Den" TargetMode="External"/><Relationship Id="rId9" Type="http://schemas.openxmlformats.org/officeDocument/2006/relationships/image" Target="../media/image55.jpeg"/><Relationship Id="rId10" Type="http://schemas.openxmlformats.org/officeDocument/2006/relationships/hyperlink" Target="http://images.google.com.au/imgres?imgurl=http://zunal.com/myaccount/uploads/insects(7).jpg&amp;imgrefurl=http://www.zunal.com/matrix.php%3FCurriculum%3D109%26Grade%3D101%26page%3D2&amp;usg=__Iw3bYCD67r3wZoloNvX4MRyDfMw=&amp;h=287&amp;w=421&amp;sz=53&amp;hl=en&amp;start=2&amp;tbnid=LIImzpKn7at0QM:&amp;tbnh=85&amp;tbnw=125&amp;prev=/images%3Fq%3Dinsects%26gbv%3D2%26hl%3Den" TargetMode="External"/><Relationship Id="rId11" Type="http://schemas.openxmlformats.org/officeDocument/2006/relationships/image" Target="../media/image56.jpeg"/><Relationship Id="rId12" Type="http://schemas.openxmlformats.org/officeDocument/2006/relationships/image" Target="../media/image57.jpeg"/><Relationship Id="rId13" Type="http://schemas.openxmlformats.org/officeDocument/2006/relationships/hyperlink" Target="http://images.google.com.au/imgres?imgurl=http://schools-wikipedia.org/2006/images/70/7028.jpg&amp;imgrefurl=http://schools-wikipedia.org/2006/wp/c/Crane_fly.htm&amp;usg=__AgOboUuuga78JmKiZzW-Lvqn73E=&amp;h=304&amp;w=250&amp;sz=35&amp;hl=en&amp;start=6&amp;tbnid=SeVrprYvTx3acM:&amp;tbnh=116&amp;tbnw=95&amp;prev=/images%3Fq%3DCrane%2Bflies%26gbv%3D2%26hl%3Den" TargetMode="External"/><Relationship Id="rId14" Type="http://schemas.openxmlformats.org/officeDocument/2006/relationships/image" Target="../media/image58.jpeg"/><Relationship Id="rId15"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59.gif"/><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60.jpeg"/><Relationship Id="rId2" Type="http://schemas.openxmlformats.org/officeDocument/2006/relationships/hyperlink" Target="http://images.google.com.au/imgres?imgurl=http://www.tolweb.org/tree/ToLimages/Gryllo5.jpg&amp;imgrefurl=http://www.tolweb.org/Grylloblattidae&amp;usg=__KID82tzvnXIG1XZm4dIAiUVpwrI=&amp;h=350&amp;w=326&amp;sz=59&amp;hl=en&amp;start=2&amp;tbnid=O2uozeWUv2_IXM:&amp;tbnh=120&amp;tbnw=112&amp;prev=/images%3Fq%3DGrylloblattodea%26gbv%3D2%26hl%3Den" TargetMode="External"/><Relationship Id="rId3" Type="http://schemas.openxmlformats.org/officeDocument/2006/relationships/image" Target="../media/image2.jpeg"/><Relationship Id="rId4" Type="http://schemas.openxmlformats.org/officeDocument/2006/relationships/hyperlink" Target="http://images.google.com.au/imgres?imgurl=http://photos.orblogs.com/thumbs/2007/1fdc1790cfdb481d0ba552aa90094658_m.jpg&amp;imgrefurl=http://photos.orblogs.com/home/3/&amp;usg=__qAKLFjqpitpI_slPGt6C6lHpJWM=&amp;h=264&amp;w=340&amp;sz=47&amp;hl=en&amp;start=7&amp;tbnid=y4eMUhGjQGwXGM:&amp;tbnh=92&amp;tbnw=119&amp;prev=/images%3Fq%3Dinsect%2Beggs%26gbv%3D2%26hl%3Den" TargetMode="External"/><Relationship Id="rId5" Type="http://schemas.openxmlformats.org/officeDocument/2006/relationships/image" Target="../media/image61.jpeg"/><Relationship Id="rId6" Type="http://schemas.openxmlformats.org/officeDocument/2006/relationships/hyperlink" Target="http://images.google.com.au/imgres?imgurl=http://www.amentsoc.org/images/zoraptera.jpg&amp;imgrefurl=http://www.amentsoc.org/insects/fact-files/orders/zoraptera.html&amp;usg=__coBJjWkTMkEmJCWIcn_7YMKM92c=&amp;h=180&amp;w=250&amp;sz=22&amp;hl=en&amp;start=2&amp;tbnid=ZYZ639Wg2twRJM:&amp;tbnh=80&amp;tbnw=111&amp;prev=/images%3Fq%3Dtiny%2BGrylloblattodea%26gbv%3D2%26hl%3Den" TargetMode="External"/><Relationship Id="rId7" Type="http://schemas.openxmlformats.org/officeDocument/2006/relationships/image" Target="../media/image62.jpeg"/><Relationship Id="rId8" Type="http://schemas.openxmlformats.org/officeDocument/2006/relationships/hyperlink" Target="http://images.google.com.au/imgres?imgurl=http://www.geog.ubc.ca/biodiversity/efauna/images/termite.jpg&amp;imgrefurl=http://www.geog.ubc.ca/biodiversity/efauna/TermitesofBC.html&amp;usg=__E2cD6yBX0mF3ItRlVna0HBguSIQ=&amp;h=198&amp;w=299&amp;sz=15&amp;hl=en&amp;start=71&amp;tbnid=NSlycrC2_AkK5M:&amp;tbnh=77&amp;tbnw=116&amp;prev=/images%3Fq%3Dmedium%2Bsized%2BGrylloblattodea%26gbv%3D2%26ndsp%3D20%26hl%3Den%26sa%3DN%26start%3D60" TargetMode="External"/><Relationship Id="rId9" Type="http://schemas.openxmlformats.org/officeDocument/2006/relationships/image" Target="../media/image63.jpeg"/><Relationship Id="rId10" Type="http://schemas.openxmlformats.org/officeDocument/2006/relationships/slideLayout" Target="../slideLayouts/slideLayout1.xml"/><Relationship Id="rId11"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image" Target="../media/image65.png"/><Relationship Id="rId3" Type="http://schemas.openxmlformats.org/officeDocument/2006/relationships/image" Target="../media/image66.jpeg"/><Relationship Id="rId4" Type="http://schemas.openxmlformats.org/officeDocument/2006/relationships/image" Target="../media/image16.jpeg"/><Relationship Id="rId5" Type="http://schemas.openxmlformats.org/officeDocument/2006/relationships/image" Target="../media/image67.jpeg"/><Relationship Id="rId6" Type="http://schemas.openxmlformats.org/officeDocument/2006/relationships/image" Target="../media/image68.jpeg"/><Relationship Id="rId7" Type="http://schemas.openxmlformats.org/officeDocument/2006/relationships/image" Target="../media/image54.jpeg"/><Relationship Id="rId8" Type="http://schemas.openxmlformats.org/officeDocument/2006/relationships/image" Target="../media/image69.jpeg"/><Relationship Id="rId9" Type="http://schemas.openxmlformats.org/officeDocument/2006/relationships/image" Target="../media/image70.jpeg"/><Relationship Id="rId10" Type="http://schemas.openxmlformats.org/officeDocument/2006/relationships/image" Target="../media/image71.jpeg"/><Relationship Id="rId11" Type="http://schemas.openxmlformats.org/officeDocument/2006/relationships/image" Target="../media/image72.jpeg"/><Relationship Id="rId12" Type="http://schemas.openxmlformats.org/officeDocument/2006/relationships/slideLayout" Target="../slideLayouts/slideLayout1.xml"/><Relationship Id="rId1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73.gif"/><Relationship Id="rId2" Type="http://schemas.openxmlformats.org/officeDocument/2006/relationships/image" Target="../media/image74.gif"/><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3.gi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hyperlink" Target="http://images.google.com.au/imgres?imgurl=http://www.uoguelph.ca/debu/STEVEweb/images/webspinner.jpg&amp;imgrefurl=http://www.uoguelph.ca/debu/STEVEweb/html/Embioptera.html&amp;usg=__Ek8Cg4fJH4CjUtZya5-H1Hld0gM=&amp;h=295&amp;w=400&amp;sz=49&amp;hl=en&amp;start=3&amp;um=1&amp;tbnid=dJA5gV0wEN0B_M:&amp;tbnh=91&amp;tbnw=124&amp;prev=/images%3Fq%3DEmbioptera%26hl%3Den%26lr%3D%26rlz%3D1G1GGLQ_ENAU338%26sa%3DN%26um%3D1" TargetMode="External"/><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hyperlink" Target="http://images.google.com.au/imgres?imgurl=http://www.imdap.entomol.ntu.edu.tw/data/common/common_web/Embiidina_all.jpg&amp;imgrefurl=http://www.imdap.entomol.ntu.edu.tw/CommonInsectImage.php%3FCIindex%3Dimage%26L%3DC%26CI_ID%3D14636&amp;usg=__v1loCRgeAiakj_2MpTt8Xvgvrao=&amp;h=2048&amp;w=2560&amp;sz=526&amp;hl=en&amp;start=26&amp;tbnid=QWQFil54fKRnMM:&amp;tbnh=120&amp;tbnw=150&amp;prev=/images%3Fq%3DEMBIIDINA%26gbv%3D2%26ndsp%3D20%26hl%3Den%26sa%3DN%26start%3D20" TargetMode="External"/><Relationship Id="rId6" Type="http://schemas.openxmlformats.org/officeDocument/2006/relationships/image" Target="../media/image17.jpeg"/><Relationship Id="rId7"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hyperlink" Target="http://images.google.com.au/imgres?imgurl=http://tolweb.org/tree/ToLimages/DSCN8828.250.jpg&amp;imgrefurl=http://tolweb.org/Zoraptera&amp;usg=__ecRJUYrM9FgNV6e41gyws3_7GBg=&amp;h=250&amp;w=441&amp;sz=25&amp;hl=en&amp;start=3&amp;um=1&amp;tbnid=QQkG52icyI3m_M:&amp;tbnh=72&amp;tbnw=127&amp;prev=/images%3Fq%3DZORAPTERA.%26hl%3Den%26lr%3D%26rlz%3D1G1GGLQ_ENAU338%26sa%3DG%26um%3D1" TargetMode="External"/><Relationship Id="rId4" Type="http://schemas.openxmlformats.org/officeDocument/2006/relationships/image" Target="../media/image20.jpeg"/><Relationship Id="rId5" Type="http://schemas.openxmlformats.org/officeDocument/2006/relationships/hyperlink" Target="http://images.google.com.au/imgres?imgurl=http://www.tolweb.org/tree/ToLimages/Gryllo5.jpg&amp;imgrefurl=http://www.tolweb.org/Grylloblattidae&amp;usg=__KID82tzvnXIG1XZm4dIAiUVpwrI=&amp;h=350&amp;w=326&amp;sz=59&amp;hl=en&amp;start=3&amp;tbnid=O2uozeWUv2_IXM:&amp;tbnh=120&amp;tbnw=112&amp;prev=/images%3Fq%3DGalloisiana%26gbv%3D2%26hl%3Den%26sa%3DG" TargetMode="External"/><Relationship Id="rId6" Type="http://schemas.openxmlformats.org/officeDocument/2006/relationships/image" Target="../media/image2.jpeg"/><Relationship Id="rId7"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hyperlink" Target="http://images.google.com.au/imgres?imgurl=http://upload.wikimedia.org/wikipedia/commons/thumb/6/6c/Galloisiana_nipponensis.jpg/250px-Galloisiana_nipponensis.jpg&amp;imgrefurl=http://www.viswiki.com/ja/%25E3%2582%25AC%25E3%2583%25AD%25E3%2582%25A2%25E3%2583%25A0%25E3%2582%25B7&amp;usg=__Vxd3Q2WGwrIQIzMq65kShPzuNrA=&amp;h=250&amp;w=250&amp;sz=12&amp;hl=en&amp;start=23&amp;tbnid=nxaTipiJgicXMM:&amp;tbnh=111&amp;tbnw=111&amp;prev=/images%3Fq%3DNotoptera%26gbv%3D2%26ndsp%3D20%26hl%3Den%26sa%3DN%26start%3D20" TargetMode="External"/><Relationship Id="rId4" Type="http://schemas.openxmlformats.org/officeDocument/2006/relationships/image" Target="../media/image23.jpeg"/><Relationship Id="rId5" Type="http://schemas.openxmlformats.org/officeDocument/2006/relationships/image" Target="../media/image24.jpeg"/><Relationship Id="rId6"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8" name="" descr="">
            <a:hlinkClick r:id="rId2"/>
          </p:cNvPr>
          <p:cNvPicPr/>
          <p:nvPr/>
        </p:nvPicPr>
        <p:blipFill>
          <a:blip r:embed="rId3"/>
          <a:stretch/>
        </p:blipFill>
        <p:spPr>
          <a:xfrm>
            <a:off x="6802560" y="4435560"/>
            <a:ext cx="2116080" cy="2270160"/>
          </a:xfrm>
          <a:prstGeom prst="rect">
            <a:avLst/>
          </a:prstGeom>
          <a:ln w="76320">
            <a:solidFill>
              <a:srgbClr val="00ffff"/>
            </a:solidFill>
            <a:prstDash val="dash"/>
            <a:miter/>
          </a:ln>
        </p:spPr>
      </p:pic>
      <p:pic>
        <p:nvPicPr>
          <p:cNvPr id="49" name="" descr="">
            <a:hlinkClick r:id="rId4"/>
          </p:cNvPr>
          <p:cNvPicPr/>
          <p:nvPr/>
        </p:nvPicPr>
        <p:blipFill>
          <a:blip r:embed="rId5"/>
          <a:stretch/>
        </p:blipFill>
        <p:spPr>
          <a:xfrm>
            <a:off x="304920" y="228600"/>
            <a:ext cx="2666880" cy="1494000"/>
          </a:xfrm>
          <a:prstGeom prst="rect">
            <a:avLst/>
          </a:prstGeom>
          <a:ln w="76320">
            <a:solidFill>
              <a:srgbClr val="00ffff"/>
            </a:solidFill>
            <a:prstDash val="dash"/>
            <a:miter/>
          </a:ln>
        </p:spPr>
      </p:pic>
      <p:pic>
        <p:nvPicPr>
          <p:cNvPr id="50" name="" descr=""/>
          <p:cNvPicPr/>
          <p:nvPr/>
        </p:nvPicPr>
        <p:blipFill>
          <a:blip r:embed="rId6"/>
          <a:stretch/>
        </p:blipFill>
        <p:spPr>
          <a:xfrm>
            <a:off x="549360" y="1782720"/>
            <a:ext cx="8138880" cy="1646280"/>
          </a:xfrm>
          <a:prstGeom prst="rect">
            <a:avLst/>
          </a:prstGeom>
          <a:ln w="0">
            <a:noFill/>
          </a:ln>
        </p:spPr>
      </p:pic>
      <p:pic>
        <p:nvPicPr>
          <p:cNvPr id="51" name="" descr=""/>
          <p:cNvPicPr/>
          <p:nvPr/>
        </p:nvPicPr>
        <p:blipFill>
          <a:blip r:embed="rId7"/>
          <a:stretch/>
        </p:blipFill>
        <p:spPr>
          <a:xfrm>
            <a:off x="1554120" y="3063960"/>
            <a:ext cx="5121360" cy="1612800"/>
          </a:xfrm>
          <a:prstGeom prst="rect">
            <a:avLst/>
          </a:prstGeom>
          <a:ln w="0">
            <a:noFill/>
          </a:ln>
        </p:spPr>
      </p:pic>
      <p:sp>
        <p:nvSpPr>
          <p:cNvPr id="52" name=""/>
          <p:cNvSpPr/>
          <p:nvPr/>
        </p:nvSpPr>
        <p:spPr>
          <a:xfrm>
            <a:off x="182520" y="2422440"/>
            <a:ext cx="274680" cy="27324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 name=""/>
          <p:cNvSpPr/>
          <p:nvPr/>
        </p:nvSpPr>
        <p:spPr>
          <a:xfrm>
            <a:off x="182520" y="3611520"/>
            <a:ext cx="274680" cy="274680"/>
          </a:xfrm>
          <a:custGeom>
            <a:avLst/>
            <a:gdLst>
              <a:gd name="textAreaLeft" fmla="*/ 64440 w 274680"/>
              <a:gd name="textAreaRight" fmla="*/ 209880 w 274680"/>
              <a:gd name="textAreaTop" fmla="*/ 32040 h 274680"/>
              <a:gd name="textAreaBottom" fmla="*/ 172440 h 274680"/>
            </a:gdLst>
            <a:ahLst/>
            <a:rect l="textAreaLeft" t="textAreaTop" r="textAreaRight" b="textAreaBottom"/>
            <a:pathLst>
              <a:path w="21615" h="21602">
                <a:moveTo>
                  <a:pt x="10800" y="21599"/>
                </a:moveTo>
                <a:lnTo>
                  <a:pt x="321" y="6886"/>
                </a:lnTo>
                <a:lnTo>
                  <a:pt x="70" y="6036"/>
                </a:lnTo>
                <a:cubicBezTo>
                  <a:pt x="-9" y="5766"/>
                  <a:pt x="-1" y="5474"/>
                  <a:pt x="2" y="5192"/>
                </a:cubicBezTo>
                <a:cubicBezTo>
                  <a:pt x="6" y="4918"/>
                  <a:pt x="43" y="4641"/>
                  <a:pt x="101" y="4370"/>
                </a:cubicBezTo>
                <a:cubicBezTo>
                  <a:pt x="159" y="4103"/>
                  <a:pt x="245" y="3837"/>
                  <a:pt x="353" y="3582"/>
                </a:cubicBezTo>
                <a:cubicBezTo>
                  <a:pt x="460" y="3326"/>
                  <a:pt x="591" y="3077"/>
                  <a:pt x="741" y="2839"/>
                </a:cubicBezTo>
                <a:cubicBezTo>
                  <a:pt x="892" y="2598"/>
                  <a:pt x="1066" y="2369"/>
                  <a:pt x="1253" y="2155"/>
                </a:cubicBezTo>
                <a:cubicBezTo>
                  <a:pt x="1443" y="1938"/>
                  <a:pt x="1651" y="1732"/>
                  <a:pt x="1874" y="1543"/>
                </a:cubicBezTo>
                <a:cubicBezTo>
                  <a:pt x="2097" y="1351"/>
                  <a:pt x="2337" y="1174"/>
                  <a:pt x="2587" y="1014"/>
                </a:cubicBezTo>
                <a:cubicBezTo>
                  <a:pt x="2839" y="854"/>
                  <a:pt x="3106" y="708"/>
                  <a:pt x="3380" y="584"/>
                </a:cubicBezTo>
                <a:cubicBezTo>
                  <a:pt x="3656" y="459"/>
                  <a:pt x="3945" y="350"/>
                  <a:pt x="4237" y="264"/>
                </a:cubicBezTo>
                <a:cubicBezTo>
                  <a:pt x="4533" y="176"/>
                  <a:pt x="4838" y="108"/>
                  <a:pt x="5144" y="66"/>
                </a:cubicBezTo>
                <a:cubicBezTo>
                  <a:pt x="5454" y="22"/>
                  <a:pt x="5771" y="1"/>
                  <a:pt x="6086" y="3"/>
                </a:cubicBezTo>
                <a:cubicBezTo>
                  <a:pt x="6407" y="7"/>
                  <a:pt x="6731" y="35"/>
                  <a:pt x="7048" y="89"/>
                </a:cubicBezTo>
                <a:cubicBezTo>
                  <a:pt x="7374" y="144"/>
                  <a:pt x="7700" y="226"/>
                  <a:pt x="8015" y="335"/>
                </a:cubicBezTo>
                <a:cubicBezTo>
                  <a:pt x="8344" y="447"/>
                  <a:pt x="8667" y="590"/>
                  <a:pt x="8972" y="756"/>
                </a:cubicBezTo>
                <a:cubicBezTo>
                  <a:pt x="9297" y="932"/>
                  <a:pt x="9613" y="1135"/>
                  <a:pt x="9907" y="1363"/>
                </a:cubicBezTo>
                <a:cubicBezTo>
                  <a:pt x="10224" y="1609"/>
                  <a:pt x="10504" y="1900"/>
                  <a:pt x="10802" y="2169"/>
                </a:cubicBezTo>
                <a:lnTo>
                  <a:pt x="11697" y="1363"/>
                </a:lnTo>
                <a:cubicBezTo>
                  <a:pt x="11971" y="1116"/>
                  <a:pt x="12304" y="934"/>
                  <a:pt x="12630" y="756"/>
                </a:cubicBezTo>
                <a:cubicBezTo>
                  <a:pt x="12935" y="590"/>
                  <a:pt x="13528" y="450"/>
                  <a:pt x="13589" y="335"/>
                </a:cubicBezTo>
                <a:cubicBezTo>
                  <a:pt x="13901" y="226"/>
                  <a:pt x="14227" y="144"/>
                  <a:pt x="14556" y="89"/>
                </a:cubicBezTo>
                <a:cubicBezTo>
                  <a:pt x="14872" y="35"/>
                  <a:pt x="15195" y="7"/>
                  <a:pt x="15517" y="3"/>
                </a:cubicBezTo>
                <a:cubicBezTo>
                  <a:pt x="15830" y="0"/>
                  <a:pt x="16147" y="22"/>
                  <a:pt x="16458" y="66"/>
                </a:cubicBezTo>
                <a:cubicBezTo>
                  <a:pt x="16764" y="109"/>
                  <a:pt x="17068" y="177"/>
                  <a:pt x="17365" y="264"/>
                </a:cubicBezTo>
                <a:cubicBezTo>
                  <a:pt x="17658" y="349"/>
                  <a:pt x="17946" y="458"/>
                  <a:pt x="18222" y="584"/>
                </a:cubicBezTo>
                <a:cubicBezTo>
                  <a:pt x="18496" y="708"/>
                  <a:pt x="18762" y="854"/>
                  <a:pt x="19015" y="1014"/>
                </a:cubicBezTo>
                <a:cubicBezTo>
                  <a:pt x="19264" y="1172"/>
                  <a:pt x="19504" y="1349"/>
                  <a:pt x="19730" y="1543"/>
                </a:cubicBezTo>
                <a:cubicBezTo>
                  <a:pt x="19950" y="1731"/>
                  <a:pt x="20158" y="1937"/>
                  <a:pt x="20350" y="2155"/>
                </a:cubicBezTo>
                <a:cubicBezTo>
                  <a:pt x="20536" y="2369"/>
                  <a:pt x="20710" y="2598"/>
                  <a:pt x="20861" y="2839"/>
                </a:cubicBezTo>
                <a:cubicBezTo>
                  <a:pt x="21010" y="3074"/>
                  <a:pt x="21143" y="3323"/>
                  <a:pt x="21251" y="3582"/>
                </a:cubicBezTo>
                <a:cubicBezTo>
                  <a:pt x="21357" y="3835"/>
                  <a:pt x="21443" y="4099"/>
                  <a:pt x="21502" y="4370"/>
                </a:cubicBezTo>
                <a:cubicBezTo>
                  <a:pt x="21561" y="4639"/>
                  <a:pt x="21595" y="4916"/>
                  <a:pt x="21600" y="5192"/>
                </a:cubicBezTo>
                <a:cubicBezTo>
                  <a:pt x="21606" y="5474"/>
                  <a:pt x="21584" y="5760"/>
                  <a:pt x="21532" y="6036"/>
                </a:cubicBezTo>
                <a:cubicBezTo>
                  <a:pt x="21478" y="6326"/>
                  <a:pt x="21366" y="6603"/>
                  <a:pt x="21282" y="6887"/>
                </a:cubicBezTo>
                <a:lnTo>
                  <a:pt x="10802" y="21602"/>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med" advTm="3000">
    <p:newsflash/>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32">
                                  <p:stCondLst>
                                    <p:cond delay="0"/>
                                  </p:stCondLst>
                                  <p:childTnLst>
                                    <p:set>
                                      <p:cBhvr>
                                        <p:cTn id="6" dur="1" fill="hold">
                                          <p:stCondLst>
                                            <p:cond delay="0"/>
                                          </p:stCondLst>
                                        </p:cTn>
                                        <p:tgtEl>
                                          <p:spTgt spid="49"/>
                                        </p:tgtEl>
                                        <p:attrNameLst>
                                          <p:attrName>style.visibility</p:attrName>
                                        </p:attrNameLst>
                                      </p:cBhvr>
                                      <p:to>
                                        <p:strVal val="visible"/>
                                      </p:to>
                                    </p:set>
                                    <p:animEffect filter="box(out)" transition="in">
                                      <p:cBhvr additive="repl">
                                        <p:cTn id="7" dur="500"/>
                                        <p:tgtEl>
                                          <p:spTgt spid="49"/>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32">
                                  <p:stCondLst>
                                    <p:cond delay="0"/>
                                  </p:stCondLst>
                                  <p:childTnLst>
                                    <p:set>
                                      <p:cBhvr>
                                        <p:cTn id="11" dur="1" fill="hold">
                                          <p:stCondLst>
                                            <p:cond delay="0"/>
                                          </p:stCondLst>
                                        </p:cTn>
                                        <p:tgtEl>
                                          <p:spTgt spid="48"/>
                                        </p:tgtEl>
                                        <p:attrNameLst>
                                          <p:attrName>style.visibility</p:attrName>
                                        </p:attrNameLst>
                                      </p:cBhvr>
                                      <p:to>
                                        <p:strVal val="visible"/>
                                      </p:to>
                                    </p:set>
                                    <p:animEffect filter="box(out)" transition="in">
                                      <p:cBhvr additive="repl">
                                        <p:cTn id="12" dur="500"/>
                                        <p:tgtEl>
                                          <p:spTgt spid="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12" name="" descr="">
            <a:hlinkClick r:id="rId2"/>
          </p:cNvPr>
          <p:cNvPicPr/>
          <p:nvPr/>
        </p:nvPicPr>
        <p:blipFill>
          <a:blip r:embed="rId3"/>
          <a:stretch/>
        </p:blipFill>
        <p:spPr>
          <a:xfrm>
            <a:off x="3124080" y="0"/>
            <a:ext cx="2895840" cy="3276720"/>
          </a:xfrm>
          <a:prstGeom prst="rect">
            <a:avLst/>
          </a:prstGeom>
          <a:ln w="57240">
            <a:solidFill>
              <a:srgbClr val="00ccff"/>
            </a:solidFill>
            <a:miter/>
          </a:ln>
        </p:spPr>
      </p:pic>
      <p:pic>
        <p:nvPicPr>
          <p:cNvPr id="213" name="" descr=""/>
          <p:cNvPicPr/>
          <p:nvPr/>
        </p:nvPicPr>
        <p:blipFill>
          <a:blip r:embed="rId4"/>
          <a:stretch/>
        </p:blipFill>
        <p:spPr>
          <a:xfrm>
            <a:off x="2286000" y="3521160"/>
            <a:ext cx="4754520" cy="946080"/>
          </a:xfrm>
          <a:prstGeom prst="rect">
            <a:avLst/>
          </a:prstGeom>
          <a:ln w="0">
            <a:noFill/>
          </a:ln>
        </p:spPr>
      </p:pic>
      <p:pic>
        <p:nvPicPr>
          <p:cNvPr id="214" name="" descr=""/>
          <p:cNvPicPr/>
          <p:nvPr/>
        </p:nvPicPr>
        <p:blipFill>
          <a:blip r:embed="rId5"/>
          <a:stretch/>
        </p:blipFill>
        <p:spPr>
          <a:xfrm>
            <a:off x="549360" y="4343400"/>
            <a:ext cx="7680240" cy="914400"/>
          </a:xfrm>
          <a:prstGeom prst="rect">
            <a:avLst/>
          </a:prstGeom>
          <a:ln w="0">
            <a:noFill/>
          </a:ln>
        </p:spPr>
      </p:pic>
      <p:pic>
        <p:nvPicPr>
          <p:cNvPr id="215" name="" descr=""/>
          <p:cNvPicPr/>
          <p:nvPr/>
        </p:nvPicPr>
        <p:blipFill>
          <a:blip r:embed="rId6"/>
          <a:stretch/>
        </p:blipFill>
        <p:spPr>
          <a:xfrm>
            <a:off x="182520" y="5257800"/>
            <a:ext cx="8317080" cy="905040"/>
          </a:xfrm>
          <a:prstGeom prst="rect">
            <a:avLst/>
          </a:prstGeom>
          <a:ln w="0">
            <a:noFill/>
          </a:ln>
        </p:spPr>
      </p:pic>
      <p:sp>
        <p:nvSpPr>
          <p:cNvPr id="216" name=""/>
          <p:cNvSpPr/>
          <p:nvPr/>
        </p:nvSpPr>
        <p:spPr>
          <a:xfrm>
            <a:off x="0" y="3336840"/>
            <a:ext cx="274680" cy="27324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med">
    <p:push dir="u"/>
  </p:transition>
  <p:timing>
    <p:tnLst>
      <p:par>
        <p:cTn id="222" dur="indefinite" restart="never" nodeType="tmRoot">
          <p:childTnLst>
            <p:seq>
              <p:cTn id="223" dur="indefinite" nodeType="mainSeq">
                <p:childTnLst>
                  <p:par>
                    <p:cTn id="224" fill="hold">
                      <p:stCondLst>
                        <p:cond delay="indefinite"/>
                      </p:stCondLst>
                      <p:childTnLst>
                        <p:par>
                          <p:cTn id="225" fill="hold">
                            <p:stCondLst>
                              <p:cond delay="0"/>
                            </p:stCondLst>
                            <p:childTnLst>
                              <p:par>
                                <p:cTn id="226" nodeType="clickEffect" fill="hold" presetClass="entr" presetID="7" presetSubtype="4">
                                  <p:stCondLst>
                                    <p:cond delay="0"/>
                                  </p:stCondLst>
                                  <p:childTnLst>
                                    <p:set>
                                      <p:cBhvr>
                                        <p:cTn id="227" dur="1" fill="hold">
                                          <p:stCondLst>
                                            <p:cond delay="0"/>
                                          </p:stCondLst>
                                        </p:cTn>
                                        <p:tgtEl>
                                          <p:spTgt spid="212"/>
                                        </p:tgtEl>
                                        <p:attrNameLst>
                                          <p:attrName>style.visibility</p:attrName>
                                        </p:attrNameLst>
                                      </p:cBhvr>
                                      <p:to>
                                        <p:strVal val="visible"/>
                                      </p:to>
                                    </p:set>
                                    <p:anim calcmode="lin" valueType="num">
                                      <p:cBhvr additive="base">
                                        <p:cTn id="228" dur="2000" fill="hold"/>
                                        <p:tgtEl>
                                          <p:spTgt spid="212"/>
                                        </p:tgtEl>
                                        <p:attrNameLst>
                                          <p:attrName>ppt_x</p:attrName>
                                        </p:attrNameLst>
                                      </p:cBhvr>
                                      <p:tavLst>
                                        <p:tav tm="0">
                                          <p:val>
                                            <p:strVal val="#ppt_x"/>
                                          </p:val>
                                        </p:tav>
                                        <p:tav tm="100000">
                                          <p:val>
                                            <p:strVal val="#ppt_x"/>
                                          </p:val>
                                        </p:tav>
                                      </p:tavLst>
                                    </p:anim>
                                    <p:anim calcmode="lin" valueType="num">
                                      <p:cBhvr additive="base">
                                        <p:cTn id="229" dur="2000" fill="hold"/>
                                        <p:tgtEl>
                                          <p:spTgt spid="21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50000">
              <a:srgbClr val="03d4a8"/>
            </a:gs>
            <a:gs pos="100000">
              <a:srgbClr val="005cbf"/>
            </a:gs>
          </a:gsLst>
          <a:lin ang="5400000"/>
        </a:gradFill>
      </p:bgPr>
    </p:bg>
    <p:spTree>
      <p:nvGrpSpPr>
        <p:cNvPr id="1" name=""/>
        <p:cNvGrpSpPr/>
        <p:nvPr/>
      </p:nvGrpSpPr>
      <p:grpSpPr>
        <a:xfrm>
          <a:off x="0" y="0"/>
          <a:ext cx="0" cy="0"/>
          <a:chOff x="0" y="0"/>
          <a:chExt cx="0" cy="0"/>
        </a:xfrm>
      </p:grpSpPr>
      <p:pic>
        <p:nvPicPr>
          <p:cNvPr id="217" name="images" descr="">
            <a:hlinkClick r:id="rId1"/>
          </p:cNvPr>
          <p:cNvPicPr/>
          <p:nvPr/>
        </p:nvPicPr>
        <p:blipFill>
          <a:blip r:embed="rId2"/>
          <a:stretch/>
        </p:blipFill>
        <p:spPr>
          <a:xfrm>
            <a:off x="365040" y="1417680"/>
            <a:ext cx="3657600" cy="2367000"/>
          </a:xfrm>
          <a:prstGeom prst="rect">
            <a:avLst/>
          </a:prstGeom>
          <a:ln w="57240">
            <a:solidFill>
              <a:srgbClr val="993300"/>
            </a:solidFill>
            <a:miter/>
          </a:ln>
        </p:spPr>
      </p:pic>
      <p:sp>
        <p:nvSpPr>
          <p:cNvPr id="218" name=""/>
          <p:cNvSpPr txBox="1"/>
          <p:nvPr/>
        </p:nvSpPr>
        <p:spPr>
          <a:xfrm>
            <a:off x="1828800" y="4343400"/>
            <a:ext cx="548640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ffff00"/>
                </a:solidFill>
                <a:latin typeface="Arial Rounded MT Bold"/>
              </a:rPr>
              <a:t>Megaloptera</a:t>
            </a:r>
            <a:endParaRPr b="0" lang="en-US" sz="1800" spc="1" strike="noStrike">
              <a:ln w="3240">
                <a:solidFill>
                  <a:srgbClr val="000000"/>
                </a:solidFill>
                <a:miter/>
              </a:ln>
              <a:solidFill>
                <a:srgbClr val="ffff00"/>
              </a:solidFill>
              <a:latin typeface="Arial Rounded MT Bold"/>
              <a:ea typeface="Arial Rounded MT Bold"/>
            </a:endParaRPr>
          </a:p>
        </p:txBody>
      </p:sp>
      <p:pic>
        <p:nvPicPr>
          <p:cNvPr id="219" name="" descr="">
            <a:hlinkClick r:id="rId3"/>
          </p:cNvPr>
          <p:cNvPicPr/>
          <p:nvPr/>
        </p:nvPicPr>
        <p:blipFill>
          <a:blip r:embed="rId4"/>
          <a:stretch/>
        </p:blipFill>
        <p:spPr>
          <a:xfrm>
            <a:off x="4648320" y="1459080"/>
            <a:ext cx="3809880" cy="2350800"/>
          </a:xfrm>
          <a:prstGeom prst="rect">
            <a:avLst/>
          </a:prstGeom>
          <a:ln w="57240">
            <a:solidFill>
              <a:srgbClr val="cc6600"/>
            </a:solidFill>
            <a:miter/>
          </a:ln>
        </p:spPr>
      </p:pic>
      <p:sp>
        <p:nvSpPr>
          <p:cNvPr id="220" name=""/>
          <p:cNvSpPr/>
          <p:nvPr/>
        </p:nvSpPr>
        <p:spPr>
          <a:xfrm flipH="1" flipV="1">
            <a:off x="2819160" y="3352680"/>
            <a:ext cx="1066680" cy="10670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
          <p:cNvSpPr/>
          <p:nvPr/>
        </p:nvSpPr>
        <p:spPr>
          <a:xfrm flipV="1">
            <a:off x="4419720" y="3123720"/>
            <a:ext cx="1447560" cy="12956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a:off x="1371600" y="5334120"/>
            <a:ext cx="6248520" cy="0"/>
          </a:xfrm>
          <a:prstGeom prst="line">
            <a:avLst/>
          </a:prstGeom>
          <a:ln cap="rnd" w="57240">
            <a:solidFill>
              <a:srgbClr val="80008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a:off x="0" y="3336840"/>
            <a:ext cx="274680" cy="27324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cover dir="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
          <p:cNvSpPr txBox="1"/>
          <p:nvPr/>
        </p:nvSpPr>
        <p:spPr>
          <a:xfrm>
            <a:off x="1752480" y="1447920"/>
            <a:ext cx="5419800" cy="761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57240">
                  <a:solidFill>
                    <a:srgbClr val="00ccff"/>
                  </a:solidFill>
                  <a:miter/>
                </a:ln>
                <a:solidFill>
                  <a:srgbClr val="66ffff"/>
                </a:solidFill>
                <a:latin typeface="Arial Rounded MT Bold"/>
              </a:rPr>
              <a:t>And more to </a:t>
            </a:r>
            <a:endParaRPr b="0" lang="en-US" sz="1800" spc="1" strike="noStrike">
              <a:ln w="57240">
                <a:solidFill>
                  <a:srgbClr val="00ccff"/>
                </a:solidFill>
                <a:miter/>
              </a:ln>
              <a:solidFill>
                <a:srgbClr val="66ffff"/>
              </a:solidFill>
              <a:latin typeface="Arial Rounded MT Bold"/>
              <a:ea typeface="Arial Rounded MT Bold"/>
            </a:endParaRPr>
          </a:p>
        </p:txBody>
      </p:sp>
      <p:sp>
        <p:nvSpPr>
          <p:cNvPr id="225" name=""/>
          <p:cNvSpPr txBox="1"/>
          <p:nvPr/>
        </p:nvSpPr>
        <p:spPr>
          <a:xfrm>
            <a:off x="1523880" y="2286000"/>
            <a:ext cx="5791320" cy="1020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57240">
                  <a:solidFill>
                    <a:srgbClr val="00ccff"/>
                  </a:solidFill>
                  <a:miter/>
                </a:ln>
                <a:solidFill>
                  <a:srgbClr val="66ffff"/>
                </a:solidFill>
                <a:latin typeface="Arial Rounded MT Bold"/>
              </a:rPr>
              <a:t>explore &amp; discover</a:t>
            </a:r>
            <a:endParaRPr b="0" lang="en-US" sz="1800" spc="1" strike="noStrike">
              <a:ln w="57240">
                <a:solidFill>
                  <a:srgbClr val="00ccff"/>
                </a:solidFill>
                <a:miter/>
              </a:ln>
              <a:solidFill>
                <a:srgbClr val="66ffff"/>
              </a:solidFill>
              <a:latin typeface="Arial Rounded MT Bold"/>
              <a:ea typeface="Arial Rounded MT Bold"/>
            </a:endParaRPr>
          </a:p>
        </p:txBody>
      </p:sp>
      <p:pic>
        <p:nvPicPr>
          <p:cNvPr id="226" name="" descr="">
            <a:hlinkClick r:id="rId1"/>
          </p:cNvPr>
          <p:cNvPicPr/>
          <p:nvPr/>
        </p:nvPicPr>
        <p:blipFill>
          <a:blip r:embed="rId2"/>
          <a:stretch/>
        </p:blipFill>
        <p:spPr>
          <a:xfrm>
            <a:off x="2743200" y="4648320"/>
            <a:ext cx="3200400" cy="2047680"/>
          </a:xfrm>
          <a:prstGeom prst="rect">
            <a:avLst/>
          </a:prstGeom>
          <a:ln w="0">
            <a:noFill/>
          </a:ln>
        </p:spPr>
      </p:pic>
      <p:pic>
        <p:nvPicPr>
          <p:cNvPr id="227" name="" descr="">
            <a:hlinkClick r:id="rId3"/>
          </p:cNvPr>
          <p:cNvPicPr/>
          <p:nvPr/>
        </p:nvPicPr>
        <p:blipFill>
          <a:blip r:embed="rId4"/>
          <a:stretch/>
        </p:blipFill>
        <p:spPr>
          <a:xfrm rot="20188800">
            <a:off x="533160" y="304920"/>
            <a:ext cx="1158840" cy="1218960"/>
          </a:xfrm>
          <a:prstGeom prst="rect">
            <a:avLst/>
          </a:prstGeom>
          <a:ln w="0">
            <a:noFill/>
          </a:ln>
        </p:spPr>
      </p:pic>
      <p:pic>
        <p:nvPicPr>
          <p:cNvPr id="228" name="" descr="">
            <a:hlinkClick r:id="rId5"/>
          </p:cNvPr>
          <p:cNvPicPr/>
          <p:nvPr/>
        </p:nvPicPr>
        <p:blipFill>
          <a:blip r:embed="rId6"/>
          <a:stretch/>
        </p:blipFill>
        <p:spPr>
          <a:xfrm>
            <a:off x="7543800" y="3048120"/>
            <a:ext cx="1600200" cy="1371600"/>
          </a:xfrm>
          <a:prstGeom prst="rect">
            <a:avLst/>
          </a:prstGeom>
          <a:ln w="0">
            <a:noFill/>
          </a:ln>
        </p:spPr>
      </p:pic>
      <p:pic>
        <p:nvPicPr>
          <p:cNvPr id="229" name="" descr="">
            <a:hlinkClick r:id="rId7"/>
          </p:cNvPr>
          <p:cNvPicPr/>
          <p:nvPr/>
        </p:nvPicPr>
        <p:blipFill>
          <a:blip r:embed="rId8"/>
          <a:stretch/>
        </p:blipFill>
        <p:spPr>
          <a:xfrm>
            <a:off x="7010280" y="5486400"/>
            <a:ext cx="1447920" cy="1125360"/>
          </a:xfrm>
          <a:prstGeom prst="rect">
            <a:avLst/>
          </a:prstGeom>
          <a:ln w="0">
            <a:noFill/>
          </a:ln>
        </p:spPr>
      </p:pic>
      <p:pic>
        <p:nvPicPr>
          <p:cNvPr id="230" name="" descr="">
            <a:hlinkClick r:id="rId9"/>
          </p:cNvPr>
          <p:cNvPicPr/>
          <p:nvPr/>
        </p:nvPicPr>
        <p:blipFill>
          <a:blip r:embed="rId10"/>
          <a:stretch/>
        </p:blipFill>
        <p:spPr>
          <a:xfrm rot="19184400">
            <a:off x="685800" y="3352320"/>
            <a:ext cx="1266840" cy="1295640"/>
          </a:xfrm>
          <a:prstGeom prst="rect">
            <a:avLst/>
          </a:prstGeom>
          <a:ln w="0">
            <a:noFill/>
          </a:ln>
        </p:spPr>
      </p:pic>
      <p:pic>
        <p:nvPicPr>
          <p:cNvPr id="231" name="" descr="question_mark.jpg question image by spamisyuckie"/>
          <p:cNvPicPr/>
          <p:nvPr/>
        </p:nvPicPr>
        <p:blipFill>
          <a:blip r:embed="rId11"/>
          <a:stretch/>
        </p:blipFill>
        <p:spPr>
          <a:xfrm rot="1054200">
            <a:off x="7086240" y="380880"/>
            <a:ext cx="1600200" cy="1090800"/>
          </a:xfrm>
          <a:prstGeom prst="rect">
            <a:avLst/>
          </a:prstGeom>
          <a:ln w="0">
            <a:noFill/>
          </a:ln>
        </p:spPr>
      </p:pic>
      <p:sp>
        <p:nvSpPr>
          <p:cNvPr id="232" name=""/>
          <p:cNvSpPr txBox="1"/>
          <p:nvPr/>
        </p:nvSpPr>
        <p:spPr>
          <a:xfrm>
            <a:off x="3276720" y="3276720"/>
            <a:ext cx="266688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57240">
                  <a:solidFill>
                    <a:srgbClr val="00ccff"/>
                  </a:solidFill>
                  <a:miter/>
                </a:ln>
                <a:solidFill>
                  <a:srgbClr val="66ffff"/>
                </a:solidFill>
                <a:latin typeface="Arial Rounded MT Bold"/>
              </a:rPr>
              <a:t>....?</a:t>
            </a:r>
            <a:endParaRPr b="0" lang="en-US" sz="1800" spc="1" strike="noStrike">
              <a:ln w="57240">
                <a:solidFill>
                  <a:srgbClr val="00ccff"/>
                </a:solidFill>
                <a:miter/>
              </a:ln>
              <a:solidFill>
                <a:srgbClr val="66ffff"/>
              </a:solidFill>
              <a:latin typeface="Arial Rounded MT Bold"/>
              <a:ea typeface="Arial Rounded MT Bold"/>
            </a:endParaRPr>
          </a:p>
        </p:txBody>
      </p:sp>
      <p:sp>
        <p:nvSpPr>
          <p:cNvPr id="233" name=""/>
          <p:cNvSpPr/>
          <p:nvPr/>
        </p:nvSpPr>
        <p:spPr>
          <a:xfrm>
            <a:off x="0" y="2971800"/>
            <a:ext cx="274680" cy="274680"/>
          </a:xfrm>
          <a:custGeom>
            <a:avLst/>
            <a:gdLst>
              <a:gd name="textAreaLeft" fmla="*/ 64440 w 274680"/>
              <a:gd name="textAreaRight" fmla="*/ 209880 w 274680"/>
              <a:gd name="textAreaTop" fmla="*/ 32040 h 274680"/>
              <a:gd name="textAreaBottom" fmla="*/ 172440 h 274680"/>
            </a:gdLst>
            <a:ahLst/>
            <a:rect l="textAreaLeft" t="textAreaTop" r="textAreaRight" b="textAreaBottom"/>
            <a:pathLst>
              <a:path w="21615" h="21602">
                <a:moveTo>
                  <a:pt x="10800" y="21599"/>
                </a:moveTo>
                <a:lnTo>
                  <a:pt x="321" y="6886"/>
                </a:lnTo>
                <a:lnTo>
                  <a:pt x="70" y="6036"/>
                </a:lnTo>
                <a:cubicBezTo>
                  <a:pt x="-9" y="5766"/>
                  <a:pt x="-1" y="5474"/>
                  <a:pt x="2" y="5192"/>
                </a:cubicBezTo>
                <a:cubicBezTo>
                  <a:pt x="6" y="4918"/>
                  <a:pt x="43" y="4641"/>
                  <a:pt x="101" y="4370"/>
                </a:cubicBezTo>
                <a:cubicBezTo>
                  <a:pt x="159" y="4103"/>
                  <a:pt x="245" y="3837"/>
                  <a:pt x="353" y="3582"/>
                </a:cubicBezTo>
                <a:cubicBezTo>
                  <a:pt x="460" y="3326"/>
                  <a:pt x="591" y="3077"/>
                  <a:pt x="741" y="2839"/>
                </a:cubicBezTo>
                <a:cubicBezTo>
                  <a:pt x="892" y="2598"/>
                  <a:pt x="1066" y="2369"/>
                  <a:pt x="1253" y="2155"/>
                </a:cubicBezTo>
                <a:cubicBezTo>
                  <a:pt x="1443" y="1938"/>
                  <a:pt x="1651" y="1732"/>
                  <a:pt x="1874" y="1543"/>
                </a:cubicBezTo>
                <a:cubicBezTo>
                  <a:pt x="2097" y="1351"/>
                  <a:pt x="2337" y="1174"/>
                  <a:pt x="2587" y="1014"/>
                </a:cubicBezTo>
                <a:cubicBezTo>
                  <a:pt x="2839" y="854"/>
                  <a:pt x="3106" y="708"/>
                  <a:pt x="3380" y="584"/>
                </a:cubicBezTo>
                <a:cubicBezTo>
                  <a:pt x="3656" y="459"/>
                  <a:pt x="3945" y="350"/>
                  <a:pt x="4237" y="264"/>
                </a:cubicBezTo>
                <a:cubicBezTo>
                  <a:pt x="4533" y="176"/>
                  <a:pt x="4838" y="108"/>
                  <a:pt x="5144" y="66"/>
                </a:cubicBezTo>
                <a:cubicBezTo>
                  <a:pt x="5454" y="22"/>
                  <a:pt x="5771" y="1"/>
                  <a:pt x="6086" y="3"/>
                </a:cubicBezTo>
                <a:cubicBezTo>
                  <a:pt x="6407" y="7"/>
                  <a:pt x="6731" y="35"/>
                  <a:pt x="7048" y="89"/>
                </a:cubicBezTo>
                <a:cubicBezTo>
                  <a:pt x="7374" y="144"/>
                  <a:pt x="7700" y="226"/>
                  <a:pt x="8015" y="335"/>
                </a:cubicBezTo>
                <a:cubicBezTo>
                  <a:pt x="8344" y="447"/>
                  <a:pt x="8667" y="590"/>
                  <a:pt x="8972" y="756"/>
                </a:cubicBezTo>
                <a:cubicBezTo>
                  <a:pt x="9297" y="932"/>
                  <a:pt x="9613" y="1135"/>
                  <a:pt x="9907" y="1363"/>
                </a:cubicBezTo>
                <a:cubicBezTo>
                  <a:pt x="10224" y="1609"/>
                  <a:pt x="10504" y="1900"/>
                  <a:pt x="10802" y="2169"/>
                </a:cubicBezTo>
                <a:lnTo>
                  <a:pt x="11697" y="1363"/>
                </a:lnTo>
                <a:cubicBezTo>
                  <a:pt x="11971" y="1116"/>
                  <a:pt x="12304" y="934"/>
                  <a:pt x="12630" y="756"/>
                </a:cubicBezTo>
                <a:cubicBezTo>
                  <a:pt x="12935" y="590"/>
                  <a:pt x="13528" y="450"/>
                  <a:pt x="13589" y="335"/>
                </a:cubicBezTo>
                <a:cubicBezTo>
                  <a:pt x="13901" y="226"/>
                  <a:pt x="14227" y="144"/>
                  <a:pt x="14556" y="89"/>
                </a:cubicBezTo>
                <a:cubicBezTo>
                  <a:pt x="14872" y="35"/>
                  <a:pt x="15195" y="7"/>
                  <a:pt x="15517" y="3"/>
                </a:cubicBezTo>
                <a:cubicBezTo>
                  <a:pt x="15830" y="0"/>
                  <a:pt x="16147" y="22"/>
                  <a:pt x="16458" y="66"/>
                </a:cubicBezTo>
                <a:cubicBezTo>
                  <a:pt x="16764" y="109"/>
                  <a:pt x="17068" y="177"/>
                  <a:pt x="17365" y="264"/>
                </a:cubicBezTo>
                <a:cubicBezTo>
                  <a:pt x="17658" y="349"/>
                  <a:pt x="17946" y="458"/>
                  <a:pt x="18222" y="584"/>
                </a:cubicBezTo>
                <a:cubicBezTo>
                  <a:pt x="18496" y="708"/>
                  <a:pt x="18762" y="854"/>
                  <a:pt x="19015" y="1014"/>
                </a:cubicBezTo>
                <a:cubicBezTo>
                  <a:pt x="19264" y="1172"/>
                  <a:pt x="19504" y="1349"/>
                  <a:pt x="19730" y="1543"/>
                </a:cubicBezTo>
                <a:cubicBezTo>
                  <a:pt x="19950" y="1731"/>
                  <a:pt x="20158" y="1937"/>
                  <a:pt x="20350" y="2155"/>
                </a:cubicBezTo>
                <a:cubicBezTo>
                  <a:pt x="20536" y="2369"/>
                  <a:pt x="20710" y="2598"/>
                  <a:pt x="20861" y="2839"/>
                </a:cubicBezTo>
                <a:cubicBezTo>
                  <a:pt x="21010" y="3074"/>
                  <a:pt x="21143" y="3323"/>
                  <a:pt x="21251" y="3582"/>
                </a:cubicBezTo>
                <a:cubicBezTo>
                  <a:pt x="21357" y="3835"/>
                  <a:pt x="21443" y="4099"/>
                  <a:pt x="21502" y="4370"/>
                </a:cubicBezTo>
                <a:cubicBezTo>
                  <a:pt x="21561" y="4639"/>
                  <a:pt x="21595" y="4916"/>
                  <a:pt x="21600" y="5192"/>
                </a:cubicBezTo>
                <a:cubicBezTo>
                  <a:pt x="21606" y="5474"/>
                  <a:pt x="21584" y="5760"/>
                  <a:pt x="21532" y="6036"/>
                </a:cubicBezTo>
                <a:cubicBezTo>
                  <a:pt x="21478" y="6326"/>
                  <a:pt x="21366" y="6603"/>
                  <a:pt x="21282" y="6887"/>
                </a:cubicBezTo>
                <a:lnTo>
                  <a:pt x="10802" y="21602"/>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comb dir="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66ff"/>
            </a:gs>
            <a:gs pos="50000">
              <a:srgbClr val="6666ff"/>
            </a:gs>
            <a:gs pos="100000">
              <a:srgbClr val="cc66ff"/>
            </a:gs>
          </a:gsLst>
          <a:lin ang="8100000"/>
        </a:gradFill>
      </p:bgPr>
    </p:bg>
    <p:spTree>
      <p:nvGrpSpPr>
        <p:cNvPr id="1" name=""/>
        <p:cNvGrpSpPr/>
        <p:nvPr/>
      </p:nvGrpSpPr>
      <p:grpSpPr>
        <a:xfrm>
          <a:off x="0" y="0"/>
          <a:ext cx="0" cy="0"/>
          <a:chOff x="0" y="0"/>
          <a:chExt cx="0" cy="0"/>
        </a:xfrm>
      </p:grpSpPr>
      <p:pic>
        <p:nvPicPr>
          <p:cNvPr id="234" name="" descr=""/>
          <p:cNvPicPr/>
          <p:nvPr/>
        </p:nvPicPr>
        <p:blipFill>
          <a:blip r:embed="rId1"/>
          <a:stretch/>
        </p:blipFill>
        <p:spPr>
          <a:xfrm>
            <a:off x="457200" y="1417680"/>
            <a:ext cx="7407360" cy="1646280"/>
          </a:xfrm>
          <a:prstGeom prst="rect">
            <a:avLst/>
          </a:prstGeom>
          <a:ln w="0">
            <a:noFill/>
          </a:ln>
        </p:spPr>
      </p:pic>
      <p:pic>
        <p:nvPicPr>
          <p:cNvPr id="235" name="" descr=""/>
          <p:cNvPicPr/>
          <p:nvPr/>
        </p:nvPicPr>
        <p:blipFill>
          <a:blip r:embed="rId2"/>
          <a:stretch/>
        </p:blipFill>
        <p:spPr>
          <a:xfrm>
            <a:off x="274680" y="2789280"/>
            <a:ext cx="8412120" cy="2195640"/>
          </a:xfrm>
          <a:prstGeom prst="rect">
            <a:avLst/>
          </a:prstGeom>
          <a:ln w="0">
            <a:noFill/>
          </a:ln>
        </p:spPr>
      </p:pic>
      <p:sp>
        <p:nvSpPr>
          <p:cNvPr id="236" name=""/>
          <p:cNvSpPr/>
          <p:nvPr/>
        </p:nvSpPr>
        <p:spPr>
          <a:xfrm>
            <a:off x="0" y="3336840"/>
            <a:ext cx="274680" cy="27324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blinds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solidFill>
            <a:srgbClr val="000000"/>
          </a:solidFill>
          <a:ln w="9360">
            <a:solidFill>
              <a:srgbClr val="ffffff"/>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omic Sans MS"/>
              </a:rPr>
              <a:t>Harmful and Beneficial species:</a:t>
            </a:r>
            <a:endParaRPr b="0" lang="en-US" sz="4000" spc="-1" strike="noStrike">
              <a:solidFill>
                <a:srgbClr val="000000"/>
              </a:solidFill>
              <a:latin typeface="Arial"/>
            </a:endParaRPr>
          </a:p>
        </p:txBody>
      </p:sp>
      <p:sp>
        <p:nvSpPr>
          <p:cNvPr id="238" name="PlaceHolder 2"/>
          <p:cNvSpPr>
            <a:spLocks noGrp="1"/>
          </p:cNvSpPr>
          <p:nvPr>
            <p:ph/>
          </p:nvPr>
        </p:nvSpPr>
        <p:spPr>
          <a:xfrm>
            <a:off x="228240" y="1600200"/>
            <a:ext cx="8458200" cy="4952880"/>
          </a:xfrm>
          <a:prstGeom prst="rect">
            <a:avLst/>
          </a:prstGeom>
          <a:solidFill>
            <a:srgbClr val="ccff99"/>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ce Bug’s avoid fighting against other modern insect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y don’t harm us and they are not inhabited by human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So they are more than likely to be beneficial species than harmf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9" name=""/>
          <p:cNvSpPr/>
          <p:nvPr/>
        </p:nvSpPr>
        <p:spPr>
          <a:xfrm>
            <a:off x="0" y="3611520"/>
            <a:ext cx="274680" cy="27324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0" name=""/>
          <p:cNvSpPr/>
          <p:nvPr/>
        </p:nvSpPr>
        <p:spPr>
          <a:xfrm>
            <a:off x="0" y="1874880"/>
            <a:ext cx="274680" cy="274680"/>
          </a:xfrm>
          <a:custGeom>
            <a:avLst/>
            <a:gdLst>
              <a:gd name="textAreaLeft" fmla="*/ 64440 w 274680"/>
              <a:gd name="textAreaRight" fmla="*/ 209880 w 274680"/>
              <a:gd name="textAreaTop" fmla="*/ 32040 h 274680"/>
              <a:gd name="textAreaBottom" fmla="*/ 172440 h 274680"/>
            </a:gdLst>
            <a:ahLst/>
            <a:rect l="textAreaLeft" t="textAreaTop" r="textAreaRight" b="textAreaBottom"/>
            <a:pathLst>
              <a:path w="21615" h="21602">
                <a:moveTo>
                  <a:pt x="10800" y="21599"/>
                </a:moveTo>
                <a:lnTo>
                  <a:pt x="321" y="6886"/>
                </a:lnTo>
                <a:lnTo>
                  <a:pt x="70" y="6036"/>
                </a:lnTo>
                <a:cubicBezTo>
                  <a:pt x="-9" y="5766"/>
                  <a:pt x="-1" y="5474"/>
                  <a:pt x="2" y="5192"/>
                </a:cubicBezTo>
                <a:cubicBezTo>
                  <a:pt x="6" y="4918"/>
                  <a:pt x="43" y="4641"/>
                  <a:pt x="101" y="4370"/>
                </a:cubicBezTo>
                <a:cubicBezTo>
                  <a:pt x="159" y="4103"/>
                  <a:pt x="245" y="3837"/>
                  <a:pt x="353" y="3582"/>
                </a:cubicBezTo>
                <a:cubicBezTo>
                  <a:pt x="460" y="3326"/>
                  <a:pt x="591" y="3077"/>
                  <a:pt x="741" y="2839"/>
                </a:cubicBezTo>
                <a:cubicBezTo>
                  <a:pt x="892" y="2598"/>
                  <a:pt x="1066" y="2369"/>
                  <a:pt x="1253" y="2155"/>
                </a:cubicBezTo>
                <a:cubicBezTo>
                  <a:pt x="1443" y="1938"/>
                  <a:pt x="1651" y="1732"/>
                  <a:pt x="1874" y="1543"/>
                </a:cubicBezTo>
                <a:cubicBezTo>
                  <a:pt x="2097" y="1351"/>
                  <a:pt x="2337" y="1174"/>
                  <a:pt x="2587" y="1014"/>
                </a:cubicBezTo>
                <a:cubicBezTo>
                  <a:pt x="2839" y="854"/>
                  <a:pt x="3106" y="708"/>
                  <a:pt x="3380" y="584"/>
                </a:cubicBezTo>
                <a:cubicBezTo>
                  <a:pt x="3656" y="459"/>
                  <a:pt x="3945" y="350"/>
                  <a:pt x="4237" y="264"/>
                </a:cubicBezTo>
                <a:cubicBezTo>
                  <a:pt x="4533" y="176"/>
                  <a:pt x="4838" y="108"/>
                  <a:pt x="5144" y="66"/>
                </a:cubicBezTo>
                <a:cubicBezTo>
                  <a:pt x="5454" y="22"/>
                  <a:pt x="5771" y="1"/>
                  <a:pt x="6086" y="3"/>
                </a:cubicBezTo>
                <a:cubicBezTo>
                  <a:pt x="6407" y="7"/>
                  <a:pt x="6731" y="35"/>
                  <a:pt x="7048" y="89"/>
                </a:cubicBezTo>
                <a:cubicBezTo>
                  <a:pt x="7374" y="144"/>
                  <a:pt x="7700" y="226"/>
                  <a:pt x="8015" y="335"/>
                </a:cubicBezTo>
                <a:cubicBezTo>
                  <a:pt x="8344" y="447"/>
                  <a:pt x="8667" y="590"/>
                  <a:pt x="8972" y="756"/>
                </a:cubicBezTo>
                <a:cubicBezTo>
                  <a:pt x="9297" y="932"/>
                  <a:pt x="9613" y="1135"/>
                  <a:pt x="9907" y="1363"/>
                </a:cubicBezTo>
                <a:cubicBezTo>
                  <a:pt x="10224" y="1609"/>
                  <a:pt x="10504" y="1900"/>
                  <a:pt x="10802" y="2169"/>
                </a:cubicBezTo>
                <a:lnTo>
                  <a:pt x="11697" y="1363"/>
                </a:lnTo>
                <a:cubicBezTo>
                  <a:pt x="11971" y="1116"/>
                  <a:pt x="12304" y="934"/>
                  <a:pt x="12630" y="756"/>
                </a:cubicBezTo>
                <a:cubicBezTo>
                  <a:pt x="12935" y="590"/>
                  <a:pt x="13528" y="450"/>
                  <a:pt x="13589" y="335"/>
                </a:cubicBezTo>
                <a:cubicBezTo>
                  <a:pt x="13901" y="226"/>
                  <a:pt x="14227" y="144"/>
                  <a:pt x="14556" y="89"/>
                </a:cubicBezTo>
                <a:cubicBezTo>
                  <a:pt x="14872" y="35"/>
                  <a:pt x="15195" y="7"/>
                  <a:pt x="15517" y="3"/>
                </a:cubicBezTo>
                <a:cubicBezTo>
                  <a:pt x="15830" y="0"/>
                  <a:pt x="16147" y="22"/>
                  <a:pt x="16458" y="66"/>
                </a:cubicBezTo>
                <a:cubicBezTo>
                  <a:pt x="16764" y="109"/>
                  <a:pt x="17068" y="177"/>
                  <a:pt x="17365" y="264"/>
                </a:cubicBezTo>
                <a:cubicBezTo>
                  <a:pt x="17658" y="349"/>
                  <a:pt x="17946" y="458"/>
                  <a:pt x="18222" y="584"/>
                </a:cubicBezTo>
                <a:cubicBezTo>
                  <a:pt x="18496" y="708"/>
                  <a:pt x="18762" y="854"/>
                  <a:pt x="19015" y="1014"/>
                </a:cubicBezTo>
                <a:cubicBezTo>
                  <a:pt x="19264" y="1172"/>
                  <a:pt x="19504" y="1349"/>
                  <a:pt x="19730" y="1543"/>
                </a:cubicBezTo>
                <a:cubicBezTo>
                  <a:pt x="19950" y="1731"/>
                  <a:pt x="20158" y="1937"/>
                  <a:pt x="20350" y="2155"/>
                </a:cubicBezTo>
                <a:cubicBezTo>
                  <a:pt x="20536" y="2369"/>
                  <a:pt x="20710" y="2598"/>
                  <a:pt x="20861" y="2839"/>
                </a:cubicBezTo>
                <a:cubicBezTo>
                  <a:pt x="21010" y="3074"/>
                  <a:pt x="21143" y="3323"/>
                  <a:pt x="21251" y="3582"/>
                </a:cubicBezTo>
                <a:cubicBezTo>
                  <a:pt x="21357" y="3835"/>
                  <a:pt x="21443" y="4099"/>
                  <a:pt x="21502" y="4370"/>
                </a:cubicBezTo>
                <a:cubicBezTo>
                  <a:pt x="21561" y="4639"/>
                  <a:pt x="21595" y="4916"/>
                  <a:pt x="21600" y="5192"/>
                </a:cubicBezTo>
                <a:cubicBezTo>
                  <a:pt x="21606" y="5474"/>
                  <a:pt x="21584" y="5760"/>
                  <a:pt x="21532" y="6036"/>
                </a:cubicBezTo>
                <a:cubicBezTo>
                  <a:pt x="21478" y="6326"/>
                  <a:pt x="21366" y="6603"/>
                  <a:pt x="21282" y="6887"/>
                </a:cubicBezTo>
                <a:lnTo>
                  <a:pt x="10802" y="21602"/>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1" name=""/>
          <p:cNvSpPr/>
          <p:nvPr/>
        </p:nvSpPr>
        <p:spPr>
          <a:xfrm>
            <a:off x="0" y="5075280"/>
            <a:ext cx="274680" cy="274680"/>
          </a:xfrm>
          <a:custGeom>
            <a:avLst/>
            <a:gdLst>
              <a:gd name="textAreaLeft" fmla="*/ 64440 w 274680"/>
              <a:gd name="textAreaRight" fmla="*/ 209880 w 274680"/>
              <a:gd name="textAreaTop" fmla="*/ 32040 h 274680"/>
              <a:gd name="textAreaBottom" fmla="*/ 172440 h 274680"/>
            </a:gdLst>
            <a:ahLst/>
            <a:rect l="textAreaLeft" t="textAreaTop" r="textAreaRight" b="textAreaBottom"/>
            <a:pathLst>
              <a:path w="21615" h="21602">
                <a:moveTo>
                  <a:pt x="10800" y="21599"/>
                </a:moveTo>
                <a:lnTo>
                  <a:pt x="321" y="6886"/>
                </a:lnTo>
                <a:lnTo>
                  <a:pt x="70" y="6036"/>
                </a:lnTo>
                <a:cubicBezTo>
                  <a:pt x="-9" y="5766"/>
                  <a:pt x="-1" y="5474"/>
                  <a:pt x="2" y="5192"/>
                </a:cubicBezTo>
                <a:cubicBezTo>
                  <a:pt x="6" y="4918"/>
                  <a:pt x="43" y="4641"/>
                  <a:pt x="101" y="4370"/>
                </a:cubicBezTo>
                <a:cubicBezTo>
                  <a:pt x="159" y="4103"/>
                  <a:pt x="245" y="3837"/>
                  <a:pt x="353" y="3582"/>
                </a:cubicBezTo>
                <a:cubicBezTo>
                  <a:pt x="460" y="3326"/>
                  <a:pt x="591" y="3077"/>
                  <a:pt x="741" y="2839"/>
                </a:cubicBezTo>
                <a:cubicBezTo>
                  <a:pt x="892" y="2598"/>
                  <a:pt x="1066" y="2369"/>
                  <a:pt x="1253" y="2155"/>
                </a:cubicBezTo>
                <a:cubicBezTo>
                  <a:pt x="1443" y="1938"/>
                  <a:pt x="1651" y="1732"/>
                  <a:pt x="1874" y="1543"/>
                </a:cubicBezTo>
                <a:cubicBezTo>
                  <a:pt x="2097" y="1351"/>
                  <a:pt x="2337" y="1174"/>
                  <a:pt x="2587" y="1014"/>
                </a:cubicBezTo>
                <a:cubicBezTo>
                  <a:pt x="2839" y="854"/>
                  <a:pt x="3106" y="708"/>
                  <a:pt x="3380" y="584"/>
                </a:cubicBezTo>
                <a:cubicBezTo>
                  <a:pt x="3656" y="459"/>
                  <a:pt x="3945" y="350"/>
                  <a:pt x="4237" y="264"/>
                </a:cubicBezTo>
                <a:cubicBezTo>
                  <a:pt x="4533" y="176"/>
                  <a:pt x="4838" y="108"/>
                  <a:pt x="5144" y="66"/>
                </a:cubicBezTo>
                <a:cubicBezTo>
                  <a:pt x="5454" y="22"/>
                  <a:pt x="5771" y="1"/>
                  <a:pt x="6086" y="3"/>
                </a:cubicBezTo>
                <a:cubicBezTo>
                  <a:pt x="6407" y="7"/>
                  <a:pt x="6731" y="35"/>
                  <a:pt x="7048" y="89"/>
                </a:cubicBezTo>
                <a:cubicBezTo>
                  <a:pt x="7374" y="144"/>
                  <a:pt x="7700" y="226"/>
                  <a:pt x="8015" y="335"/>
                </a:cubicBezTo>
                <a:cubicBezTo>
                  <a:pt x="8344" y="447"/>
                  <a:pt x="8667" y="590"/>
                  <a:pt x="8972" y="756"/>
                </a:cubicBezTo>
                <a:cubicBezTo>
                  <a:pt x="9297" y="932"/>
                  <a:pt x="9613" y="1135"/>
                  <a:pt x="9907" y="1363"/>
                </a:cubicBezTo>
                <a:cubicBezTo>
                  <a:pt x="10224" y="1609"/>
                  <a:pt x="10504" y="1900"/>
                  <a:pt x="10802" y="2169"/>
                </a:cubicBezTo>
                <a:lnTo>
                  <a:pt x="11697" y="1363"/>
                </a:lnTo>
                <a:cubicBezTo>
                  <a:pt x="11971" y="1116"/>
                  <a:pt x="12304" y="934"/>
                  <a:pt x="12630" y="756"/>
                </a:cubicBezTo>
                <a:cubicBezTo>
                  <a:pt x="12935" y="590"/>
                  <a:pt x="13528" y="450"/>
                  <a:pt x="13589" y="335"/>
                </a:cubicBezTo>
                <a:cubicBezTo>
                  <a:pt x="13901" y="226"/>
                  <a:pt x="14227" y="144"/>
                  <a:pt x="14556" y="89"/>
                </a:cubicBezTo>
                <a:cubicBezTo>
                  <a:pt x="14872" y="35"/>
                  <a:pt x="15195" y="7"/>
                  <a:pt x="15517" y="3"/>
                </a:cubicBezTo>
                <a:cubicBezTo>
                  <a:pt x="15830" y="0"/>
                  <a:pt x="16147" y="22"/>
                  <a:pt x="16458" y="66"/>
                </a:cubicBezTo>
                <a:cubicBezTo>
                  <a:pt x="16764" y="109"/>
                  <a:pt x="17068" y="177"/>
                  <a:pt x="17365" y="264"/>
                </a:cubicBezTo>
                <a:cubicBezTo>
                  <a:pt x="17658" y="349"/>
                  <a:pt x="17946" y="458"/>
                  <a:pt x="18222" y="584"/>
                </a:cubicBezTo>
                <a:cubicBezTo>
                  <a:pt x="18496" y="708"/>
                  <a:pt x="18762" y="854"/>
                  <a:pt x="19015" y="1014"/>
                </a:cubicBezTo>
                <a:cubicBezTo>
                  <a:pt x="19264" y="1172"/>
                  <a:pt x="19504" y="1349"/>
                  <a:pt x="19730" y="1543"/>
                </a:cubicBezTo>
                <a:cubicBezTo>
                  <a:pt x="19950" y="1731"/>
                  <a:pt x="20158" y="1937"/>
                  <a:pt x="20350" y="2155"/>
                </a:cubicBezTo>
                <a:cubicBezTo>
                  <a:pt x="20536" y="2369"/>
                  <a:pt x="20710" y="2598"/>
                  <a:pt x="20861" y="2839"/>
                </a:cubicBezTo>
                <a:cubicBezTo>
                  <a:pt x="21010" y="3074"/>
                  <a:pt x="21143" y="3323"/>
                  <a:pt x="21251" y="3582"/>
                </a:cubicBezTo>
                <a:cubicBezTo>
                  <a:pt x="21357" y="3835"/>
                  <a:pt x="21443" y="4099"/>
                  <a:pt x="21502" y="4370"/>
                </a:cubicBezTo>
                <a:cubicBezTo>
                  <a:pt x="21561" y="4639"/>
                  <a:pt x="21595" y="4916"/>
                  <a:pt x="21600" y="5192"/>
                </a:cubicBezTo>
                <a:cubicBezTo>
                  <a:pt x="21606" y="5474"/>
                  <a:pt x="21584" y="5760"/>
                  <a:pt x="21532" y="6036"/>
                </a:cubicBezTo>
                <a:cubicBezTo>
                  <a:pt x="21478" y="6326"/>
                  <a:pt x="21366" y="6603"/>
                  <a:pt x="21282" y="6887"/>
                </a:cubicBezTo>
                <a:lnTo>
                  <a:pt x="10802" y="21602"/>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med">
    <p:push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ee7f2"/>
            </a:gs>
            <a:gs pos="50000">
              <a:srgbClr val="fbeac7"/>
            </a:gs>
            <a:gs pos="100000">
              <a:srgbClr val="fee7f2"/>
            </a:gs>
          </a:gsLst>
          <a:lin ang="13500000"/>
        </a:gradFill>
      </p:bgPr>
    </p:bg>
    <p:spTree>
      <p:nvGrpSpPr>
        <p:cNvPr id="1" name=""/>
        <p:cNvGrpSpPr/>
        <p:nvPr/>
      </p:nvGrpSpPr>
      <p:grpSpPr>
        <a:xfrm>
          <a:off x="0" y="0"/>
          <a:ext cx="0" cy="0"/>
          <a:chOff x="0" y="0"/>
          <a:chExt cx="0" cy="0"/>
        </a:xfrm>
      </p:grpSpPr>
      <p:pic>
        <p:nvPicPr>
          <p:cNvPr id="242" name="" descr=""/>
          <p:cNvPicPr/>
          <p:nvPr/>
        </p:nvPicPr>
        <p:blipFill>
          <a:blip r:embed="rId1"/>
          <a:stretch/>
        </p:blipFill>
        <p:spPr>
          <a:xfrm>
            <a:off x="731880" y="2057400"/>
            <a:ext cx="7315200" cy="1920960"/>
          </a:xfrm>
          <a:prstGeom prst="rect">
            <a:avLst/>
          </a:prstGeom>
          <a:ln w="0">
            <a:noFill/>
          </a:ln>
        </p:spPr>
      </p:pic>
      <p:sp>
        <p:nvSpPr>
          <p:cNvPr id="243" name=""/>
          <p:cNvSpPr/>
          <p:nvPr/>
        </p:nvSpPr>
        <p:spPr>
          <a:xfrm>
            <a:off x="0" y="2971800"/>
            <a:ext cx="274680" cy="274680"/>
          </a:xfrm>
          <a:custGeom>
            <a:avLst/>
            <a:gdLst>
              <a:gd name="textAreaLeft" fmla="*/ 64440 w 274680"/>
              <a:gd name="textAreaRight" fmla="*/ 209880 w 274680"/>
              <a:gd name="textAreaTop" fmla="*/ 32040 h 274680"/>
              <a:gd name="textAreaBottom" fmla="*/ 172440 h 274680"/>
            </a:gdLst>
            <a:ahLst/>
            <a:rect l="textAreaLeft" t="textAreaTop" r="textAreaRight" b="textAreaBottom"/>
            <a:pathLst>
              <a:path w="21615" h="21602">
                <a:moveTo>
                  <a:pt x="10800" y="21599"/>
                </a:moveTo>
                <a:lnTo>
                  <a:pt x="321" y="6886"/>
                </a:lnTo>
                <a:lnTo>
                  <a:pt x="70" y="6036"/>
                </a:lnTo>
                <a:cubicBezTo>
                  <a:pt x="-9" y="5766"/>
                  <a:pt x="-1" y="5474"/>
                  <a:pt x="2" y="5192"/>
                </a:cubicBezTo>
                <a:cubicBezTo>
                  <a:pt x="6" y="4918"/>
                  <a:pt x="43" y="4641"/>
                  <a:pt x="101" y="4370"/>
                </a:cubicBezTo>
                <a:cubicBezTo>
                  <a:pt x="159" y="4103"/>
                  <a:pt x="245" y="3837"/>
                  <a:pt x="353" y="3582"/>
                </a:cubicBezTo>
                <a:cubicBezTo>
                  <a:pt x="460" y="3326"/>
                  <a:pt x="591" y="3077"/>
                  <a:pt x="741" y="2839"/>
                </a:cubicBezTo>
                <a:cubicBezTo>
                  <a:pt x="892" y="2598"/>
                  <a:pt x="1066" y="2369"/>
                  <a:pt x="1253" y="2155"/>
                </a:cubicBezTo>
                <a:cubicBezTo>
                  <a:pt x="1443" y="1938"/>
                  <a:pt x="1651" y="1732"/>
                  <a:pt x="1874" y="1543"/>
                </a:cubicBezTo>
                <a:cubicBezTo>
                  <a:pt x="2097" y="1351"/>
                  <a:pt x="2337" y="1174"/>
                  <a:pt x="2587" y="1014"/>
                </a:cubicBezTo>
                <a:cubicBezTo>
                  <a:pt x="2839" y="854"/>
                  <a:pt x="3106" y="708"/>
                  <a:pt x="3380" y="584"/>
                </a:cubicBezTo>
                <a:cubicBezTo>
                  <a:pt x="3656" y="459"/>
                  <a:pt x="3945" y="350"/>
                  <a:pt x="4237" y="264"/>
                </a:cubicBezTo>
                <a:cubicBezTo>
                  <a:pt x="4533" y="176"/>
                  <a:pt x="4838" y="108"/>
                  <a:pt x="5144" y="66"/>
                </a:cubicBezTo>
                <a:cubicBezTo>
                  <a:pt x="5454" y="22"/>
                  <a:pt x="5771" y="1"/>
                  <a:pt x="6086" y="3"/>
                </a:cubicBezTo>
                <a:cubicBezTo>
                  <a:pt x="6407" y="7"/>
                  <a:pt x="6731" y="35"/>
                  <a:pt x="7048" y="89"/>
                </a:cubicBezTo>
                <a:cubicBezTo>
                  <a:pt x="7374" y="144"/>
                  <a:pt x="7700" y="226"/>
                  <a:pt x="8015" y="335"/>
                </a:cubicBezTo>
                <a:cubicBezTo>
                  <a:pt x="8344" y="447"/>
                  <a:pt x="8667" y="590"/>
                  <a:pt x="8972" y="756"/>
                </a:cubicBezTo>
                <a:cubicBezTo>
                  <a:pt x="9297" y="932"/>
                  <a:pt x="9613" y="1135"/>
                  <a:pt x="9907" y="1363"/>
                </a:cubicBezTo>
                <a:cubicBezTo>
                  <a:pt x="10224" y="1609"/>
                  <a:pt x="10504" y="1900"/>
                  <a:pt x="10802" y="2169"/>
                </a:cubicBezTo>
                <a:lnTo>
                  <a:pt x="11697" y="1363"/>
                </a:lnTo>
                <a:cubicBezTo>
                  <a:pt x="11971" y="1116"/>
                  <a:pt x="12304" y="934"/>
                  <a:pt x="12630" y="756"/>
                </a:cubicBezTo>
                <a:cubicBezTo>
                  <a:pt x="12935" y="590"/>
                  <a:pt x="13528" y="450"/>
                  <a:pt x="13589" y="335"/>
                </a:cubicBezTo>
                <a:cubicBezTo>
                  <a:pt x="13901" y="226"/>
                  <a:pt x="14227" y="144"/>
                  <a:pt x="14556" y="89"/>
                </a:cubicBezTo>
                <a:cubicBezTo>
                  <a:pt x="14872" y="35"/>
                  <a:pt x="15195" y="7"/>
                  <a:pt x="15517" y="3"/>
                </a:cubicBezTo>
                <a:cubicBezTo>
                  <a:pt x="15830" y="0"/>
                  <a:pt x="16147" y="22"/>
                  <a:pt x="16458" y="66"/>
                </a:cubicBezTo>
                <a:cubicBezTo>
                  <a:pt x="16764" y="109"/>
                  <a:pt x="17068" y="177"/>
                  <a:pt x="17365" y="264"/>
                </a:cubicBezTo>
                <a:cubicBezTo>
                  <a:pt x="17658" y="349"/>
                  <a:pt x="17946" y="458"/>
                  <a:pt x="18222" y="584"/>
                </a:cubicBezTo>
                <a:cubicBezTo>
                  <a:pt x="18496" y="708"/>
                  <a:pt x="18762" y="854"/>
                  <a:pt x="19015" y="1014"/>
                </a:cubicBezTo>
                <a:cubicBezTo>
                  <a:pt x="19264" y="1172"/>
                  <a:pt x="19504" y="1349"/>
                  <a:pt x="19730" y="1543"/>
                </a:cubicBezTo>
                <a:cubicBezTo>
                  <a:pt x="19950" y="1731"/>
                  <a:pt x="20158" y="1937"/>
                  <a:pt x="20350" y="2155"/>
                </a:cubicBezTo>
                <a:cubicBezTo>
                  <a:pt x="20536" y="2369"/>
                  <a:pt x="20710" y="2598"/>
                  <a:pt x="20861" y="2839"/>
                </a:cubicBezTo>
                <a:cubicBezTo>
                  <a:pt x="21010" y="3074"/>
                  <a:pt x="21143" y="3323"/>
                  <a:pt x="21251" y="3582"/>
                </a:cubicBezTo>
                <a:cubicBezTo>
                  <a:pt x="21357" y="3835"/>
                  <a:pt x="21443" y="4099"/>
                  <a:pt x="21502" y="4370"/>
                </a:cubicBezTo>
                <a:cubicBezTo>
                  <a:pt x="21561" y="4639"/>
                  <a:pt x="21595" y="4916"/>
                  <a:pt x="21600" y="5192"/>
                </a:cubicBezTo>
                <a:cubicBezTo>
                  <a:pt x="21606" y="5474"/>
                  <a:pt x="21584" y="5760"/>
                  <a:pt x="21532" y="6036"/>
                </a:cubicBezTo>
                <a:cubicBezTo>
                  <a:pt x="21478" y="6326"/>
                  <a:pt x="21366" y="6603"/>
                  <a:pt x="21282" y="6887"/>
                </a:cubicBezTo>
                <a:lnTo>
                  <a:pt x="10802" y="21602"/>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med">
    <p:wheel/>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Basic Anatomy:</a:t>
            </a:r>
            <a:endParaRPr b="0" lang="en-US" sz="4400" spc="-1" strike="noStrike">
              <a:solidFill>
                <a:srgbClr val="000000"/>
              </a:solidFill>
              <a:latin typeface="Arial"/>
            </a:endParaRPr>
          </a:p>
        </p:txBody>
      </p:sp>
      <p:sp>
        <p:nvSpPr>
          <p:cNvPr id="245" name=""/>
          <p:cNvSpPr/>
          <p:nvPr/>
        </p:nvSpPr>
        <p:spPr>
          <a:xfrm>
            <a:off x="814320" y="1893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246" name="rockc1" descr="rockcrawler"/>
          <p:cNvPicPr/>
          <p:nvPr/>
        </p:nvPicPr>
        <p:blipFill>
          <a:blip r:embed="rId2"/>
          <a:stretch/>
        </p:blipFill>
        <p:spPr>
          <a:xfrm>
            <a:off x="0" y="838080"/>
            <a:ext cx="2860560" cy="5029200"/>
          </a:xfrm>
          <a:prstGeom prst="rect">
            <a:avLst/>
          </a:prstGeom>
          <a:ln w="0">
            <a:noFill/>
          </a:ln>
        </p:spPr>
      </p:pic>
      <p:sp>
        <p:nvSpPr>
          <p:cNvPr id="247" name=""/>
          <p:cNvSpPr/>
          <p:nvPr/>
        </p:nvSpPr>
        <p:spPr>
          <a:xfrm flipH="1" flipV="1">
            <a:off x="2286000" y="1904760"/>
            <a:ext cx="914400" cy="152280"/>
          </a:xfrm>
          <a:prstGeom prst="line">
            <a:avLst/>
          </a:prstGeom>
          <a:ln w="9360">
            <a:solidFill>
              <a:srgbClr val="800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flipH="1" flipV="1">
            <a:off x="1523520" y="1218960"/>
            <a:ext cx="1638360" cy="106668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flipH="1" flipV="1">
            <a:off x="1599840" y="2666880"/>
            <a:ext cx="1562040" cy="76320"/>
          </a:xfrm>
          <a:prstGeom prst="line">
            <a:avLst/>
          </a:prstGeom>
          <a:ln w="9360">
            <a:solidFill>
              <a:srgbClr val="3366ff"/>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250" name=""/>
          <p:cNvSpPr/>
          <p:nvPr/>
        </p:nvSpPr>
        <p:spPr>
          <a:xfrm flipH="1">
            <a:off x="1600200" y="3809880"/>
            <a:ext cx="1752480" cy="1257480"/>
          </a:xfrm>
          <a:prstGeom prst="line">
            <a:avLst/>
          </a:prstGeom>
          <a:ln w="93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
          <p:cNvSpPr/>
          <p:nvPr/>
        </p:nvSpPr>
        <p:spPr>
          <a:xfrm flipH="1">
            <a:off x="2590560" y="3200400"/>
            <a:ext cx="685800" cy="1522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flipH="1" flipV="1">
            <a:off x="2209680" y="1142640"/>
            <a:ext cx="1067040" cy="20574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p:nvPr/>
        </p:nvSpPr>
        <p:spPr>
          <a:xfrm flipH="1">
            <a:off x="2057040" y="3200400"/>
            <a:ext cx="1219320" cy="13716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flipH="1">
            <a:off x="609120" y="3200400"/>
            <a:ext cx="2667240" cy="14097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
          <p:cNvSpPr/>
          <p:nvPr/>
        </p:nvSpPr>
        <p:spPr>
          <a:xfrm flipH="1">
            <a:off x="151920" y="3200400"/>
            <a:ext cx="3048120" cy="1904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flipH="1" flipV="1">
            <a:off x="609120" y="1218960"/>
            <a:ext cx="2667240" cy="19810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
          <p:cNvSpPr/>
          <p:nvPr/>
        </p:nvSpPr>
        <p:spPr>
          <a:xfrm>
            <a:off x="814320" y="1893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58" name=""/>
          <p:cNvSpPr/>
          <p:nvPr/>
        </p:nvSpPr>
        <p:spPr>
          <a:xfrm>
            <a:off x="3200040" y="1842840"/>
            <a:ext cx="6105960" cy="9169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80"/>
                </a:solidFill>
                <a:latin typeface="Arial Rounded MT Bold"/>
                <a:ea typeface="Times New Roman"/>
              </a:rPr>
              <a:t>Antennae slender, filiform-(used for sensing their food)</a:t>
            </a:r>
            <a:endParaRPr b="0" lang="en-US" sz="1800" spc="-1" strike="noStrike">
              <a:solidFill>
                <a:srgbClr val="000000"/>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Arial Rounded MT Bold"/>
                <a:ea typeface="Times New Roman"/>
              </a:rPr>
              <a:t>Mouthparts mandibulate,hypognathous-(used to eat.)</a:t>
            </a:r>
            <a:endParaRPr b="0" lang="en-US" sz="1800" spc="-1" strike="noStrike">
              <a:solidFill>
                <a:srgbClr val="000000"/>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
          <p:cNvSpPr/>
          <p:nvPr/>
        </p:nvSpPr>
        <p:spPr>
          <a:xfrm>
            <a:off x="3230640" y="2514240"/>
            <a:ext cx="555588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ff"/>
                </a:solidFill>
                <a:latin typeface="Arial Rounded MT Bold"/>
                <a:ea typeface="Times New Roman"/>
              </a:rPr>
              <a:t>Body cylindrical-(Abdomen that has 10 segments.)</a:t>
            </a:r>
            <a:endParaRPr b="0" lang="en-US" sz="1800" spc="-1" strike="noStrike">
              <a:solidFill>
                <a:srgbClr val="000000"/>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
          <p:cNvSpPr/>
          <p:nvPr/>
        </p:nvSpPr>
        <p:spPr>
          <a:xfrm>
            <a:off x="3285720" y="2971440"/>
            <a:ext cx="382140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Rounded MT Bold"/>
                <a:ea typeface="Times New Roman"/>
              </a:rPr>
              <a:t>Tarsi 5-segmented-(used to crawl)</a:t>
            </a:r>
            <a:endParaRPr b="0" lang="en-US" sz="1800" spc="-1" strike="noStrike">
              <a:solidFill>
                <a:srgbClr val="000000"/>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
          <p:cNvSpPr/>
          <p:nvPr/>
        </p:nvSpPr>
        <p:spPr>
          <a:xfrm>
            <a:off x="3332520" y="3444480"/>
            <a:ext cx="3020040" cy="9169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Rounded MT Bold"/>
                <a:ea typeface="Times New Roman"/>
              </a:rPr>
              <a:t>Cerci long, 8 – segmented.</a:t>
            </a:r>
            <a:endParaRPr b="0" lang="en-US" sz="1800" spc="-1" strike="noStrike">
              <a:solidFill>
                <a:srgbClr val="000000"/>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ea typeface="Times New Roman"/>
              </a:rPr>
              <a:t>(Often without eyes)</a:t>
            </a:r>
            <a:endParaRPr b="0" lang="en-US" sz="1800" spc="-1" strike="noStrike">
              <a:solidFill>
                <a:srgbClr val="000000"/>
              </a:solidFill>
              <a:latin typeface="Arial"/>
            </a:endParaRPr>
          </a:p>
        </p:txBody>
      </p:sp>
      <p:sp>
        <p:nvSpPr>
          <p:cNvPr id="262" name=""/>
          <p:cNvSpPr/>
          <p:nvPr/>
        </p:nvSpPr>
        <p:spPr>
          <a:xfrm flipH="1" flipV="1">
            <a:off x="457200" y="1981080"/>
            <a:ext cx="2666880" cy="76320"/>
          </a:xfrm>
          <a:prstGeom prst="line">
            <a:avLst/>
          </a:prstGeom>
          <a:ln w="9360">
            <a:solidFill>
              <a:srgbClr val="660066"/>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263" name=""/>
          <p:cNvSpPr/>
          <p:nvPr/>
        </p:nvSpPr>
        <p:spPr>
          <a:xfrm>
            <a:off x="0" y="3611520"/>
            <a:ext cx="274680" cy="27324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diamon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cc"/>
            </a:gs>
            <a:gs pos="50000">
              <a:srgbClr val="cc0099"/>
            </a:gs>
            <a:gs pos="100000">
              <a:srgbClr val="ff99cc"/>
            </a:gs>
          </a:gsLst>
          <a:lin ang="10800000"/>
        </a:gradFill>
      </p:bgPr>
    </p:bg>
    <p:spTree>
      <p:nvGrpSpPr>
        <p:cNvPr id="1" name=""/>
        <p:cNvGrpSpPr/>
        <p:nvPr/>
      </p:nvGrpSpPr>
      <p:grpSpPr>
        <a:xfrm>
          <a:off x="0" y="0"/>
          <a:ext cx="0" cy="0"/>
          <a:chOff x="0" y="0"/>
          <a:chExt cx="0" cy="0"/>
        </a:xfrm>
      </p:grpSpPr>
      <p:pic>
        <p:nvPicPr>
          <p:cNvPr id="264" name="" descr=""/>
          <p:cNvPicPr/>
          <p:nvPr/>
        </p:nvPicPr>
        <p:blipFill>
          <a:blip r:embed="rId1"/>
          <a:stretch/>
        </p:blipFill>
        <p:spPr>
          <a:xfrm>
            <a:off x="914400" y="1325520"/>
            <a:ext cx="5211720" cy="1128600"/>
          </a:xfrm>
          <a:prstGeom prst="rect">
            <a:avLst/>
          </a:prstGeom>
          <a:ln w="0">
            <a:noFill/>
          </a:ln>
        </p:spPr>
      </p:pic>
      <p:pic>
        <p:nvPicPr>
          <p:cNvPr id="265" name="" descr=""/>
          <p:cNvPicPr/>
          <p:nvPr/>
        </p:nvPicPr>
        <p:blipFill>
          <a:blip r:embed="rId2"/>
          <a:stretch/>
        </p:blipFill>
        <p:spPr>
          <a:xfrm>
            <a:off x="5943600" y="1325520"/>
            <a:ext cx="2011320" cy="951120"/>
          </a:xfrm>
          <a:prstGeom prst="rect">
            <a:avLst/>
          </a:prstGeom>
          <a:ln w="0">
            <a:noFill/>
          </a:ln>
        </p:spPr>
      </p:pic>
      <p:pic>
        <p:nvPicPr>
          <p:cNvPr id="266" name="" descr=""/>
          <p:cNvPicPr/>
          <p:nvPr/>
        </p:nvPicPr>
        <p:blipFill>
          <a:blip r:embed="rId3"/>
          <a:stretch/>
        </p:blipFill>
        <p:spPr>
          <a:xfrm>
            <a:off x="3200400" y="3521160"/>
            <a:ext cx="2286000" cy="1096920"/>
          </a:xfrm>
          <a:prstGeom prst="rect">
            <a:avLst/>
          </a:prstGeom>
          <a:ln w="0">
            <a:noFill/>
          </a:ln>
        </p:spPr>
      </p:pic>
      <p:pic>
        <p:nvPicPr>
          <p:cNvPr id="267" name="" descr=""/>
          <p:cNvPicPr/>
          <p:nvPr/>
        </p:nvPicPr>
        <p:blipFill>
          <a:blip r:embed="rId4"/>
          <a:stretch/>
        </p:blipFill>
        <p:spPr>
          <a:xfrm>
            <a:off x="549360" y="2422440"/>
            <a:ext cx="7588080" cy="1098720"/>
          </a:xfrm>
          <a:prstGeom prst="rect">
            <a:avLst/>
          </a:prstGeom>
          <a:ln w="0">
            <a:noFill/>
          </a:ln>
        </p:spPr>
      </p:pic>
      <p:pic>
        <p:nvPicPr>
          <p:cNvPr id="268" name="" descr=""/>
          <p:cNvPicPr/>
          <p:nvPr/>
        </p:nvPicPr>
        <p:blipFill>
          <a:blip r:embed="rId5"/>
          <a:stretch/>
        </p:blipFill>
        <p:spPr>
          <a:xfrm>
            <a:off x="1920960" y="4800600"/>
            <a:ext cx="5486400" cy="1076400"/>
          </a:xfrm>
          <a:prstGeom prst="rect">
            <a:avLst/>
          </a:prstGeom>
          <a:ln w="0">
            <a:noFill/>
          </a:ln>
        </p:spPr>
      </p:pic>
      <p:sp>
        <p:nvSpPr>
          <p:cNvPr id="269" name=""/>
          <p:cNvSpPr/>
          <p:nvPr/>
        </p:nvSpPr>
        <p:spPr>
          <a:xfrm>
            <a:off x="0" y="2971800"/>
            <a:ext cx="274680" cy="274680"/>
          </a:xfrm>
          <a:custGeom>
            <a:avLst/>
            <a:gdLst>
              <a:gd name="textAreaLeft" fmla="*/ 64440 w 274680"/>
              <a:gd name="textAreaRight" fmla="*/ 209880 w 274680"/>
              <a:gd name="textAreaTop" fmla="*/ 32040 h 274680"/>
              <a:gd name="textAreaBottom" fmla="*/ 172440 h 274680"/>
            </a:gdLst>
            <a:ahLst/>
            <a:rect l="textAreaLeft" t="textAreaTop" r="textAreaRight" b="textAreaBottom"/>
            <a:pathLst>
              <a:path w="21615" h="21602">
                <a:moveTo>
                  <a:pt x="10800" y="21599"/>
                </a:moveTo>
                <a:lnTo>
                  <a:pt x="321" y="6886"/>
                </a:lnTo>
                <a:lnTo>
                  <a:pt x="70" y="6036"/>
                </a:lnTo>
                <a:cubicBezTo>
                  <a:pt x="-9" y="5766"/>
                  <a:pt x="-1" y="5474"/>
                  <a:pt x="2" y="5192"/>
                </a:cubicBezTo>
                <a:cubicBezTo>
                  <a:pt x="6" y="4918"/>
                  <a:pt x="43" y="4641"/>
                  <a:pt x="101" y="4370"/>
                </a:cubicBezTo>
                <a:cubicBezTo>
                  <a:pt x="159" y="4103"/>
                  <a:pt x="245" y="3837"/>
                  <a:pt x="353" y="3582"/>
                </a:cubicBezTo>
                <a:cubicBezTo>
                  <a:pt x="460" y="3326"/>
                  <a:pt x="591" y="3077"/>
                  <a:pt x="741" y="2839"/>
                </a:cubicBezTo>
                <a:cubicBezTo>
                  <a:pt x="892" y="2598"/>
                  <a:pt x="1066" y="2369"/>
                  <a:pt x="1253" y="2155"/>
                </a:cubicBezTo>
                <a:cubicBezTo>
                  <a:pt x="1443" y="1938"/>
                  <a:pt x="1651" y="1732"/>
                  <a:pt x="1874" y="1543"/>
                </a:cubicBezTo>
                <a:cubicBezTo>
                  <a:pt x="2097" y="1351"/>
                  <a:pt x="2337" y="1174"/>
                  <a:pt x="2587" y="1014"/>
                </a:cubicBezTo>
                <a:cubicBezTo>
                  <a:pt x="2839" y="854"/>
                  <a:pt x="3106" y="708"/>
                  <a:pt x="3380" y="584"/>
                </a:cubicBezTo>
                <a:cubicBezTo>
                  <a:pt x="3656" y="459"/>
                  <a:pt x="3945" y="350"/>
                  <a:pt x="4237" y="264"/>
                </a:cubicBezTo>
                <a:cubicBezTo>
                  <a:pt x="4533" y="176"/>
                  <a:pt x="4838" y="108"/>
                  <a:pt x="5144" y="66"/>
                </a:cubicBezTo>
                <a:cubicBezTo>
                  <a:pt x="5454" y="22"/>
                  <a:pt x="5771" y="1"/>
                  <a:pt x="6086" y="3"/>
                </a:cubicBezTo>
                <a:cubicBezTo>
                  <a:pt x="6407" y="7"/>
                  <a:pt x="6731" y="35"/>
                  <a:pt x="7048" y="89"/>
                </a:cubicBezTo>
                <a:cubicBezTo>
                  <a:pt x="7374" y="144"/>
                  <a:pt x="7700" y="226"/>
                  <a:pt x="8015" y="335"/>
                </a:cubicBezTo>
                <a:cubicBezTo>
                  <a:pt x="8344" y="447"/>
                  <a:pt x="8667" y="590"/>
                  <a:pt x="8972" y="756"/>
                </a:cubicBezTo>
                <a:cubicBezTo>
                  <a:pt x="9297" y="932"/>
                  <a:pt x="9613" y="1135"/>
                  <a:pt x="9907" y="1363"/>
                </a:cubicBezTo>
                <a:cubicBezTo>
                  <a:pt x="10224" y="1609"/>
                  <a:pt x="10504" y="1900"/>
                  <a:pt x="10802" y="2169"/>
                </a:cubicBezTo>
                <a:lnTo>
                  <a:pt x="11697" y="1363"/>
                </a:lnTo>
                <a:cubicBezTo>
                  <a:pt x="11971" y="1116"/>
                  <a:pt x="12304" y="934"/>
                  <a:pt x="12630" y="756"/>
                </a:cubicBezTo>
                <a:cubicBezTo>
                  <a:pt x="12935" y="590"/>
                  <a:pt x="13528" y="450"/>
                  <a:pt x="13589" y="335"/>
                </a:cubicBezTo>
                <a:cubicBezTo>
                  <a:pt x="13901" y="226"/>
                  <a:pt x="14227" y="144"/>
                  <a:pt x="14556" y="89"/>
                </a:cubicBezTo>
                <a:cubicBezTo>
                  <a:pt x="14872" y="35"/>
                  <a:pt x="15195" y="7"/>
                  <a:pt x="15517" y="3"/>
                </a:cubicBezTo>
                <a:cubicBezTo>
                  <a:pt x="15830" y="0"/>
                  <a:pt x="16147" y="22"/>
                  <a:pt x="16458" y="66"/>
                </a:cubicBezTo>
                <a:cubicBezTo>
                  <a:pt x="16764" y="109"/>
                  <a:pt x="17068" y="177"/>
                  <a:pt x="17365" y="264"/>
                </a:cubicBezTo>
                <a:cubicBezTo>
                  <a:pt x="17658" y="349"/>
                  <a:pt x="17946" y="458"/>
                  <a:pt x="18222" y="584"/>
                </a:cubicBezTo>
                <a:cubicBezTo>
                  <a:pt x="18496" y="708"/>
                  <a:pt x="18762" y="854"/>
                  <a:pt x="19015" y="1014"/>
                </a:cubicBezTo>
                <a:cubicBezTo>
                  <a:pt x="19264" y="1172"/>
                  <a:pt x="19504" y="1349"/>
                  <a:pt x="19730" y="1543"/>
                </a:cubicBezTo>
                <a:cubicBezTo>
                  <a:pt x="19950" y="1731"/>
                  <a:pt x="20158" y="1937"/>
                  <a:pt x="20350" y="2155"/>
                </a:cubicBezTo>
                <a:cubicBezTo>
                  <a:pt x="20536" y="2369"/>
                  <a:pt x="20710" y="2598"/>
                  <a:pt x="20861" y="2839"/>
                </a:cubicBezTo>
                <a:cubicBezTo>
                  <a:pt x="21010" y="3074"/>
                  <a:pt x="21143" y="3323"/>
                  <a:pt x="21251" y="3582"/>
                </a:cubicBezTo>
                <a:cubicBezTo>
                  <a:pt x="21357" y="3835"/>
                  <a:pt x="21443" y="4099"/>
                  <a:pt x="21502" y="4370"/>
                </a:cubicBezTo>
                <a:cubicBezTo>
                  <a:pt x="21561" y="4639"/>
                  <a:pt x="21595" y="4916"/>
                  <a:pt x="21600" y="5192"/>
                </a:cubicBezTo>
                <a:cubicBezTo>
                  <a:pt x="21606" y="5474"/>
                  <a:pt x="21584" y="5760"/>
                  <a:pt x="21532" y="6036"/>
                </a:cubicBezTo>
                <a:cubicBezTo>
                  <a:pt x="21478" y="6326"/>
                  <a:pt x="21366" y="6603"/>
                  <a:pt x="21282" y="6887"/>
                </a:cubicBezTo>
                <a:lnTo>
                  <a:pt x="10802" y="21602"/>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dissolv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456840" y="1050840"/>
            <a:ext cx="8047080" cy="15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000000"/>
                </a:solidFill>
                <a:latin typeface="Arial"/>
              </a:rPr>
              <a:t>ADAPTIVE AND DEFENSIVE STRUCTURES AND BEHAVIOURS</a:t>
            </a:r>
            <a:r>
              <a:rPr b="0" lang="en-AU" sz="4400" spc="-1" strike="noStrike">
                <a:solidFill>
                  <a:srgbClr val="000000"/>
                </a:solidFill>
                <a:latin typeface="Arial"/>
              </a:rPr>
              <a:t> </a:t>
            </a:r>
            <a:endParaRPr b="0" lang="en-US" sz="4400" spc="-1" strike="noStrike">
              <a:solidFill>
                <a:srgbClr val="000000"/>
              </a:solidFill>
              <a:latin typeface="Arial"/>
            </a:endParaRPr>
          </a:p>
        </p:txBody>
      </p:sp>
      <p:sp>
        <p:nvSpPr>
          <p:cNvPr id="271" name=""/>
          <p:cNvSpPr txBox="1"/>
          <p:nvPr/>
        </p:nvSpPr>
        <p:spPr>
          <a:xfrm>
            <a:off x="457200" y="2514600"/>
            <a:ext cx="8229600" cy="4525920"/>
          </a:xfrm>
          <a:prstGeom prst="rect">
            <a:avLst/>
          </a:prstGeom>
          <a:noFill/>
          <a:ln w="0">
            <a:noFill/>
          </a:ln>
        </p:spPr>
        <p:txBody>
          <a:bodyPr lIns="90000" rIns="90000" tIns="46800" bIns="46800" anchor="t">
            <a:normAutofit/>
          </a:bodyPr>
          <a:p>
            <a:pPr marL="272880" indent="-272880">
              <a:lnSpc>
                <a:spcPct val="80000"/>
              </a:lnSpc>
              <a:spcBef>
                <a:spcPts val="499"/>
              </a:spcBef>
              <a:buClr>
                <a:srgbClr val="9c007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Some North American species look for their food on the surface of the snow. They detect prey and other food items with their mouthparts. The baby can survive without food for three to six months. Although they are adapted for survival at cooler temperatures, rock-crawlers will die if they are caught in extended periods of freezing temperatures. They will also die if temperatures rise to 82°F (28°C).</a:t>
            </a:r>
            <a:endParaRPr b="0" lang="en-US" sz="2000" spc="-1" strike="noStrike">
              <a:solidFill>
                <a:srgbClr val="000000"/>
              </a:solidFill>
              <a:latin typeface="Arial"/>
            </a:endParaRPr>
          </a:p>
          <a:p>
            <a:pPr marL="272880" indent="-272880">
              <a:lnSpc>
                <a:spcPct val="80000"/>
              </a:lnSpc>
              <a:spcBef>
                <a:spcPts val="499"/>
              </a:spcBef>
              <a:buClr>
                <a:srgbClr val="9c007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It takes place under stones and includes lots of leg nibbling and touching with the antennae. Occasionally, the female may suddenly eat the male. Females lay sixty to 150 eggs in or on the soil, in decayed wood, or under leaves and stones. The eggs hatch in about 150 days but might take as long as three years. The baby strongly resemble the adults when they hatch and gradually get larger as they mature. They molt, or shed their outer covering, or exoskeleton, three times during the first year and once a year for the next four or more years before reaching adulthood.</a:t>
            </a:r>
            <a:endParaRPr b="0" lang="en-US" sz="2000" spc="-1" strike="noStrike">
              <a:solidFill>
                <a:srgbClr val="000000"/>
              </a:solidFill>
              <a:latin typeface="Arial"/>
            </a:endParaRPr>
          </a:p>
          <a:p>
            <a:pPr marL="272880" indent="-272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2" name=""/>
          <p:cNvSpPr/>
          <p:nvPr/>
        </p:nvSpPr>
        <p:spPr>
          <a:xfrm>
            <a:off x="0" y="4892760"/>
            <a:ext cx="274680" cy="274680"/>
          </a:xfrm>
          <a:custGeom>
            <a:avLst/>
            <a:gdLst>
              <a:gd name="textAreaLeft" fmla="*/ 64440 w 274680"/>
              <a:gd name="textAreaRight" fmla="*/ 209880 w 274680"/>
              <a:gd name="textAreaTop" fmla="*/ 32040 h 274680"/>
              <a:gd name="textAreaBottom" fmla="*/ 172440 h 274680"/>
            </a:gdLst>
            <a:ahLst/>
            <a:rect l="textAreaLeft" t="textAreaTop" r="textAreaRight" b="textAreaBottom"/>
            <a:pathLst>
              <a:path w="21615" h="21602">
                <a:moveTo>
                  <a:pt x="10800" y="21599"/>
                </a:moveTo>
                <a:lnTo>
                  <a:pt x="321" y="6886"/>
                </a:lnTo>
                <a:lnTo>
                  <a:pt x="70" y="6036"/>
                </a:lnTo>
                <a:cubicBezTo>
                  <a:pt x="-9" y="5766"/>
                  <a:pt x="-1" y="5474"/>
                  <a:pt x="2" y="5192"/>
                </a:cubicBezTo>
                <a:cubicBezTo>
                  <a:pt x="6" y="4918"/>
                  <a:pt x="43" y="4641"/>
                  <a:pt x="101" y="4370"/>
                </a:cubicBezTo>
                <a:cubicBezTo>
                  <a:pt x="159" y="4103"/>
                  <a:pt x="245" y="3837"/>
                  <a:pt x="353" y="3582"/>
                </a:cubicBezTo>
                <a:cubicBezTo>
                  <a:pt x="460" y="3326"/>
                  <a:pt x="591" y="3077"/>
                  <a:pt x="741" y="2839"/>
                </a:cubicBezTo>
                <a:cubicBezTo>
                  <a:pt x="892" y="2598"/>
                  <a:pt x="1066" y="2369"/>
                  <a:pt x="1253" y="2155"/>
                </a:cubicBezTo>
                <a:cubicBezTo>
                  <a:pt x="1443" y="1938"/>
                  <a:pt x="1651" y="1732"/>
                  <a:pt x="1874" y="1543"/>
                </a:cubicBezTo>
                <a:cubicBezTo>
                  <a:pt x="2097" y="1351"/>
                  <a:pt x="2337" y="1174"/>
                  <a:pt x="2587" y="1014"/>
                </a:cubicBezTo>
                <a:cubicBezTo>
                  <a:pt x="2839" y="854"/>
                  <a:pt x="3106" y="708"/>
                  <a:pt x="3380" y="584"/>
                </a:cubicBezTo>
                <a:cubicBezTo>
                  <a:pt x="3656" y="459"/>
                  <a:pt x="3945" y="350"/>
                  <a:pt x="4237" y="264"/>
                </a:cubicBezTo>
                <a:cubicBezTo>
                  <a:pt x="4533" y="176"/>
                  <a:pt x="4838" y="108"/>
                  <a:pt x="5144" y="66"/>
                </a:cubicBezTo>
                <a:cubicBezTo>
                  <a:pt x="5454" y="22"/>
                  <a:pt x="5771" y="1"/>
                  <a:pt x="6086" y="3"/>
                </a:cubicBezTo>
                <a:cubicBezTo>
                  <a:pt x="6407" y="7"/>
                  <a:pt x="6731" y="35"/>
                  <a:pt x="7048" y="89"/>
                </a:cubicBezTo>
                <a:cubicBezTo>
                  <a:pt x="7374" y="144"/>
                  <a:pt x="7700" y="226"/>
                  <a:pt x="8015" y="335"/>
                </a:cubicBezTo>
                <a:cubicBezTo>
                  <a:pt x="8344" y="447"/>
                  <a:pt x="8667" y="590"/>
                  <a:pt x="8972" y="756"/>
                </a:cubicBezTo>
                <a:cubicBezTo>
                  <a:pt x="9297" y="932"/>
                  <a:pt x="9613" y="1135"/>
                  <a:pt x="9907" y="1363"/>
                </a:cubicBezTo>
                <a:cubicBezTo>
                  <a:pt x="10224" y="1609"/>
                  <a:pt x="10504" y="1900"/>
                  <a:pt x="10802" y="2169"/>
                </a:cubicBezTo>
                <a:lnTo>
                  <a:pt x="11697" y="1363"/>
                </a:lnTo>
                <a:cubicBezTo>
                  <a:pt x="11971" y="1116"/>
                  <a:pt x="12304" y="934"/>
                  <a:pt x="12630" y="756"/>
                </a:cubicBezTo>
                <a:cubicBezTo>
                  <a:pt x="12935" y="590"/>
                  <a:pt x="13528" y="450"/>
                  <a:pt x="13589" y="335"/>
                </a:cubicBezTo>
                <a:cubicBezTo>
                  <a:pt x="13901" y="226"/>
                  <a:pt x="14227" y="144"/>
                  <a:pt x="14556" y="89"/>
                </a:cubicBezTo>
                <a:cubicBezTo>
                  <a:pt x="14872" y="35"/>
                  <a:pt x="15195" y="7"/>
                  <a:pt x="15517" y="3"/>
                </a:cubicBezTo>
                <a:cubicBezTo>
                  <a:pt x="15830" y="0"/>
                  <a:pt x="16147" y="22"/>
                  <a:pt x="16458" y="66"/>
                </a:cubicBezTo>
                <a:cubicBezTo>
                  <a:pt x="16764" y="109"/>
                  <a:pt x="17068" y="177"/>
                  <a:pt x="17365" y="264"/>
                </a:cubicBezTo>
                <a:cubicBezTo>
                  <a:pt x="17658" y="349"/>
                  <a:pt x="17946" y="458"/>
                  <a:pt x="18222" y="584"/>
                </a:cubicBezTo>
                <a:cubicBezTo>
                  <a:pt x="18496" y="708"/>
                  <a:pt x="18762" y="854"/>
                  <a:pt x="19015" y="1014"/>
                </a:cubicBezTo>
                <a:cubicBezTo>
                  <a:pt x="19264" y="1172"/>
                  <a:pt x="19504" y="1349"/>
                  <a:pt x="19730" y="1543"/>
                </a:cubicBezTo>
                <a:cubicBezTo>
                  <a:pt x="19950" y="1731"/>
                  <a:pt x="20158" y="1937"/>
                  <a:pt x="20350" y="2155"/>
                </a:cubicBezTo>
                <a:cubicBezTo>
                  <a:pt x="20536" y="2369"/>
                  <a:pt x="20710" y="2598"/>
                  <a:pt x="20861" y="2839"/>
                </a:cubicBezTo>
                <a:cubicBezTo>
                  <a:pt x="21010" y="3074"/>
                  <a:pt x="21143" y="3323"/>
                  <a:pt x="21251" y="3582"/>
                </a:cubicBezTo>
                <a:cubicBezTo>
                  <a:pt x="21357" y="3835"/>
                  <a:pt x="21443" y="4099"/>
                  <a:pt x="21502" y="4370"/>
                </a:cubicBezTo>
                <a:cubicBezTo>
                  <a:pt x="21561" y="4639"/>
                  <a:pt x="21595" y="4916"/>
                  <a:pt x="21600" y="5192"/>
                </a:cubicBezTo>
                <a:cubicBezTo>
                  <a:pt x="21606" y="5474"/>
                  <a:pt x="21584" y="5760"/>
                  <a:pt x="21532" y="6036"/>
                </a:cubicBezTo>
                <a:cubicBezTo>
                  <a:pt x="21478" y="6326"/>
                  <a:pt x="21366" y="6603"/>
                  <a:pt x="21282" y="6887"/>
                </a:cubicBezTo>
                <a:lnTo>
                  <a:pt x="10802" y="21602"/>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3" name=""/>
          <p:cNvSpPr/>
          <p:nvPr/>
        </p:nvSpPr>
        <p:spPr>
          <a:xfrm>
            <a:off x="0" y="2971800"/>
            <a:ext cx="274680" cy="27288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ff"/>
            </a:gs>
            <a:gs pos="50000">
              <a:srgbClr val="ff0000"/>
            </a:gs>
            <a:gs pos="100000">
              <a:srgbClr val="0099ff"/>
            </a:gs>
          </a:gsLst>
          <a:lin ang="8100000"/>
        </a:gradFill>
      </p:bgPr>
    </p:bg>
    <p:spTree>
      <p:nvGrpSpPr>
        <p:cNvPr id="1" name=""/>
        <p:cNvGrpSpPr/>
        <p:nvPr/>
      </p:nvGrpSpPr>
      <p:grpSpPr>
        <a:xfrm>
          <a:off x="0" y="0"/>
          <a:ext cx="0" cy="0"/>
          <a:chOff x="0" y="0"/>
          <a:chExt cx="0" cy="0"/>
        </a:xfrm>
      </p:grpSpPr>
      <p:pic>
        <p:nvPicPr>
          <p:cNvPr id="274" name="" descr=""/>
          <p:cNvPicPr/>
          <p:nvPr/>
        </p:nvPicPr>
        <p:blipFill>
          <a:blip r:embed="rId1"/>
          <a:stretch/>
        </p:blipFill>
        <p:spPr>
          <a:xfrm>
            <a:off x="1371600" y="2606760"/>
            <a:ext cx="6127920" cy="1693800"/>
          </a:xfrm>
          <a:prstGeom prst="rect">
            <a:avLst/>
          </a:prstGeom>
          <a:ln w="0">
            <a:noFill/>
          </a:ln>
        </p:spPr>
      </p:pic>
      <p:sp>
        <p:nvSpPr>
          <p:cNvPr id="275" name=""/>
          <p:cNvSpPr/>
          <p:nvPr/>
        </p:nvSpPr>
        <p:spPr>
          <a:xfrm>
            <a:off x="0" y="3429000"/>
            <a:ext cx="274680" cy="27288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circl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99"/>
            </a:gs>
            <a:gs pos="50000">
              <a:srgbClr val="ff9900"/>
            </a:gs>
            <a:gs pos="100000">
              <a:srgbClr val="ffcc99"/>
            </a:gs>
          </a:gsLst>
          <a:lin ang="13500000"/>
        </a:gradFill>
      </p:bgPr>
    </p:bg>
    <p:spTree>
      <p:nvGrpSpPr>
        <p:cNvPr id="1" name=""/>
        <p:cNvGrpSpPr/>
        <p:nvPr/>
      </p:nvGrpSpPr>
      <p:grpSpPr>
        <a:xfrm>
          <a:off x="0" y="0"/>
          <a:ext cx="0" cy="0"/>
          <a:chOff x="0" y="0"/>
          <a:chExt cx="0" cy="0"/>
        </a:xfrm>
      </p:grpSpPr>
      <p:sp>
        <p:nvSpPr>
          <p:cNvPr id="54" name=""/>
          <p:cNvSpPr/>
          <p:nvPr/>
        </p:nvSpPr>
        <p:spPr>
          <a:xfrm>
            <a:off x="3352680" y="1500840"/>
            <a:ext cx="5410440" cy="2618280"/>
          </a:xfrm>
          <a:prstGeom prst="rect">
            <a:avLst/>
          </a:prstGeom>
          <a:noFill/>
          <a:ln cap="rnd" w="57240">
            <a:solidFill>
              <a:srgbClr val="99ff33"/>
            </a:solidFill>
            <a:custDash>
              <a:ds d="100000" sp="1000"/>
            </a:custDash>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Console"/>
              </a:rPr>
              <a:t>Their appearance confused the scientist who discovered them, because  the first species named was :</a:t>
            </a:r>
            <a:r>
              <a:rPr b="0" lang="en-US" sz="2000" spc="-1" strike="noStrike" u="sng">
                <a:solidFill>
                  <a:srgbClr val="009999"/>
                </a:solidFill>
                <a:uFillTx/>
                <a:latin typeface="Lucida Console"/>
                <a:hlinkClick r:id="rId1"/>
              </a:rPr>
              <a:t>Grylloblatta campodeiformis</a:t>
            </a:r>
            <a:r>
              <a:rPr b="0" lang="en-US" sz="2000" spc="-1" strike="noStrike">
                <a:solidFill>
                  <a:srgbClr val="000000"/>
                </a:solidFill>
                <a:latin typeface="Lucida Console"/>
              </a:rPr>
              <a:t>, which means "It looks like a </a:t>
            </a:r>
            <a:r>
              <a:rPr b="0" lang="en-US" sz="2000" spc="-1" strike="noStrike" u="sng">
                <a:solidFill>
                  <a:srgbClr val="009999"/>
                </a:solidFill>
                <a:uFillTx/>
                <a:latin typeface="Lucida Console"/>
                <a:hlinkClick r:id="rId2"/>
              </a:rPr>
              <a:t>cricket</a:t>
            </a:r>
            <a:r>
              <a:rPr b="0" lang="en-US" sz="2000" spc="-1" strike="noStrike" u="sng">
                <a:solidFill>
                  <a:srgbClr val="000000"/>
                </a:solidFill>
                <a:uFillTx/>
                <a:latin typeface="Lucida Console"/>
              </a:rPr>
              <a:t>, </a:t>
            </a:r>
            <a:r>
              <a:rPr b="0" lang="en-US" sz="2000" spc="-1" strike="noStrike" u="sng">
                <a:solidFill>
                  <a:srgbClr val="009999"/>
                </a:solidFill>
                <a:uFillTx/>
                <a:latin typeface="Lucida Console"/>
                <a:hlinkClick r:id="rId3"/>
              </a:rPr>
              <a:t>cockroach</a:t>
            </a:r>
            <a:r>
              <a:rPr b="0" lang="en-US" sz="2000" spc="-1" strike="noStrike" u="sng">
                <a:solidFill>
                  <a:srgbClr val="000000"/>
                </a:solidFill>
                <a:uFillTx/>
                <a:latin typeface="Lucida Console"/>
              </a:rPr>
              <a:t>, and a </a:t>
            </a:r>
            <a:r>
              <a:rPr b="0" lang="en-US" sz="2000" spc="-1" strike="noStrike" u="sng">
                <a:solidFill>
                  <a:srgbClr val="009999"/>
                </a:solidFill>
                <a:uFillTx/>
                <a:latin typeface="Lucida Console"/>
                <a:hlinkClick r:id="rId4"/>
              </a:rPr>
              <a:t>Campodea</a:t>
            </a:r>
            <a:r>
              <a:rPr b="0" lang="en-US" sz="2000" spc="-1" strike="noStrike" u="sng">
                <a:solidFill>
                  <a:srgbClr val="000000"/>
                </a:solidFill>
                <a:uFillTx/>
                <a:latin typeface="Lucida Console"/>
              </a:rPr>
              <a:t>" (a kind of two-pronged bristletail!)… … … LoL!!      =P</a:t>
            </a:r>
            <a:endParaRPr b="0" lang="en-US" sz="2000" spc="-1" strike="noStrike">
              <a:solidFill>
                <a:srgbClr val="000000"/>
              </a:solidFill>
              <a:latin typeface="Arial"/>
            </a:endParaRPr>
          </a:p>
        </p:txBody>
      </p:sp>
      <p:pic>
        <p:nvPicPr>
          <p:cNvPr id="55" name="" descr="">
            <a:hlinkClick r:id="rId5"/>
          </p:cNvPr>
          <p:cNvPicPr/>
          <p:nvPr/>
        </p:nvPicPr>
        <p:blipFill>
          <a:blip r:embed="rId6"/>
          <a:stretch/>
        </p:blipFill>
        <p:spPr>
          <a:xfrm>
            <a:off x="6477120" y="4343400"/>
            <a:ext cx="1828800" cy="1378080"/>
          </a:xfrm>
          <a:prstGeom prst="rect">
            <a:avLst/>
          </a:prstGeom>
          <a:ln w="0">
            <a:noFill/>
          </a:ln>
        </p:spPr>
      </p:pic>
      <p:pic>
        <p:nvPicPr>
          <p:cNvPr id="56" name="" descr="">
            <a:hlinkClick r:id="rId7"/>
          </p:cNvPr>
          <p:cNvPicPr/>
          <p:nvPr/>
        </p:nvPicPr>
        <p:blipFill>
          <a:blip r:embed="rId8"/>
          <a:stretch/>
        </p:blipFill>
        <p:spPr>
          <a:xfrm>
            <a:off x="609480" y="4267080"/>
            <a:ext cx="1828800" cy="1416240"/>
          </a:xfrm>
          <a:prstGeom prst="rect">
            <a:avLst/>
          </a:prstGeom>
          <a:ln w="0">
            <a:noFill/>
          </a:ln>
        </p:spPr>
      </p:pic>
      <p:pic>
        <p:nvPicPr>
          <p:cNvPr id="57" name="" descr="">
            <a:hlinkClick r:id="rId9"/>
          </p:cNvPr>
          <p:cNvPicPr/>
          <p:nvPr/>
        </p:nvPicPr>
        <p:blipFill>
          <a:blip r:embed="rId10"/>
          <a:stretch/>
        </p:blipFill>
        <p:spPr>
          <a:xfrm>
            <a:off x="3505320" y="4267080"/>
            <a:ext cx="1828800" cy="1441440"/>
          </a:xfrm>
          <a:prstGeom prst="rect">
            <a:avLst/>
          </a:prstGeom>
          <a:ln w="0">
            <a:noFill/>
          </a:ln>
        </p:spPr>
      </p:pic>
      <p:sp>
        <p:nvSpPr>
          <p:cNvPr id="58" name=""/>
          <p:cNvSpPr txBox="1"/>
          <p:nvPr/>
        </p:nvSpPr>
        <p:spPr>
          <a:xfrm>
            <a:off x="228600" y="5867280"/>
            <a:ext cx="2057400" cy="524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8160">
                  <a:solidFill>
                    <a:srgbClr val="000000"/>
                  </a:solidFill>
                  <a:miter/>
                </a:ln>
                <a:solidFill>
                  <a:srgbClr val="808080"/>
                </a:solidFill>
                <a:latin typeface="Arial Rounded MT Bold"/>
              </a:rPr>
              <a:t>Cricket:</a:t>
            </a:r>
            <a:endParaRPr b="0" lang="en-US" sz="1800" spc="1" strike="noStrike">
              <a:ln w="38160">
                <a:solidFill>
                  <a:srgbClr val="000000"/>
                </a:solidFill>
                <a:miter/>
              </a:ln>
              <a:solidFill>
                <a:srgbClr val="808080"/>
              </a:solidFill>
              <a:latin typeface="Arial Rounded MT Bold"/>
              <a:ea typeface="Arial Rounded MT Bold"/>
            </a:endParaRPr>
          </a:p>
        </p:txBody>
      </p:sp>
      <p:sp>
        <p:nvSpPr>
          <p:cNvPr id="59" name=""/>
          <p:cNvSpPr txBox="1"/>
          <p:nvPr/>
        </p:nvSpPr>
        <p:spPr>
          <a:xfrm>
            <a:off x="2971800" y="5867280"/>
            <a:ext cx="2610000" cy="524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8160">
                  <a:solidFill>
                    <a:srgbClr val="000000"/>
                  </a:solidFill>
                  <a:miter/>
                </a:ln>
                <a:solidFill>
                  <a:srgbClr val="808080"/>
                </a:solidFill>
                <a:latin typeface="Arial Rounded MT Bold"/>
              </a:rPr>
              <a:t>Cockroach:</a:t>
            </a:r>
            <a:endParaRPr b="0" lang="en-US" sz="1800" spc="1" strike="noStrike">
              <a:ln w="38160">
                <a:solidFill>
                  <a:srgbClr val="000000"/>
                </a:solidFill>
                <a:miter/>
              </a:ln>
              <a:solidFill>
                <a:srgbClr val="808080"/>
              </a:solidFill>
              <a:latin typeface="Arial Rounded MT Bold"/>
              <a:ea typeface="Arial Rounded MT Bold"/>
            </a:endParaRPr>
          </a:p>
        </p:txBody>
      </p:sp>
      <p:sp>
        <p:nvSpPr>
          <p:cNvPr id="60" name=""/>
          <p:cNvSpPr txBox="1"/>
          <p:nvPr/>
        </p:nvSpPr>
        <p:spPr>
          <a:xfrm>
            <a:off x="6019920" y="5867280"/>
            <a:ext cx="271440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8160">
                  <a:solidFill>
                    <a:srgbClr val="000000"/>
                  </a:solidFill>
                  <a:miter/>
                </a:ln>
                <a:solidFill>
                  <a:srgbClr val="808080"/>
                </a:solidFill>
                <a:latin typeface="Arial Rounded MT Bold"/>
              </a:rPr>
              <a:t>Campodea:</a:t>
            </a:r>
            <a:endParaRPr b="0" lang="en-US" sz="1800" spc="1" strike="noStrike">
              <a:ln w="38160">
                <a:solidFill>
                  <a:srgbClr val="000000"/>
                </a:solidFill>
                <a:miter/>
              </a:ln>
              <a:solidFill>
                <a:srgbClr val="808080"/>
              </a:solidFill>
              <a:latin typeface="Arial Rounded MT Bold"/>
              <a:ea typeface="Arial Rounded MT Bold"/>
            </a:endParaRPr>
          </a:p>
        </p:txBody>
      </p:sp>
      <p:pic>
        <p:nvPicPr>
          <p:cNvPr id="61" name="" descr="">
            <a:hlinkClick r:id="rId11"/>
          </p:cNvPr>
          <p:cNvPicPr/>
          <p:nvPr/>
        </p:nvPicPr>
        <p:blipFill>
          <a:blip r:embed="rId12"/>
          <a:stretch/>
        </p:blipFill>
        <p:spPr>
          <a:xfrm>
            <a:off x="457200" y="1600200"/>
            <a:ext cx="2362320" cy="1476360"/>
          </a:xfrm>
          <a:prstGeom prst="rect">
            <a:avLst/>
          </a:prstGeom>
          <a:ln w="0">
            <a:noFill/>
          </a:ln>
        </p:spPr>
      </p:pic>
      <p:sp>
        <p:nvSpPr>
          <p:cNvPr id="62" name=""/>
          <p:cNvSpPr txBox="1"/>
          <p:nvPr/>
        </p:nvSpPr>
        <p:spPr>
          <a:xfrm>
            <a:off x="304920" y="3352680"/>
            <a:ext cx="2666880" cy="524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8160">
                  <a:solidFill>
                    <a:srgbClr val="000000"/>
                  </a:solidFill>
                  <a:miter/>
                </a:ln>
                <a:solidFill>
                  <a:srgbClr val="808080"/>
                </a:solidFill>
                <a:latin typeface="Arial Rounded MT Bold"/>
              </a:rPr>
              <a:t>Ice Bug:</a:t>
            </a:r>
            <a:endParaRPr b="0" lang="en-US" sz="1800" spc="1" strike="noStrike">
              <a:ln w="38160">
                <a:solidFill>
                  <a:srgbClr val="000000"/>
                </a:solidFill>
                <a:miter/>
              </a:ln>
              <a:solidFill>
                <a:srgbClr val="808080"/>
              </a:solidFill>
              <a:latin typeface="Arial Rounded MT Bold"/>
              <a:ea typeface="Arial Rounded MT Bold"/>
            </a:endParaRPr>
          </a:p>
        </p:txBody>
      </p:sp>
      <p:sp>
        <p:nvSpPr>
          <p:cNvPr id="63" name="PlaceHolder 1"/>
          <p:cNvSpPr>
            <a:spLocks noGrp="1"/>
          </p:cNvSpPr>
          <p:nvPr>
            <p:ph type="title"/>
          </p:nvPr>
        </p:nvSpPr>
        <p:spPr>
          <a:xfrm>
            <a:off x="73188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Arial"/>
              </a:rPr>
              <a:t>How Ice Bugs</a:t>
            </a:r>
            <a:br>
              <a:rPr sz="4000"/>
            </a:br>
            <a:r>
              <a:rPr b="0" lang="en-US" sz="4000" spc="-1" strike="noStrike">
                <a:solidFill>
                  <a:srgbClr val="000000"/>
                </a:solidFill>
                <a:latin typeface="Arial"/>
              </a:rPr>
              <a:t>   [= were discovered =P</a:t>
            </a:r>
            <a:endParaRPr b="0" lang="en-US" sz="4000" spc="-1" strike="noStrike">
              <a:solidFill>
                <a:srgbClr val="000000"/>
              </a:solidFill>
              <a:latin typeface="Arial"/>
            </a:endParaRPr>
          </a:p>
        </p:txBody>
      </p:sp>
      <p:sp>
        <p:nvSpPr>
          <p:cNvPr id="64" name=""/>
          <p:cNvSpPr/>
          <p:nvPr/>
        </p:nvSpPr>
        <p:spPr>
          <a:xfrm>
            <a:off x="3017880" y="1600200"/>
            <a:ext cx="274680" cy="27288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 name=""/>
          <p:cNvSpPr/>
          <p:nvPr/>
        </p:nvSpPr>
        <p:spPr>
          <a:xfrm>
            <a:off x="2835360" y="228600"/>
            <a:ext cx="274680" cy="274680"/>
          </a:xfrm>
          <a:custGeom>
            <a:avLst/>
            <a:gdLst>
              <a:gd name="textAreaLeft" fmla="*/ 64440 w 274680"/>
              <a:gd name="textAreaRight" fmla="*/ 209880 w 274680"/>
              <a:gd name="textAreaTop" fmla="*/ 32040 h 274680"/>
              <a:gd name="textAreaBottom" fmla="*/ 172440 h 274680"/>
            </a:gdLst>
            <a:ahLst/>
            <a:rect l="textAreaLeft" t="textAreaTop" r="textAreaRight" b="textAreaBottom"/>
            <a:pathLst>
              <a:path w="21615" h="21602">
                <a:moveTo>
                  <a:pt x="10800" y="21599"/>
                </a:moveTo>
                <a:lnTo>
                  <a:pt x="321" y="6886"/>
                </a:lnTo>
                <a:lnTo>
                  <a:pt x="70" y="6036"/>
                </a:lnTo>
                <a:cubicBezTo>
                  <a:pt x="-9" y="5766"/>
                  <a:pt x="-1" y="5474"/>
                  <a:pt x="2" y="5192"/>
                </a:cubicBezTo>
                <a:cubicBezTo>
                  <a:pt x="6" y="4918"/>
                  <a:pt x="43" y="4641"/>
                  <a:pt x="101" y="4370"/>
                </a:cubicBezTo>
                <a:cubicBezTo>
                  <a:pt x="159" y="4103"/>
                  <a:pt x="245" y="3837"/>
                  <a:pt x="353" y="3582"/>
                </a:cubicBezTo>
                <a:cubicBezTo>
                  <a:pt x="460" y="3326"/>
                  <a:pt x="591" y="3077"/>
                  <a:pt x="741" y="2839"/>
                </a:cubicBezTo>
                <a:cubicBezTo>
                  <a:pt x="892" y="2598"/>
                  <a:pt x="1066" y="2369"/>
                  <a:pt x="1253" y="2155"/>
                </a:cubicBezTo>
                <a:cubicBezTo>
                  <a:pt x="1443" y="1938"/>
                  <a:pt x="1651" y="1732"/>
                  <a:pt x="1874" y="1543"/>
                </a:cubicBezTo>
                <a:cubicBezTo>
                  <a:pt x="2097" y="1351"/>
                  <a:pt x="2337" y="1174"/>
                  <a:pt x="2587" y="1014"/>
                </a:cubicBezTo>
                <a:cubicBezTo>
                  <a:pt x="2839" y="854"/>
                  <a:pt x="3106" y="708"/>
                  <a:pt x="3380" y="584"/>
                </a:cubicBezTo>
                <a:cubicBezTo>
                  <a:pt x="3656" y="459"/>
                  <a:pt x="3945" y="350"/>
                  <a:pt x="4237" y="264"/>
                </a:cubicBezTo>
                <a:cubicBezTo>
                  <a:pt x="4533" y="176"/>
                  <a:pt x="4838" y="108"/>
                  <a:pt x="5144" y="66"/>
                </a:cubicBezTo>
                <a:cubicBezTo>
                  <a:pt x="5454" y="22"/>
                  <a:pt x="5771" y="1"/>
                  <a:pt x="6086" y="3"/>
                </a:cubicBezTo>
                <a:cubicBezTo>
                  <a:pt x="6407" y="7"/>
                  <a:pt x="6731" y="35"/>
                  <a:pt x="7048" y="89"/>
                </a:cubicBezTo>
                <a:cubicBezTo>
                  <a:pt x="7374" y="144"/>
                  <a:pt x="7700" y="226"/>
                  <a:pt x="8015" y="335"/>
                </a:cubicBezTo>
                <a:cubicBezTo>
                  <a:pt x="8344" y="447"/>
                  <a:pt x="8667" y="590"/>
                  <a:pt x="8972" y="756"/>
                </a:cubicBezTo>
                <a:cubicBezTo>
                  <a:pt x="9297" y="932"/>
                  <a:pt x="9613" y="1135"/>
                  <a:pt x="9907" y="1363"/>
                </a:cubicBezTo>
                <a:cubicBezTo>
                  <a:pt x="10224" y="1609"/>
                  <a:pt x="10504" y="1900"/>
                  <a:pt x="10802" y="2169"/>
                </a:cubicBezTo>
                <a:lnTo>
                  <a:pt x="11697" y="1363"/>
                </a:lnTo>
                <a:cubicBezTo>
                  <a:pt x="11971" y="1116"/>
                  <a:pt x="12304" y="934"/>
                  <a:pt x="12630" y="756"/>
                </a:cubicBezTo>
                <a:cubicBezTo>
                  <a:pt x="12935" y="590"/>
                  <a:pt x="13528" y="450"/>
                  <a:pt x="13589" y="335"/>
                </a:cubicBezTo>
                <a:cubicBezTo>
                  <a:pt x="13901" y="226"/>
                  <a:pt x="14227" y="144"/>
                  <a:pt x="14556" y="89"/>
                </a:cubicBezTo>
                <a:cubicBezTo>
                  <a:pt x="14872" y="35"/>
                  <a:pt x="15195" y="7"/>
                  <a:pt x="15517" y="3"/>
                </a:cubicBezTo>
                <a:cubicBezTo>
                  <a:pt x="15830" y="0"/>
                  <a:pt x="16147" y="22"/>
                  <a:pt x="16458" y="66"/>
                </a:cubicBezTo>
                <a:cubicBezTo>
                  <a:pt x="16764" y="109"/>
                  <a:pt x="17068" y="177"/>
                  <a:pt x="17365" y="264"/>
                </a:cubicBezTo>
                <a:cubicBezTo>
                  <a:pt x="17658" y="349"/>
                  <a:pt x="17946" y="458"/>
                  <a:pt x="18222" y="584"/>
                </a:cubicBezTo>
                <a:cubicBezTo>
                  <a:pt x="18496" y="708"/>
                  <a:pt x="18762" y="854"/>
                  <a:pt x="19015" y="1014"/>
                </a:cubicBezTo>
                <a:cubicBezTo>
                  <a:pt x="19264" y="1172"/>
                  <a:pt x="19504" y="1349"/>
                  <a:pt x="19730" y="1543"/>
                </a:cubicBezTo>
                <a:cubicBezTo>
                  <a:pt x="19950" y="1731"/>
                  <a:pt x="20158" y="1937"/>
                  <a:pt x="20350" y="2155"/>
                </a:cubicBezTo>
                <a:cubicBezTo>
                  <a:pt x="20536" y="2369"/>
                  <a:pt x="20710" y="2598"/>
                  <a:pt x="20861" y="2839"/>
                </a:cubicBezTo>
                <a:cubicBezTo>
                  <a:pt x="21010" y="3074"/>
                  <a:pt x="21143" y="3323"/>
                  <a:pt x="21251" y="3582"/>
                </a:cubicBezTo>
                <a:cubicBezTo>
                  <a:pt x="21357" y="3835"/>
                  <a:pt x="21443" y="4099"/>
                  <a:pt x="21502" y="4370"/>
                </a:cubicBezTo>
                <a:cubicBezTo>
                  <a:pt x="21561" y="4639"/>
                  <a:pt x="21595" y="4916"/>
                  <a:pt x="21600" y="5192"/>
                </a:cubicBezTo>
                <a:cubicBezTo>
                  <a:pt x="21606" y="5474"/>
                  <a:pt x="21584" y="5760"/>
                  <a:pt x="21532" y="6036"/>
                </a:cubicBezTo>
                <a:cubicBezTo>
                  <a:pt x="21478" y="6326"/>
                  <a:pt x="21366" y="6603"/>
                  <a:pt x="21282" y="6887"/>
                </a:cubicBezTo>
                <a:lnTo>
                  <a:pt x="10802" y="21602"/>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advTm="23000">
    <p:checker dir="horz"/>
  </p:transition>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mph" presetID="8">
                                  <p:stCondLst>
                                    <p:cond delay="0"/>
                                  </p:stCondLst>
                                  <p:childTnLst>
                                    <p:animRot by="21600000">
                                      <p:cBhvr>
                                        <p:cTn id="18" dur="1000" fill="hold"/>
                                        <p:tgtEl>
                                          <p:spTgt spid="61"/>
                                        </p:tgtEl>
                                        <p:attrNameLst>
                                          <p:attrName>r</p:attrName>
                                        </p:attrNameLst>
                                      </p:cBhvr>
                                    </p:animRo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8" presetSubtype="16">
                                  <p:stCondLst>
                                    <p:cond delay="0"/>
                                  </p:stCondLst>
                                  <p:childTnLst>
                                    <p:set>
                                      <p:cBhvr>
                                        <p:cTn id="22" dur="1" fill="hold">
                                          <p:stCondLst>
                                            <p:cond delay="0"/>
                                          </p:stCondLst>
                                        </p:cTn>
                                        <p:tgtEl>
                                          <p:spTgt spid="54"/>
                                        </p:tgtEl>
                                        <p:attrNameLst>
                                          <p:attrName>style.visibility</p:attrName>
                                        </p:attrNameLst>
                                      </p:cBhvr>
                                      <p:to>
                                        <p:strVal val="visible"/>
                                      </p:to>
                                    </p:set>
                                    <p:animEffect filter="diamond(in)" transition="in">
                                      <p:cBhvr additive="repl">
                                        <p:cTn id="23" dur="5000"/>
                                        <p:tgtEl>
                                          <p:spTgt spid="54"/>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mph" presetID="8">
                                  <p:stCondLst>
                                    <p:cond delay="0"/>
                                  </p:stCondLst>
                                  <p:childTnLst>
                                    <p:animRot by="21600000">
                                      <p:cBhvr>
                                        <p:cTn id="27" dur="5000" fill="hold"/>
                                        <p:tgtEl>
                                          <p:spTgt spid="56"/>
                                        </p:tgtEl>
                                        <p:attrNameLst>
                                          <p:attrName>r</p:attrName>
                                        </p:attrNameLst>
                                      </p:cBhvr>
                                    </p:animRot>
                                  </p:childTnLst>
                                </p:cTn>
                              </p:par>
                            </p:childTnLst>
                          </p:cTn>
                        </p:par>
                      </p:childTnLst>
                    </p:cTn>
                  </p:par>
                  <p:par>
                    <p:cTn id="28" fill="hold">
                      <p:stCondLst>
                        <p:cond delay="indefinite"/>
                      </p:stCondLst>
                      <p:childTnLst>
                        <p:par>
                          <p:cTn id="29" fill="hold">
                            <p:stCondLst>
                              <p:cond delay="0"/>
                            </p:stCondLst>
                            <p:childTnLst>
                              <p:par>
                                <p:cTn id="30" nodeType="clickEffect" fill="hold" presetClass="emph" presetID="8">
                                  <p:stCondLst>
                                    <p:cond delay="0"/>
                                  </p:stCondLst>
                                  <p:childTnLst>
                                    <p:animRot by="21600000">
                                      <p:cBhvr>
                                        <p:cTn id="31" dur="3000" fill="hold"/>
                                        <p:tgtEl>
                                          <p:spTgt spid="57"/>
                                        </p:tgtEl>
                                        <p:attrNameLst>
                                          <p:attrName>r</p:attrName>
                                        </p:attrNameLst>
                                      </p:cBhvr>
                                    </p:animRot>
                                  </p:childTnLst>
                                </p:cTn>
                              </p:par>
                            </p:childTnLst>
                          </p:cTn>
                        </p:par>
                      </p:childTnLst>
                    </p:cTn>
                  </p:par>
                  <p:par>
                    <p:cTn id="32" fill="hold">
                      <p:stCondLst>
                        <p:cond delay="indefinite"/>
                      </p:stCondLst>
                      <p:childTnLst>
                        <p:par>
                          <p:cTn id="33" fill="hold">
                            <p:stCondLst>
                              <p:cond delay="0"/>
                            </p:stCondLst>
                            <p:childTnLst>
                              <p:par>
                                <p:cTn id="34" nodeType="clickEffect" fill="hold" presetClass="emph" presetID="8">
                                  <p:stCondLst>
                                    <p:cond delay="0"/>
                                  </p:stCondLst>
                                  <p:childTnLst>
                                    <p:animRot by="21600000">
                                      <p:cBhvr>
                                        <p:cTn id="35" dur="2000" fill="hold"/>
                                        <p:tgtEl>
                                          <p:spTgt spid="55"/>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solidFill>
            <a:srgbClr val="ffff66"/>
          </a:solidFill>
          <a:ln w="57240">
            <a:solidFill>
              <a:srgbClr val="00ccff"/>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33ff"/>
                </a:solidFill>
                <a:latin typeface="Courier New"/>
              </a:rPr>
              <a:t>Habitats:</a:t>
            </a:r>
            <a:endParaRPr b="0" lang="en-US" sz="5400" spc="-1" strike="noStrike">
              <a:solidFill>
                <a:srgbClr val="000000"/>
              </a:solidFill>
              <a:latin typeface="Arial"/>
            </a:endParaRPr>
          </a:p>
        </p:txBody>
      </p:sp>
      <p:sp>
        <p:nvSpPr>
          <p:cNvPr id="277" name=""/>
          <p:cNvSpPr/>
          <p:nvPr/>
        </p:nvSpPr>
        <p:spPr>
          <a:xfrm>
            <a:off x="533520" y="2467440"/>
            <a:ext cx="7315200" cy="2288520"/>
          </a:xfrm>
          <a:prstGeom prst="rect">
            <a:avLst/>
          </a:prstGeom>
          <a:solidFill>
            <a:srgbClr val="99ffcc"/>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800" spc="-1" strike="noStrike">
                <a:solidFill>
                  <a:srgbClr val="000000"/>
                </a:solidFill>
                <a:latin typeface="Lucida Console"/>
              </a:rPr>
              <a:t>Habitat:</a:t>
            </a:r>
            <a:r>
              <a:rPr b="0" lang="en" sz="1800" spc="-1" strike="noStrike">
                <a:solidFill>
                  <a:srgbClr val="000000"/>
                </a:solidFill>
                <a:latin typeface="Lucida Console"/>
              </a:rPr>
              <a:t> Northern ice Bug’s live in mountains above the highest point where trees can grow. They prefer habitats where there is plenty of moisture and the temperatures range between 3°C and 15°C , such as the edges of glacial bogs in moss, decaying wood, or damp areas deep under rocks. They are sometimes buried up to 1 meter in piles of pebbles, small stones, and other rocky debris.</a:t>
            </a:r>
            <a:endParaRPr b="0" lang="en-US" sz="1800" spc="-1" strike="noStrike">
              <a:solidFill>
                <a:srgbClr val="000000"/>
              </a:solidFill>
              <a:latin typeface="Arial"/>
            </a:endParaRPr>
          </a:p>
        </p:txBody>
      </p:sp>
      <p:sp>
        <p:nvSpPr>
          <p:cNvPr id="278" name=""/>
          <p:cNvSpPr/>
          <p:nvPr/>
        </p:nvSpPr>
        <p:spPr>
          <a:xfrm>
            <a:off x="182520" y="3154320"/>
            <a:ext cx="274680" cy="27324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checker dir="horz"/>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ff"/>
            </a:gs>
            <a:gs pos="50000">
              <a:srgbClr val="66ff99"/>
            </a:gs>
            <a:gs pos="100000">
              <a:srgbClr val="ff99ff"/>
            </a:gs>
          </a:gsLst>
          <a:lin ang="13500000"/>
        </a:gradFill>
      </p:bgPr>
    </p:bg>
    <p:spTree>
      <p:nvGrpSpPr>
        <p:cNvPr id="1" name=""/>
        <p:cNvGrpSpPr/>
        <p:nvPr/>
      </p:nvGrpSpPr>
      <p:grpSpPr>
        <a:xfrm>
          <a:off x="0" y="0"/>
          <a:ext cx="0" cy="0"/>
          <a:chOff x="0" y="0"/>
          <a:chExt cx="0" cy="0"/>
        </a:xfrm>
      </p:grpSpPr>
      <p:pic>
        <p:nvPicPr>
          <p:cNvPr id="279" name="" descr=""/>
          <p:cNvPicPr/>
          <p:nvPr/>
        </p:nvPicPr>
        <p:blipFill>
          <a:blip r:embed="rId1"/>
          <a:stretch/>
        </p:blipFill>
        <p:spPr>
          <a:xfrm>
            <a:off x="1096920" y="2239920"/>
            <a:ext cx="6858000" cy="1461960"/>
          </a:xfrm>
          <a:prstGeom prst="rect">
            <a:avLst/>
          </a:prstGeom>
          <a:ln w="0">
            <a:noFill/>
          </a:ln>
        </p:spPr>
      </p:pic>
      <p:sp>
        <p:nvSpPr>
          <p:cNvPr id="280" name=""/>
          <p:cNvSpPr/>
          <p:nvPr/>
        </p:nvSpPr>
        <p:spPr>
          <a:xfrm>
            <a:off x="0" y="3611520"/>
            <a:ext cx="274680" cy="27324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split dir="out" orient="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solidFill>
            <a:srgbClr val="9933ff"/>
          </a:solidFill>
          <a:ln w="57240">
            <a:solidFill>
              <a:srgbClr val="ff00ff"/>
            </a:solidFill>
            <a:prstDash val="dashDot"/>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Courier New"/>
              </a:rPr>
              <a:t>Food Chain:</a:t>
            </a:r>
            <a:endParaRPr b="0" lang="en-US" sz="4400" spc="-1" strike="noStrike">
              <a:solidFill>
                <a:srgbClr val="000000"/>
              </a:solidFill>
              <a:latin typeface="Arial"/>
            </a:endParaRPr>
          </a:p>
        </p:txBody>
      </p:sp>
      <p:pic>
        <p:nvPicPr>
          <p:cNvPr id="282" name="images" descr="">
            <a:hlinkClick r:id="rId2"/>
          </p:cNvPr>
          <p:cNvPicPr/>
          <p:nvPr/>
        </p:nvPicPr>
        <p:blipFill>
          <a:blip r:embed="rId3"/>
          <a:stretch/>
        </p:blipFill>
        <p:spPr>
          <a:xfrm>
            <a:off x="6248520" y="2819520"/>
            <a:ext cx="1209600" cy="1209600"/>
          </a:xfrm>
          <a:prstGeom prst="rect">
            <a:avLst/>
          </a:prstGeom>
          <a:ln w="0">
            <a:noFill/>
          </a:ln>
        </p:spPr>
      </p:pic>
      <p:sp>
        <p:nvSpPr>
          <p:cNvPr id="283" name=""/>
          <p:cNvSpPr txBox="1"/>
          <p:nvPr/>
        </p:nvSpPr>
        <p:spPr>
          <a:xfrm>
            <a:off x="838080" y="2666880"/>
            <a:ext cx="1371600" cy="22860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Rounded MT Bold"/>
              </a:rPr>
              <a:t>Larvae:</a:t>
            </a:r>
            <a:endParaRPr b="0" lang="en-US" sz="1800" spc="1" strike="noStrike">
              <a:ln w="9360">
                <a:solidFill>
                  <a:srgbClr val="000000"/>
                </a:solidFill>
                <a:miter/>
              </a:ln>
              <a:solidFill>
                <a:srgbClr val="000000"/>
              </a:solidFill>
              <a:latin typeface="Arial Rounded MT Bold"/>
              <a:ea typeface="Arial Rounded MT Bold"/>
            </a:endParaRPr>
          </a:p>
        </p:txBody>
      </p:sp>
      <p:sp>
        <p:nvSpPr>
          <p:cNvPr id="284" name=""/>
          <p:cNvSpPr txBox="1"/>
          <p:nvPr/>
        </p:nvSpPr>
        <p:spPr>
          <a:xfrm>
            <a:off x="5943600" y="2666880"/>
            <a:ext cx="1943280" cy="45720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solidFill>
                  <a:srgbClr val="000000"/>
                </a:solidFill>
                <a:latin typeface="Arial Rounded MT Bold"/>
              </a:rPr>
              <a:t>Dead Insects:</a:t>
            </a:r>
            <a:endParaRPr b="0" lang="en-US" sz="3200" spc="1" strike="noStrike">
              <a:ln w="9360">
                <a:solidFill>
                  <a:srgbClr val="000000"/>
                </a:solidFill>
                <a:miter/>
              </a:ln>
              <a:solidFill>
                <a:srgbClr val="000000"/>
              </a:solidFill>
              <a:latin typeface="Arial Rounded MT Bold"/>
              <a:ea typeface="Arial Rounded MT Bold"/>
            </a:endParaRPr>
          </a:p>
        </p:txBody>
      </p:sp>
      <p:pic>
        <p:nvPicPr>
          <p:cNvPr id="285" name="images" descr="">
            <a:hlinkClick r:id="rId4"/>
          </p:cNvPr>
          <p:cNvPicPr/>
          <p:nvPr/>
        </p:nvPicPr>
        <p:blipFill>
          <a:blip r:embed="rId5"/>
          <a:stretch/>
        </p:blipFill>
        <p:spPr>
          <a:xfrm>
            <a:off x="914400" y="2971800"/>
            <a:ext cx="1238400" cy="895320"/>
          </a:xfrm>
          <a:prstGeom prst="rect">
            <a:avLst/>
          </a:prstGeom>
          <a:ln w="0">
            <a:noFill/>
          </a:ln>
        </p:spPr>
      </p:pic>
      <p:sp>
        <p:nvSpPr>
          <p:cNvPr id="286" name=""/>
          <p:cNvSpPr txBox="1"/>
          <p:nvPr/>
        </p:nvSpPr>
        <p:spPr>
          <a:xfrm>
            <a:off x="3048120" y="4114800"/>
            <a:ext cx="2171520" cy="52380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Rounded MT Bold"/>
              </a:rPr>
              <a:t>Ice Bugs:</a:t>
            </a:r>
            <a:endParaRPr b="0" lang="en-US" sz="1800" spc="1" strike="noStrike">
              <a:ln w="9360">
                <a:solidFill>
                  <a:srgbClr val="000000"/>
                </a:solidFill>
                <a:miter/>
              </a:ln>
              <a:solidFill>
                <a:srgbClr val="000000"/>
              </a:solidFill>
              <a:latin typeface="Arial Rounded MT Bold"/>
              <a:ea typeface="Arial Rounded MT Bold"/>
            </a:endParaRPr>
          </a:p>
        </p:txBody>
      </p:sp>
      <p:pic>
        <p:nvPicPr>
          <p:cNvPr id="287" name="IL1Z4LAZRLRRIHAHIHDH4HRRWHAZUHAZUHDHZLNZ7L1Z9H3H4LAZMLFHPHYH6HVZWHLR9HVZQL2ZGLLREHNZLLNZ6H" descr="grylloblattid - Grylloblatta - female">
            <a:hlinkClick r:id="rId6"/>
          </p:cNvPr>
          <p:cNvPicPr/>
          <p:nvPr/>
        </p:nvPicPr>
        <p:blipFill>
          <a:blip r:embed="rId7"/>
          <a:stretch/>
        </p:blipFill>
        <p:spPr>
          <a:xfrm>
            <a:off x="3276720" y="4495680"/>
            <a:ext cx="1714320" cy="1043280"/>
          </a:xfrm>
          <a:prstGeom prst="rect">
            <a:avLst/>
          </a:prstGeom>
          <a:ln w="0">
            <a:noFill/>
          </a:ln>
        </p:spPr>
      </p:pic>
      <p:sp>
        <p:nvSpPr>
          <p:cNvPr id="288" name=""/>
          <p:cNvSpPr txBox="1"/>
          <p:nvPr/>
        </p:nvSpPr>
        <p:spPr>
          <a:xfrm>
            <a:off x="5715000" y="4114800"/>
            <a:ext cx="2514600" cy="5716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00"/>
                  </a:solidFill>
                  <a:miter/>
                </a:ln>
                <a:solidFill>
                  <a:srgbClr val="000000"/>
                </a:solidFill>
                <a:latin typeface="Arial Rounded MT Bold"/>
              </a:rPr>
              <a:t>Yellow Pond Lily:</a:t>
            </a:r>
            <a:endParaRPr b="0" lang="en-US" sz="2800" spc="1" strike="noStrike">
              <a:ln w="9360">
                <a:solidFill>
                  <a:srgbClr val="000000"/>
                </a:solidFill>
                <a:miter/>
              </a:ln>
              <a:solidFill>
                <a:srgbClr val="000000"/>
              </a:solidFill>
              <a:latin typeface="Arial Rounded MT Bold"/>
              <a:ea typeface="Arial Rounded MT Bold"/>
            </a:endParaRPr>
          </a:p>
        </p:txBody>
      </p:sp>
      <p:pic>
        <p:nvPicPr>
          <p:cNvPr id="289" name="images" descr="">
            <a:hlinkClick r:id="rId8"/>
          </p:cNvPr>
          <p:cNvPicPr/>
          <p:nvPr/>
        </p:nvPicPr>
        <p:blipFill>
          <a:blip r:embed="rId9"/>
          <a:stretch/>
        </p:blipFill>
        <p:spPr>
          <a:xfrm>
            <a:off x="6324480" y="4343400"/>
            <a:ext cx="1181160" cy="1019160"/>
          </a:xfrm>
          <a:prstGeom prst="rect">
            <a:avLst/>
          </a:prstGeom>
          <a:ln w="0">
            <a:noFill/>
          </a:ln>
        </p:spPr>
      </p:pic>
      <p:pic>
        <p:nvPicPr>
          <p:cNvPr id="290" name="images" descr="">
            <a:hlinkClick r:id="rId10"/>
          </p:cNvPr>
          <p:cNvPicPr/>
          <p:nvPr/>
        </p:nvPicPr>
        <p:blipFill>
          <a:blip r:embed="rId11"/>
          <a:stretch/>
        </p:blipFill>
        <p:spPr>
          <a:xfrm>
            <a:off x="609480" y="4343400"/>
            <a:ext cx="1714680" cy="1165320"/>
          </a:xfrm>
          <a:prstGeom prst="rect">
            <a:avLst/>
          </a:prstGeom>
          <a:ln w="0">
            <a:noFill/>
          </a:ln>
        </p:spPr>
      </p:pic>
      <p:sp>
        <p:nvSpPr>
          <p:cNvPr id="291" name=""/>
          <p:cNvSpPr txBox="1"/>
          <p:nvPr/>
        </p:nvSpPr>
        <p:spPr>
          <a:xfrm>
            <a:off x="304920" y="4343400"/>
            <a:ext cx="2286000" cy="228600"/>
          </a:xfrm>
          <a:prstGeom prst="rect">
            <a:avLst/>
          </a:prstGeom>
        </p:spPr>
        <p:txBody>
          <a:bodyPr wrap="none" fromWordArt="1" lIns="90000" rIns="90000" tIns="46800" bIns="46800" anchor="t" anchorCtr="1">
            <a:prstTxWarp prst="textArchUp">
              <a:avLst>
                <a:gd name="adj" fmla="val 1262548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Rounded MT Bold"/>
              </a:rPr>
              <a:t>Other bugs:</a:t>
            </a:r>
            <a:endParaRPr b="0" lang="en-US" sz="1800" spc="1" strike="noStrike">
              <a:ln w="9360">
                <a:solidFill>
                  <a:srgbClr val="000000"/>
                </a:solidFill>
                <a:miter/>
              </a:ln>
              <a:solidFill>
                <a:srgbClr val="000000"/>
              </a:solidFill>
              <a:latin typeface="Arial Rounded MT Bold"/>
              <a:ea typeface="Arial Rounded MT Bold"/>
            </a:endParaRPr>
          </a:p>
        </p:txBody>
      </p:sp>
      <p:pic>
        <p:nvPicPr>
          <p:cNvPr id="292" name="liztail" descr=""/>
          <p:cNvPicPr/>
          <p:nvPr/>
        </p:nvPicPr>
        <p:blipFill>
          <a:blip r:embed="rId12"/>
          <a:stretch/>
        </p:blipFill>
        <p:spPr>
          <a:xfrm>
            <a:off x="838080" y="5943600"/>
            <a:ext cx="1600200" cy="914400"/>
          </a:xfrm>
          <a:prstGeom prst="rect">
            <a:avLst/>
          </a:prstGeom>
          <a:ln w="0">
            <a:noFill/>
          </a:ln>
        </p:spPr>
      </p:pic>
      <p:sp>
        <p:nvSpPr>
          <p:cNvPr id="293" name=""/>
          <p:cNvSpPr txBox="1"/>
          <p:nvPr/>
        </p:nvSpPr>
        <p:spPr>
          <a:xfrm>
            <a:off x="533520" y="5715000"/>
            <a:ext cx="2342880" cy="44784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Rounded MT Bold"/>
              </a:rPr>
              <a:t>Lizard tail:</a:t>
            </a:r>
            <a:endParaRPr b="0" lang="en-US" sz="1800" spc="1" strike="noStrike">
              <a:ln w="9360">
                <a:solidFill>
                  <a:srgbClr val="000000"/>
                </a:solidFill>
                <a:miter/>
              </a:ln>
              <a:solidFill>
                <a:srgbClr val="000000"/>
              </a:solidFill>
              <a:latin typeface="Arial Rounded MT Bold"/>
              <a:ea typeface="Arial Rounded MT Bold"/>
            </a:endParaRPr>
          </a:p>
        </p:txBody>
      </p:sp>
      <p:pic>
        <p:nvPicPr>
          <p:cNvPr id="294" name="images" descr="">
            <a:hlinkClick r:id="rId13"/>
          </p:cNvPr>
          <p:cNvPicPr/>
          <p:nvPr/>
        </p:nvPicPr>
        <p:blipFill>
          <a:blip r:embed="rId14"/>
          <a:stretch/>
        </p:blipFill>
        <p:spPr>
          <a:xfrm>
            <a:off x="6248520" y="5867280"/>
            <a:ext cx="1030320" cy="990720"/>
          </a:xfrm>
          <a:prstGeom prst="rect">
            <a:avLst/>
          </a:prstGeom>
          <a:ln w="0">
            <a:noFill/>
          </a:ln>
        </p:spPr>
      </p:pic>
      <p:sp>
        <p:nvSpPr>
          <p:cNvPr id="295" name=""/>
          <p:cNvSpPr txBox="1"/>
          <p:nvPr/>
        </p:nvSpPr>
        <p:spPr>
          <a:xfrm>
            <a:off x="5410080" y="5715000"/>
            <a:ext cx="2676600" cy="52380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Rounded MT Bold"/>
              </a:rPr>
              <a:t>Crane Flies:</a:t>
            </a:r>
            <a:endParaRPr b="0" lang="en-US" sz="1800" spc="1" strike="noStrike">
              <a:ln w="9360">
                <a:solidFill>
                  <a:srgbClr val="000000"/>
                </a:solidFill>
                <a:miter/>
              </a:ln>
              <a:solidFill>
                <a:srgbClr val="000000"/>
              </a:solidFill>
              <a:latin typeface="Arial Rounded MT Bold"/>
              <a:ea typeface="Arial Rounded MT Bold"/>
            </a:endParaRPr>
          </a:p>
        </p:txBody>
      </p:sp>
      <p:sp>
        <p:nvSpPr>
          <p:cNvPr id="296" name=""/>
          <p:cNvSpPr/>
          <p:nvPr/>
        </p:nvSpPr>
        <p:spPr>
          <a:xfrm>
            <a:off x="2133720" y="3581280"/>
            <a:ext cx="1218960" cy="457200"/>
          </a:xfrm>
          <a:prstGeom prst="line">
            <a:avLst/>
          </a:prstGeom>
          <a:ln w="5724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5029200" y="4495680"/>
            <a:ext cx="1143000" cy="457200"/>
          </a:xfrm>
          <a:prstGeom prst="line">
            <a:avLst/>
          </a:prstGeom>
          <a:ln w="5724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a:off x="2209680" y="3276720"/>
            <a:ext cx="3886200" cy="0"/>
          </a:xfrm>
          <a:prstGeom prst="line">
            <a:avLst/>
          </a:prstGeom>
          <a:ln w="5724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flipV="1">
            <a:off x="609480" y="1523880"/>
            <a:ext cx="0" cy="457200"/>
          </a:xfrm>
          <a:prstGeom prst="line">
            <a:avLst/>
          </a:prstGeom>
          <a:ln w="5724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txBox="1"/>
          <p:nvPr/>
        </p:nvSpPr>
        <p:spPr>
          <a:xfrm>
            <a:off x="838080" y="1752480"/>
            <a:ext cx="304920" cy="76320"/>
          </a:xfrm>
          <a:prstGeom prst="rect">
            <a:avLst/>
          </a:prstGeom>
        </p:spPr>
        <p:txBody>
          <a:bodyPr wrap="none" fromWordArt="1" lIns="90000" rIns="90000" tIns="29520" bIns="2952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Rounded MT Bold"/>
              </a:rPr>
              <a:t>=</a:t>
            </a:r>
            <a:endParaRPr b="0" lang="en-US" sz="1800" spc="1" strike="noStrike">
              <a:ln w="9360">
                <a:solidFill>
                  <a:srgbClr val="000000"/>
                </a:solidFill>
                <a:miter/>
              </a:ln>
              <a:solidFill>
                <a:srgbClr val="000000"/>
              </a:solidFill>
              <a:latin typeface="Arial Rounded MT Bold"/>
              <a:ea typeface="Arial Rounded MT Bold"/>
            </a:endParaRPr>
          </a:p>
        </p:txBody>
      </p:sp>
      <p:sp>
        <p:nvSpPr>
          <p:cNvPr id="301" name=""/>
          <p:cNvSpPr txBox="1"/>
          <p:nvPr/>
        </p:nvSpPr>
        <p:spPr>
          <a:xfrm>
            <a:off x="1295280" y="1600200"/>
            <a:ext cx="2133720" cy="228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solidFill>
                  <a:srgbClr val="000000"/>
                </a:solidFill>
                <a:latin typeface="Arial Rounded MT Bold"/>
              </a:rPr>
              <a:t>What larvae eat</a:t>
            </a:r>
            <a:endParaRPr b="0" lang="en-US" sz="1600" spc="1" strike="noStrike">
              <a:ln w="9360">
                <a:solidFill>
                  <a:srgbClr val="000000"/>
                </a:solidFill>
                <a:miter/>
              </a:ln>
              <a:solidFill>
                <a:srgbClr val="000000"/>
              </a:solidFill>
              <a:latin typeface="Arial Rounded MT Bold"/>
              <a:ea typeface="Arial Rounded MT Bold"/>
            </a:endParaRPr>
          </a:p>
        </p:txBody>
      </p:sp>
      <p:sp>
        <p:nvSpPr>
          <p:cNvPr id="302" name=""/>
          <p:cNvSpPr txBox="1"/>
          <p:nvPr/>
        </p:nvSpPr>
        <p:spPr>
          <a:xfrm>
            <a:off x="762120" y="2286000"/>
            <a:ext cx="304560" cy="1522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Rounded MT Bold"/>
              </a:rPr>
              <a:t>=</a:t>
            </a:r>
            <a:endParaRPr b="0" lang="en-US" sz="1800" spc="1" strike="noStrike">
              <a:ln w="9360">
                <a:solidFill>
                  <a:srgbClr val="000000"/>
                </a:solidFill>
                <a:miter/>
              </a:ln>
              <a:solidFill>
                <a:srgbClr val="000000"/>
              </a:solidFill>
              <a:latin typeface="Arial Rounded MT Bold"/>
              <a:ea typeface="Arial Rounded MT Bold"/>
            </a:endParaRPr>
          </a:p>
        </p:txBody>
      </p:sp>
      <p:sp>
        <p:nvSpPr>
          <p:cNvPr id="303" name=""/>
          <p:cNvSpPr/>
          <p:nvPr/>
        </p:nvSpPr>
        <p:spPr>
          <a:xfrm>
            <a:off x="533520" y="2057400"/>
            <a:ext cx="152280" cy="457200"/>
          </a:xfrm>
          <a:prstGeom prst="upArrow">
            <a:avLst>
              <a:gd name="adj1" fmla="val 50000"/>
              <a:gd name="adj2" fmla="val 75059"/>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4" name=""/>
          <p:cNvSpPr/>
          <p:nvPr/>
        </p:nvSpPr>
        <p:spPr>
          <a:xfrm rot="3678000">
            <a:off x="5469480" y="3292920"/>
            <a:ext cx="338040" cy="1066680"/>
          </a:xfrm>
          <a:prstGeom prst="upArrow">
            <a:avLst>
              <a:gd name="adj1" fmla="val 50000"/>
              <a:gd name="adj2" fmla="val 78887"/>
            </a:avLst>
          </a:prstGeom>
          <a:solidFill>
            <a:srgbClr val="ffff00"/>
          </a:solid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5" name=""/>
          <p:cNvSpPr/>
          <p:nvPr/>
        </p:nvSpPr>
        <p:spPr>
          <a:xfrm rot="17551200">
            <a:off x="2688120" y="2797920"/>
            <a:ext cx="338400" cy="1447560"/>
          </a:xfrm>
          <a:prstGeom prst="upArrow">
            <a:avLst>
              <a:gd name="adj1" fmla="val 50000"/>
              <a:gd name="adj2" fmla="val 106941"/>
            </a:avLst>
          </a:prstGeom>
          <a:solidFill>
            <a:srgbClr val="ffff00"/>
          </a:solid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6" name=""/>
          <p:cNvSpPr/>
          <p:nvPr/>
        </p:nvSpPr>
        <p:spPr>
          <a:xfrm rot="7623000">
            <a:off x="5102280" y="4771440"/>
            <a:ext cx="414360" cy="990360"/>
          </a:xfrm>
          <a:prstGeom prst="upArrow">
            <a:avLst>
              <a:gd name="adj1" fmla="val 50000"/>
              <a:gd name="adj2" fmla="val 59752"/>
            </a:avLst>
          </a:prstGeom>
          <a:solidFill>
            <a:srgbClr val="ffff00"/>
          </a:solid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7" name=""/>
          <p:cNvSpPr/>
          <p:nvPr/>
        </p:nvSpPr>
        <p:spPr>
          <a:xfrm rot="13465200">
            <a:off x="2666160" y="5275080"/>
            <a:ext cx="414360" cy="1582560"/>
          </a:xfrm>
          <a:prstGeom prst="upArrow">
            <a:avLst>
              <a:gd name="adj1" fmla="val 50000"/>
              <a:gd name="adj2" fmla="val 95482"/>
            </a:avLst>
          </a:prstGeom>
          <a:solidFill>
            <a:srgbClr val="ffff00"/>
          </a:solid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8" name=""/>
          <p:cNvSpPr/>
          <p:nvPr/>
        </p:nvSpPr>
        <p:spPr>
          <a:xfrm rot="16200000">
            <a:off x="2565360" y="4444920"/>
            <a:ext cx="414360" cy="820440"/>
          </a:xfrm>
          <a:prstGeom prst="upArrow">
            <a:avLst>
              <a:gd name="adj1" fmla="val 50000"/>
              <a:gd name="adj2" fmla="val 49500"/>
            </a:avLst>
          </a:prstGeom>
          <a:solidFill>
            <a:srgbClr val="ffff00"/>
          </a:solid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9" name=""/>
          <p:cNvSpPr txBox="1"/>
          <p:nvPr/>
        </p:nvSpPr>
        <p:spPr>
          <a:xfrm>
            <a:off x="1219320" y="2057400"/>
            <a:ext cx="1942920" cy="343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9360">
                  <a:solidFill>
                    <a:srgbClr val="000000"/>
                  </a:solidFill>
                  <a:miter/>
                </a:ln>
                <a:solidFill>
                  <a:srgbClr val="000000"/>
                </a:solidFill>
                <a:latin typeface="Arial Rounded MT Bold"/>
              </a:rPr>
              <a:t>what the Ice Bug eats.</a:t>
            </a:r>
            <a:endParaRPr b="0" lang="en-US" sz="800" spc="1" strike="noStrike">
              <a:ln w="9360">
                <a:solidFill>
                  <a:srgbClr val="000000"/>
                </a:solidFill>
                <a:miter/>
              </a:ln>
              <a:solidFill>
                <a:srgbClr val="000000"/>
              </a:solidFill>
              <a:latin typeface="Arial Rounded MT Bold"/>
              <a:ea typeface="Arial Rounded MT Bold"/>
            </a:endParaRPr>
          </a:p>
        </p:txBody>
      </p:sp>
      <p:sp>
        <p:nvSpPr>
          <p:cNvPr id="310" name=""/>
          <p:cNvSpPr/>
          <p:nvPr/>
        </p:nvSpPr>
        <p:spPr>
          <a:xfrm flipV="1">
            <a:off x="3657600" y="1523880"/>
            <a:ext cx="0" cy="457200"/>
          </a:xfrm>
          <a:prstGeom prst="line">
            <a:avLst/>
          </a:prstGeom>
          <a:ln w="7632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txBox="1"/>
          <p:nvPr/>
        </p:nvSpPr>
        <p:spPr>
          <a:xfrm>
            <a:off x="3886200" y="1828800"/>
            <a:ext cx="304920" cy="76320"/>
          </a:xfrm>
          <a:prstGeom prst="rect">
            <a:avLst/>
          </a:prstGeom>
        </p:spPr>
        <p:txBody>
          <a:bodyPr wrap="none" fromWordArt="1" lIns="90000" rIns="90000" tIns="29520" bIns="2952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Rounded MT Bold"/>
              </a:rPr>
              <a:t>=</a:t>
            </a:r>
            <a:endParaRPr b="0" lang="en-US" sz="1800" spc="1" strike="noStrike">
              <a:ln w="9360">
                <a:solidFill>
                  <a:srgbClr val="000000"/>
                </a:solidFill>
                <a:miter/>
              </a:ln>
              <a:solidFill>
                <a:srgbClr val="000000"/>
              </a:solidFill>
              <a:latin typeface="Arial Rounded MT Bold"/>
              <a:ea typeface="Arial Rounded MT Bold"/>
            </a:endParaRPr>
          </a:p>
        </p:txBody>
      </p:sp>
      <p:sp>
        <p:nvSpPr>
          <p:cNvPr id="312" name=""/>
          <p:cNvSpPr txBox="1"/>
          <p:nvPr/>
        </p:nvSpPr>
        <p:spPr>
          <a:xfrm>
            <a:off x="4343400" y="1600200"/>
            <a:ext cx="1943280" cy="343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9360">
                  <a:solidFill>
                    <a:srgbClr val="000000"/>
                  </a:solidFill>
                  <a:miter/>
                </a:ln>
                <a:solidFill>
                  <a:srgbClr val="000000"/>
                </a:solidFill>
                <a:latin typeface="Arial Rounded MT Bold"/>
              </a:rPr>
              <a:t>What other bugs eat</a:t>
            </a:r>
            <a:endParaRPr b="0" lang="en-US" sz="800" spc="1" strike="noStrike">
              <a:ln w="9360">
                <a:solidFill>
                  <a:srgbClr val="000000"/>
                </a:solidFill>
                <a:miter/>
              </a:ln>
              <a:solidFill>
                <a:srgbClr val="000000"/>
              </a:solidFill>
              <a:latin typeface="Arial Rounded MT Bold"/>
              <a:ea typeface="Arial Rounded MT Bold"/>
            </a:endParaRPr>
          </a:p>
        </p:txBody>
      </p:sp>
      <p:sp>
        <p:nvSpPr>
          <p:cNvPr id="313" name=""/>
          <p:cNvSpPr/>
          <p:nvPr/>
        </p:nvSpPr>
        <p:spPr>
          <a:xfrm flipV="1">
            <a:off x="1523880" y="3733920"/>
            <a:ext cx="0" cy="380880"/>
          </a:xfrm>
          <a:prstGeom prst="line">
            <a:avLst/>
          </a:prstGeom>
          <a:ln w="5724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2133720" y="5257800"/>
            <a:ext cx="990360" cy="380880"/>
          </a:xfrm>
          <a:prstGeom prst="line">
            <a:avLst/>
          </a:prstGeom>
          <a:ln w="57240">
            <a:solidFill>
              <a:srgbClr val="33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3429000" y="5791320"/>
            <a:ext cx="2819520" cy="914400"/>
          </a:xfrm>
          <a:prstGeom prst="line">
            <a:avLst/>
          </a:prstGeom>
          <a:ln w="5724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1554120" y="5257800"/>
            <a:ext cx="0" cy="304920"/>
          </a:xfrm>
          <a:prstGeom prst="line">
            <a:avLst/>
          </a:prstGeom>
          <a:ln w="5724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2209680" y="5105520"/>
            <a:ext cx="914400" cy="0"/>
          </a:xfrm>
          <a:prstGeom prst="line">
            <a:avLst/>
          </a:prstGeom>
          <a:ln w="5724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flipV="1">
            <a:off x="2362320" y="4190760"/>
            <a:ext cx="533160" cy="228600"/>
          </a:xfrm>
          <a:prstGeom prst="line">
            <a:avLst/>
          </a:prstGeom>
          <a:ln w="57240">
            <a:solidFill>
              <a:srgbClr val="33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
          <p:cNvSpPr/>
          <p:nvPr/>
        </p:nvSpPr>
        <p:spPr>
          <a:xfrm flipV="1">
            <a:off x="3505320" y="3352680"/>
            <a:ext cx="2133360" cy="609840"/>
          </a:xfrm>
          <a:prstGeom prst="line">
            <a:avLst/>
          </a:prstGeom>
          <a:ln w="5724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
          <p:cNvSpPr/>
          <p:nvPr/>
        </p:nvSpPr>
        <p:spPr>
          <a:xfrm>
            <a:off x="2286000" y="4572000"/>
            <a:ext cx="990720" cy="0"/>
          </a:xfrm>
          <a:prstGeom prst="line">
            <a:avLst/>
          </a:prstGeom>
          <a:ln w="57240">
            <a:solidFill>
              <a:srgbClr val="33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a:off x="5029200" y="4572000"/>
            <a:ext cx="1219320" cy="0"/>
          </a:xfrm>
          <a:prstGeom prst="line">
            <a:avLst/>
          </a:prstGeom>
          <a:ln w="5724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flipV="1">
            <a:off x="3505320" y="2057400"/>
            <a:ext cx="0" cy="4572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txBox="1"/>
          <p:nvPr/>
        </p:nvSpPr>
        <p:spPr>
          <a:xfrm>
            <a:off x="3657600" y="2286000"/>
            <a:ext cx="304920" cy="1522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Rounded MT Bold"/>
              </a:rPr>
              <a:t>=</a:t>
            </a:r>
            <a:endParaRPr b="0" lang="en-US" sz="1800" spc="1" strike="noStrike">
              <a:ln w="9360">
                <a:solidFill>
                  <a:srgbClr val="000000"/>
                </a:solidFill>
                <a:miter/>
              </a:ln>
              <a:solidFill>
                <a:srgbClr val="000000"/>
              </a:solidFill>
              <a:latin typeface="Arial Rounded MT Bold"/>
              <a:ea typeface="Arial Rounded MT Bold"/>
            </a:endParaRPr>
          </a:p>
        </p:txBody>
      </p:sp>
      <p:sp>
        <p:nvSpPr>
          <p:cNvPr id="324" name=""/>
          <p:cNvSpPr txBox="1"/>
          <p:nvPr/>
        </p:nvSpPr>
        <p:spPr>
          <a:xfrm>
            <a:off x="3962520" y="2133720"/>
            <a:ext cx="2743200" cy="228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9360">
                  <a:solidFill>
                    <a:srgbClr val="000000"/>
                  </a:solidFill>
                  <a:miter/>
                </a:ln>
                <a:solidFill>
                  <a:srgbClr val="000000"/>
                </a:solidFill>
                <a:latin typeface="Arial Rounded MT Bold"/>
              </a:rPr>
              <a:t>What Crane Flies eat. </a:t>
            </a:r>
            <a:endParaRPr b="0" lang="en-US" sz="800" spc="1" strike="noStrike">
              <a:ln w="9360">
                <a:solidFill>
                  <a:srgbClr val="000000"/>
                </a:solidFill>
                <a:miter/>
              </a:ln>
              <a:solidFill>
                <a:srgbClr val="000000"/>
              </a:solidFill>
              <a:latin typeface="Arial Rounded MT Bold"/>
              <a:ea typeface="Arial Rounded MT Bold"/>
            </a:endParaRPr>
          </a:p>
        </p:txBody>
      </p:sp>
      <p:sp>
        <p:nvSpPr>
          <p:cNvPr id="325" name=""/>
          <p:cNvSpPr/>
          <p:nvPr/>
        </p:nvSpPr>
        <p:spPr>
          <a:xfrm flipH="1">
            <a:off x="2438280" y="6537240"/>
            <a:ext cx="3780000" cy="92160"/>
          </a:xfrm>
          <a:prstGeom prst="line">
            <a:avLst/>
          </a:prstGeom>
          <a:ln w="57240">
            <a:solidFill>
              <a:srgbClr val="ff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26" name=""/>
          <p:cNvSpPr/>
          <p:nvPr/>
        </p:nvSpPr>
        <p:spPr>
          <a:xfrm flipV="1">
            <a:off x="6781680" y="5181120"/>
            <a:ext cx="0" cy="3812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
          <p:cNvSpPr/>
          <p:nvPr/>
        </p:nvSpPr>
        <p:spPr>
          <a:xfrm flipV="1">
            <a:off x="7238880" y="5943600"/>
            <a:ext cx="381240" cy="53352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
          <p:cNvSpPr/>
          <p:nvPr/>
        </p:nvSpPr>
        <p:spPr>
          <a:xfrm flipV="1">
            <a:off x="7772400" y="4267080"/>
            <a:ext cx="0" cy="13716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
          <p:cNvSpPr/>
          <p:nvPr/>
        </p:nvSpPr>
        <p:spPr>
          <a:xfrm flipH="1" flipV="1">
            <a:off x="7315200" y="3200040"/>
            <a:ext cx="380880" cy="7621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
          <p:cNvSpPr/>
          <p:nvPr/>
        </p:nvSpPr>
        <p:spPr>
          <a:xfrm flipH="1" flipV="1">
            <a:off x="5029200" y="4723920"/>
            <a:ext cx="1295280" cy="76212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
          <p:cNvSpPr/>
          <p:nvPr/>
        </p:nvSpPr>
        <p:spPr>
          <a:xfrm flipH="1" flipV="1">
            <a:off x="4038480" y="4266720"/>
            <a:ext cx="533520" cy="2286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flipH="1" flipV="1">
            <a:off x="2057400" y="3429000"/>
            <a:ext cx="1371600" cy="5335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
          <p:cNvSpPr/>
          <p:nvPr/>
        </p:nvSpPr>
        <p:spPr>
          <a:xfrm flipH="1">
            <a:off x="6400080" y="1600200"/>
            <a:ext cx="228600" cy="380880"/>
          </a:xfrm>
          <a:prstGeom prst="upDownArrow">
            <a:avLst>
              <a:gd name="adj1" fmla="val 50000"/>
              <a:gd name="adj2" fmla="val 3316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4" name=""/>
          <p:cNvSpPr txBox="1"/>
          <p:nvPr/>
        </p:nvSpPr>
        <p:spPr>
          <a:xfrm>
            <a:off x="6629400" y="1828800"/>
            <a:ext cx="304920" cy="76320"/>
          </a:xfrm>
          <a:prstGeom prst="rect">
            <a:avLst/>
          </a:prstGeom>
        </p:spPr>
        <p:txBody>
          <a:bodyPr wrap="none" fromWordArt="1" lIns="90000" rIns="90000" tIns="29520" bIns="2952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Rounded MT Bold"/>
              </a:rPr>
              <a:t>=</a:t>
            </a:r>
            <a:endParaRPr b="0" lang="en-US" sz="1800" spc="1" strike="noStrike">
              <a:ln w="9360">
                <a:solidFill>
                  <a:srgbClr val="000000"/>
                </a:solidFill>
                <a:miter/>
              </a:ln>
              <a:solidFill>
                <a:srgbClr val="000000"/>
              </a:solidFill>
              <a:latin typeface="Arial Rounded MT Bold"/>
              <a:ea typeface="Arial Rounded MT Bold"/>
            </a:endParaRPr>
          </a:p>
        </p:txBody>
      </p:sp>
      <p:sp>
        <p:nvSpPr>
          <p:cNvPr id="335" name=""/>
          <p:cNvSpPr txBox="1"/>
          <p:nvPr/>
        </p:nvSpPr>
        <p:spPr>
          <a:xfrm>
            <a:off x="7010280" y="1676520"/>
            <a:ext cx="1600200" cy="228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Rounded MT Bold"/>
              </a:rPr>
              <a:t>What eat</a:t>
            </a:r>
            <a:endParaRPr b="0" lang="en-US" sz="1800" spc="1" strike="noStrike">
              <a:ln w="9360">
                <a:solidFill>
                  <a:srgbClr val="000000"/>
                </a:solidFill>
                <a:miter/>
              </a:ln>
              <a:solidFill>
                <a:srgbClr val="000000"/>
              </a:solidFill>
              <a:latin typeface="Arial Rounded MT Bold"/>
              <a:ea typeface="Arial Rounded MT Bold"/>
            </a:endParaRPr>
          </a:p>
        </p:txBody>
      </p:sp>
      <p:sp>
        <p:nvSpPr>
          <p:cNvPr id="336" name=""/>
          <p:cNvSpPr txBox="1"/>
          <p:nvPr/>
        </p:nvSpPr>
        <p:spPr>
          <a:xfrm>
            <a:off x="6781680" y="1981080"/>
            <a:ext cx="218124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Rounded MT Bold"/>
              </a:rPr>
              <a:t>each other</a:t>
            </a:r>
            <a:endParaRPr b="0" lang="en-US" sz="1800" spc="1" strike="noStrike">
              <a:ln w="9360">
                <a:solidFill>
                  <a:srgbClr val="000000"/>
                </a:solidFill>
                <a:miter/>
              </a:ln>
              <a:solidFill>
                <a:srgbClr val="000000"/>
              </a:solidFill>
              <a:latin typeface="Arial Rounded MT Bold"/>
              <a:ea typeface="Arial Rounded MT Bold"/>
            </a:endParaRPr>
          </a:p>
        </p:txBody>
      </p:sp>
      <p:sp>
        <p:nvSpPr>
          <p:cNvPr id="337" name=""/>
          <p:cNvSpPr/>
          <p:nvPr/>
        </p:nvSpPr>
        <p:spPr>
          <a:xfrm rot="17130000">
            <a:off x="3924000" y="3984120"/>
            <a:ext cx="304920" cy="3581280"/>
          </a:xfrm>
          <a:prstGeom prst="upDownArrow">
            <a:avLst>
              <a:gd name="adj1" fmla="val 50000"/>
              <a:gd name="adj2" fmla="val 233812"/>
            </a:avLst>
          </a:prstGeom>
          <a:solidFill>
            <a:srgbClr val="ffcc00">
              <a:alpha val="59000"/>
            </a:srgbClr>
          </a:solidFill>
          <a:ln w="5724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8" name=""/>
          <p:cNvSpPr/>
          <p:nvPr/>
        </p:nvSpPr>
        <p:spPr>
          <a:xfrm>
            <a:off x="1646280" y="3703680"/>
            <a:ext cx="304920" cy="495360"/>
          </a:xfrm>
          <a:prstGeom prst="upDownArrow">
            <a:avLst>
              <a:gd name="adj1" fmla="val 50000"/>
              <a:gd name="adj2" fmla="val 32340"/>
            </a:avLst>
          </a:prstGeom>
          <a:solidFill>
            <a:srgbClr val="ffcc00">
              <a:alpha val="49000"/>
            </a:srgbClr>
          </a:solidFill>
          <a:ln w="5724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9" name=""/>
          <p:cNvSpPr/>
          <p:nvPr/>
        </p:nvSpPr>
        <p:spPr>
          <a:xfrm>
            <a:off x="0" y="3611520"/>
            <a:ext cx="274680" cy="27324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split dir="in" orient="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99"/>
            </a:gs>
            <a:gs pos="50000">
              <a:srgbClr val="ffff99"/>
            </a:gs>
            <a:gs pos="100000">
              <a:srgbClr val="66ff99"/>
            </a:gs>
          </a:gsLst>
          <a:lin ang="5400000"/>
        </a:gradFill>
      </p:bgPr>
    </p:bg>
    <p:spTree>
      <p:nvGrpSpPr>
        <p:cNvPr id="1" name=""/>
        <p:cNvGrpSpPr/>
        <p:nvPr/>
      </p:nvGrpSpPr>
      <p:grpSpPr>
        <a:xfrm>
          <a:off x="0" y="0"/>
          <a:ext cx="0" cy="0"/>
          <a:chOff x="0" y="0"/>
          <a:chExt cx="0" cy="0"/>
        </a:xfrm>
      </p:grpSpPr>
      <p:pic>
        <p:nvPicPr>
          <p:cNvPr id="340" name="" descr=""/>
          <p:cNvPicPr/>
          <p:nvPr/>
        </p:nvPicPr>
        <p:blipFill>
          <a:blip r:embed="rId1"/>
          <a:stretch/>
        </p:blipFill>
        <p:spPr>
          <a:xfrm>
            <a:off x="822240" y="2606760"/>
            <a:ext cx="7224840" cy="1368360"/>
          </a:xfrm>
          <a:prstGeom prst="rect">
            <a:avLst/>
          </a:prstGeom>
          <a:ln w="0">
            <a:noFill/>
          </a:ln>
        </p:spPr>
      </p:pic>
      <p:sp>
        <p:nvSpPr>
          <p:cNvPr id="341" name=""/>
          <p:cNvSpPr/>
          <p:nvPr/>
        </p:nvSpPr>
        <p:spPr>
          <a:xfrm>
            <a:off x="0" y="2971800"/>
            <a:ext cx="274680" cy="274680"/>
          </a:xfrm>
          <a:custGeom>
            <a:avLst/>
            <a:gdLst>
              <a:gd name="textAreaLeft" fmla="*/ 64440 w 274680"/>
              <a:gd name="textAreaRight" fmla="*/ 209880 w 274680"/>
              <a:gd name="textAreaTop" fmla="*/ 32040 h 274680"/>
              <a:gd name="textAreaBottom" fmla="*/ 172440 h 274680"/>
            </a:gdLst>
            <a:ahLst/>
            <a:rect l="textAreaLeft" t="textAreaTop" r="textAreaRight" b="textAreaBottom"/>
            <a:pathLst>
              <a:path w="21615" h="21602">
                <a:moveTo>
                  <a:pt x="10800" y="21599"/>
                </a:moveTo>
                <a:lnTo>
                  <a:pt x="321" y="6886"/>
                </a:lnTo>
                <a:lnTo>
                  <a:pt x="70" y="6036"/>
                </a:lnTo>
                <a:cubicBezTo>
                  <a:pt x="-9" y="5766"/>
                  <a:pt x="-1" y="5474"/>
                  <a:pt x="2" y="5192"/>
                </a:cubicBezTo>
                <a:cubicBezTo>
                  <a:pt x="6" y="4918"/>
                  <a:pt x="43" y="4641"/>
                  <a:pt x="101" y="4370"/>
                </a:cubicBezTo>
                <a:cubicBezTo>
                  <a:pt x="159" y="4103"/>
                  <a:pt x="245" y="3837"/>
                  <a:pt x="353" y="3582"/>
                </a:cubicBezTo>
                <a:cubicBezTo>
                  <a:pt x="460" y="3326"/>
                  <a:pt x="591" y="3077"/>
                  <a:pt x="741" y="2839"/>
                </a:cubicBezTo>
                <a:cubicBezTo>
                  <a:pt x="892" y="2598"/>
                  <a:pt x="1066" y="2369"/>
                  <a:pt x="1253" y="2155"/>
                </a:cubicBezTo>
                <a:cubicBezTo>
                  <a:pt x="1443" y="1938"/>
                  <a:pt x="1651" y="1732"/>
                  <a:pt x="1874" y="1543"/>
                </a:cubicBezTo>
                <a:cubicBezTo>
                  <a:pt x="2097" y="1351"/>
                  <a:pt x="2337" y="1174"/>
                  <a:pt x="2587" y="1014"/>
                </a:cubicBezTo>
                <a:cubicBezTo>
                  <a:pt x="2839" y="854"/>
                  <a:pt x="3106" y="708"/>
                  <a:pt x="3380" y="584"/>
                </a:cubicBezTo>
                <a:cubicBezTo>
                  <a:pt x="3656" y="459"/>
                  <a:pt x="3945" y="350"/>
                  <a:pt x="4237" y="264"/>
                </a:cubicBezTo>
                <a:cubicBezTo>
                  <a:pt x="4533" y="176"/>
                  <a:pt x="4838" y="108"/>
                  <a:pt x="5144" y="66"/>
                </a:cubicBezTo>
                <a:cubicBezTo>
                  <a:pt x="5454" y="22"/>
                  <a:pt x="5771" y="1"/>
                  <a:pt x="6086" y="3"/>
                </a:cubicBezTo>
                <a:cubicBezTo>
                  <a:pt x="6407" y="7"/>
                  <a:pt x="6731" y="35"/>
                  <a:pt x="7048" y="89"/>
                </a:cubicBezTo>
                <a:cubicBezTo>
                  <a:pt x="7374" y="144"/>
                  <a:pt x="7700" y="226"/>
                  <a:pt x="8015" y="335"/>
                </a:cubicBezTo>
                <a:cubicBezTo>
                  <a:pt x="8344" y="447"/>
                  <a:pt x="8667" y="590"/>
                  <a:pt x="8972" y="756"/>
                </a:cubicBezTo>
                <a:cubicBezTo>
                  <a:pt x="9297" y="932"/>
                  <a:pt x="9613" y="1135"/>
                  <a:pt x="9907" y="1363"/>
                </a:cubicBezTo>
                <a:cubicBezTo>
                  <a:pt x="10224" y="1609"/>
                  <a:pt x="10504" y="1900"/>
                  <a:pt x="10802" y="2169"/>
                </a:cubicBezTo>
                <a:lnTo>
                  <a:pt x="11697" y="1363"/>
                </a:lnTo>
                <a:cubicBezTo>
                  <a:pt x="11971" y="1116"/>
                  <a:pt x="12304" y="934"/>
                  <a:pt x="12630" y="756"/>
                </a:cubicBezTo>
                <a:cubicBezTo>
                  <a:pt x="12935" y="590"/>
                  <a:pt x="13528" y="450"/>
                  <a:pt x="13589" y="335"/>
                </a:cubicBezTo>
                <a:cubicBezTo>
                  <a:pt x="13901" y="226"/>
                  <a:pt x="14227" y="144"/>
                  <a:pt x="14556" y="89"/>
                </a:cubicBezTo>
                <a:cubicBezTo>
                  <a:pt x="14872" y="35"/>
                  <a:pt x="15195" y="7"/>
                  <a:pt x="15517" y="3"/>
                </a:cubicBezTo>
                <a:cubicBezTo>
                  <a:pt x="15830" y="0"/>
                  <a:pt x="16147" y="22"/>
                  <a:pt x="16458" y="66"/>
                </a:cubicBezTo>
                <a:cubicBezTo>
                  <a:pt x="16764" y="109"/>
                  <a:pt x="17068" y="177"/>
                  <a:pt x="17365" y="264"/>
                </a:cubicBezTo>
                <a:cubicBezTo>
                  <a:pt x="17658" y="349"/>
                  <a:pt x="17946" y="458"/>
                  <a:pt x="18222" y="584"/>
                </a:cubicBezTo>
                <a:cubicBezTo>
                  <a:pt x="18496" y="708"/>
                  <a:pt x="18762" y="854"/>
                  <a:pt x="19015" y="1014"/>
                </a:cubicBezTo>
                <a:cubicBezTo>
                  <a:pt x="19264" y="1172"/>
                  <a:pt x="19504" y="1349"/>
                  <a:pt x="19730" y="1543"/>
                </a:cubicBezTo>
                <a:cubicBezTo>
                  <a:pt x="19950" y="1731"/>
                  <a:pt x="20158" y="1937"/>
                  <a:pt x="20350" y="2155"/>
                </a:cubicBezTo>
                <a:cubicBezTo>
                  <a:pt x="20536" y="2369"/>
                  <a:pt x="20710" y="2598"/>
                  <a:pt x="20861" y="2839"/>
                </a:cubicBezTo>
                <a:cubicBezTo>
                  <a:pt x="21010" y="3074"/>
                  <a:pt x="21143" y="3323"/>
                  <a:pt x="21251" y="3582"/>
                </a:cubicBezTo>
                <a:cubicBezTo>
                  <a:pt x="21357" y="3835"/>
                  <a:pt x="21443" y="4099"/>
                  <a:pt x="21502" y="4370"/>
                </a:cubicBezTo>
                <a:cubicBezTo>
                  <a:pt x="21561" y="4639"/>
                  <a:pt x="21595" y="4916"/>
                  <a:pt x="21600" y="5192"/>
                </a:cubicBezTo>
                <a:cubicBezTo>
                  <a:pt x="21606" y="5474"/>
                  <a:pt x="21584" y="5760"/>
                  <a:pt x="21532" y="6036"/>
                </a:cubicBezTo>
                <a:cubicBezTo>
                  <a:pt x="21478" y="6326"/>
                  <a:pt x="21366" y="6603"/>
                  <a:pt x="21282" y="6887"/>
                </a:cubicBezTo>
                <a:lnTo>
                  <a:pt x="10802" y="21602"/>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med">
    <p:randomBar dir="horz"/>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36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000000"/>
                </a:solidFill>
                <a:latin typeface="Arial"/>
              </a:rPr>
              <a:t>Life Cycle</a:t>
            </a:r>
            <a:endParaRPr b="0" lang="en-US" sz="4000" spc="-1" strike="noStrike">
              <a:solidFill>
                <a:srgbClr val="000000"/>
              </a:solidFill>
              <a:latin typeface="Arial"/>
            </a:endParaRPr>
          </a:p>
        </p:txBody>
      </p:sp>
      <p:sp>
        <p:nvSpPr>
          <p:cNvPr id="343" name=""/>
          <p:cNvSpPr txBox="1"/>
          <p:nvPr/>
        </p:nvSpPr>
        <p:spPr>
          <a:xfrm>
            <a:off x="228600" y="762120"/>
            <a:ext cx="8229600" cy="167616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life cycle : At first  an  ice-bug lays an egg or more, then after the egg hatches an ice-bug will appear! Then it will grow up ,into the young stages! after it has grown bigger and bigger it eventually grows into an adult!.</a:t>
            </a:r>
            <a:endParaRPr b="0" lang="en-US" sz="2000" spc="-1" strike="noStrike">
              <a:solidFill>
                <a:srgbClr val="000000"/>
              </a:solidFill>
              <a:latin typeface="Arial"/>
            </a:endParaRPr>
          </a:p>
        </p:txBody>
      </p:sp>
      <p:grpSp>
        <p:nvGrpSpPr>
          <p:cNvPr id="344" name=""/>
          <p:cNvGrpSpPr/>
          <p:nvPr/>
        </p:nvGrpSpPr>
        <p:grpSpPr>
          <a:xfrm>
            <a:off x="1194480" y="3333960"/>
            <a:ext cx="5766480" cy="3239280"/>
            <a:chOff x="1194480" y="3333960"/>
            <a:chExt cx="5766480" cy="3239280"/>
          </a:xfrm>
        </p:grpSpPr>
        <p:sp>
          <p:nvSpPr>
            <p:cNvPr id="345" name="_s41992"/>
            <p:cNvSpPr/>
            <p:nvPr/>
          </p:nvSpPr>
          <p:spPr>
            <a:xfrm>
              <a:off x="2117160" y="3333960"/>
              <a:ext cx="3920400" cy="2202480"/>
            </a:xfrm>
            <a:custGeom>
              <a:avLst/>
              <a:gdLst>
                <a:gd name="textAreaLeft" fmla="*/ 0 w 3920400"/>
                <a:gd name="textAreaRight" fmla="*/ 3920400 w 3920400"/>
                <a:gd name="textAreaTop" fmla="*/ 0 h 2202480"/>
                <a:gd name="textAreaBottom" fmla="*/ 2202840 h 220248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9933ff"/>
            </a:solidFill>
            <a:ln w="7632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46" name="_s41993"/>
            <p:cNvSpPr/>
            <p:nvPr/>
          </p:nvSpPr>
          <p:spPr>
            <a:xfrm rot="5400000">
              <a:off x="3899520" y="2993400"/>
              <a:ext cx="2202480" cy="3920400"/>
            </a:xfrm>
            <a:custGeom>
              <a:avLst/>
              <a:gdLst>
                <a:gd name="textAreaLeft" fmla="*/ 0 w 2202480"/>
                <a:gd name="textAreaRight" fmla="*/ 2202840 w 2202480"/>
                <a:gd name="textAreaTop" fmla="*/ 0 h 3920400"/>
                <a:gd name="textAreaBottom" fmla="*/ 3920400 h 39204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9933ff"/>
            </a:solidFill>
            <a:ln w="7632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47" name="_s42006"/>
            <p:cNvSpPr/>
            <p:nvPr/>
          </p:nvSpPr>
          <p:spPr>
            <a:xfrm rot="10800000">
              <a:off x="2117160" y="4370760"/>
              <a:ext cx="3920400" cy="2202480"/>
            </a:xfrm>
            <a:custGeom>
              <a:avLst/>
              <a:gdLst>
                <a:gd name="textAreaLeft" fmla="*/ 0 w 3920400"/>
                <a:gd name="textAreaRight" fmla="*/ 3920400 w 3920400"/>
                <a:gd name="textAreaTop" fmla="*/ 0 h 2202480"/>
                <a:gd name="textAreaBottom" fmla="*/ 2202840 h 220248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9933ff"/>
            </a:solidFill>
            <a:ln w="7632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48" name="_s42002"/>
            <p:cNvSpPr/>
            <p:nvPr/>
          </p:nvSpPr>
          <p:spPr>
            <a:xfrm rot="16200000">
              <a:off x="2053440" y="2993400"/>
              <a:ext cx="2202480" cy="3920400"/>
            </a:xfrm>
            <a:custGeom>
              <a:avLst/>
              <a:gdLst>
                <a:gd name="textAreaLeft" fmla="*/ 0 w 2202480"/>
                <a:gd name="textAreaRight" fmla="*/ 2202840 w 2202480"/>
                <a:gd name="textAreaTop" fmla="*/ 0 h 3920400"/>
                <a:gd name="textAreaBottom" fmla="*/ 3920400 h 39204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9933ff"/>
            </a:solidFill>
            <a:ln w="7632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49" name="_s41990"/>
            <p:cNvSpPr/>
            <p:nvPr/>
          </p:nvSpPr>
          <p:spPr>
            <a:xfrm>
              <a:off x="5121720" y="3535920"/>
              <a:ext cx="1476360" cy="8294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Lucida Console"/>
                </a:rPr>
                <a:t>Lays eggs</a:t>
              </a:r>
              <a:endParaRPr b="0" lang="en-US" sz="2000" spc="-1" strike="noStrike">
                <a:solidFill>
                  <a:srgbClr val="000000"/>
                </a:solidFill>
                <a:latin typeface="Arial"/>
              </a:endParaRPr>
            </a:p>
          </p:txBody>
        </p:sp>
        <p:sp>
          <p:nvSpPr>
            <p:cNvPr id="350" name="_s41991"/>
            <p:cNvSpPr/>
            <p:nvPr/>
          </p:nvSpPr>
          <p:spPr>
            <a:xfrm>
              <a:off x="5123880" y="5538960"/>
              <a:ext cx="1476360" cy="82908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Lucida Console"/>
                </a:rPr>
                <a:t>Then a little baby</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Lucida Console"/>
                </a:rPr>
                <a:t> </a:t>
              </a:r>
              <a:r>
                <a:rPr b="1" lang="en-US" sz="1600" spc="-1" strike="noStrike" u="sng">
                  <a:solidFill>
                    <a:srgbClr val="000000"/>
                  </a:solidFill>
                  <a:uFillTx/>
                  <a:latin typeface="Lucida Console"/>
                </a:rPr>
                <a:t>ice-bug</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Lucida Console"/>
                </a:rPr>
                <a:t>Will appear!</a:t>
              </a:r>
              <a:endParaRPr b="0" lang="en-US" sz="1600" spc="-1" strike="noStrike">
                <a:solidFill>
                  <a:srgbClr val="000000"/>
                </a:solidFill>
                <a:latin typeface="Arial"/>
              </a:endParaRPr>
            </a:p>
          </p:txBody>
        </p:sp>
        <p:sp>
          <p:nvSpPr>
            <p:cNvPr id="351" name="_s42001"/>
            <p:cNvSpPr/>
            <p:nvPr/>
          </p:nvSpPr>
          <p:spPr>
            <a:xfrm>
              <a:off x="1554480" y="3538800"/>
              <a:ext cx="1476360" cy="8294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Console"/>
                </a:rPr>
                <a:t>   </a:t>
              </a:r>
              <a:r>
                <a:rPr b="0" lang="en-US" sz="2000" spc="-1" strike="noStrike" u="sng">
                  <a:solidFill>
                    <a:srgbClr val="000000"/>
                  </a:solidFill>
                  <a:uFillTx/>
                  <a:latin typeface="Lucida Console"/>
                </a:rPr>
                <a:t>Ice-Bug</a:t>
              </a:r>
              <a:endParaRPr b="0" lang="en-US" sz="2000" spc="-1" strike="noStrike">
                <a:solidFill>
                  <a:srgbClr val="000000"/>
                </a:solidFill>
                <a:latin typeface="Arial"/>
              </a:endParaRPr>
            </a:p>
          </p:txBody>
        </p:sp>
        <p:sp>
          <p:nvSpPr>
            <p:cNvPr id="352" name="_s42005"/>
            <p:cNvSpPr/>
            <p:nvPr/>
          </p:nvSpPr>
          <p:spPr>
            <a:xfrm>
              <a:off x="1559160" y="5541480"/>
              <a:ext cx="1476360" cy="8294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Courier New"/>
                </a:rPr>
                <a:t>Then will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Courier New"/>
                </a:rPr>
                <a:t>grow</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Courier New"/>
                </a:rPr>
                <a:t>bigger</a:t>
              </a:r>
              <a:endParaRPr b="0" lang="en-US" sz="1600" spc="-1" strike="noStrike">
                <a:solidFill>
                  <a:srgbClr val="000000"/>
                </a:solidFill>
                <a:latin typeface="Arial"/>
              </a:endParaRPr>
            </a:p>
          </p:txBody>
        </p:sp>
      </p:grpSp>
      <p:pic>
        <p:nvPicPr>
          <p:cNvPr id="353" name="" descr="">
            <a:hlinkClick r:id="rId2"/>
          </p:cNvPr>
          <p:cNvPicPr/>
          <p:nvPr/>
        </p:nvPicPr>
        <p:blipFill>
          <a:blip r:embed="rId3">
            <a:alphaModFix amt="0"/>
          </a:blip>
          <a:stretch/>
        </p:blipFill>
        <p:spPr>
          <a:xfrm>
            <a:off x="1981080" y="2743200"/>
            <a:ext cx="1219320" cy="1038240"/>
          </a:xfrm>
          <a:prstGeom prst="rect">
            <a:avLst/>
          </a:prstGeom>
          <a:ln w="76320">
            <a:solidFill>
              <a:srgbClr val="000000"/>
            </a:solidFill>
            <a:miter/>
          </a:ln>
        </p:spPr>
      </p:pic>
      <p:pic>
        <p:nvPicPr>
          <p:cNvPr id="354" name="" descr="">
            <a:hlinkClick r:id="rId4"/>
          </p:cNvPr>
          <p:cNvPicPr/>
          <p:nvPr/>
        </p:nvPicPr>
        <p:blipFill>
          <a:blip r:embed="rId5"/>
          <a:stretch/>
        </p:blipFill>
        <p:spPr>
          <a:xfrm>
            <a:off x="5257800" y="2895480"/>
            <a:ext cx="1066680" cy="825480"/>
          </a:xfrm>
          <a:prstGeom prst="rect">
            <a:avLst/>
          </a:prstGeom>
          <a:ln w="76320">
            <a:solidFill>
              <a:srgbClr val="000000"/>
            </a:solidFill>
            <a:miter/>
          </a:ln>
        </p:spPr>
      </p:pic>
      <p:pic>
        <p:nvPicPr>
          <p:cNvPr id="355" name="" descr="">
            <a:hlinkClick r:id="rId6"/>
          </p:cNvPr>
          <p:cNvPicPr/>
          <p:nvPr/>
        </p:nvPicPr>
        <p:blipFill>
          <a:blip r:embed="rId7"/>
          <a:stretch/>
        </p:blipFill>
        <p:spPr>
          <a:xfrm>
            <a:off x="7696080" y="4724280"/>
            <a:ext cx="1447920" cy="1043280"/>
          </a:xfrm>
          <a:prstGeom prst="rect">
            <a:avLst/>
          </a:prstGeom>
          <a:ln w="76320">
            <a:solidFill>
              <a:srgbClr val="000000"/>
            </a:solidFill>
            <a:miter/>
          </a:ln>
        </p:spPr>
      </p:pic>
      <p:pic>
        <p:nvPicPr>
          <p:cNvPr id="356" name="" descr="">
            <a:hlinkClick r:id="rId8"/>
          </p:cNvPr>
          <p:cNvPicPr/>
          <p:nvPr/>
        </p:nvPicPr>
        <p:blipFill>
          <a:blip r:embed="rId9"/>
          <a:stretch/>
        </p:blipFill>
        <p:spPr>
          <a:xfrm>
            <a:off x="3429000" y="5029200"/>
            <a:ext cx="1219320" cy="887400"/>
          </a:xfrm>
          <a:prstGeom prst="rect">
            <a:avLst/>
          </a:prstGeom>
          <a:ln w="76320">
            <a:solidFill>
              <a:srgbClr val="000000"/>
            </a:solidFill>
            <a:miter/>
          </a:ln>
        </p:spPr>
      </p:pic>
      <p:sp>
        <p:nvSpPr>
          <p:cNvPr id="357" name=""/>
          <p:cNvSpPr/>
          <p:nvPr/>
        </p:nvSpPr>
        <p:spPr>
          <a:xfrm>
            <a:off x="0" y="2971800"/>
            <a:ext cx="274680" cy="274680"/>
          </a:xfrm>
          <a:custGeom>
            <a:avLst/>
            <a:gdLst>
              <a:gd name="textAreaLeft" fmla="*/ 64440 w 274680"/>
              <a:gd name="textAreaRight" fmla="*/ 209880 w 274680"/>
              <a:gd name="textAreaTop" fmla="*/ 32040 h 274680"/>
              <a:gd name="textAreaBottom" fmla="*/ 172440 h 274680"/>
            </a:gdLst>
            <a:ahLst/>
            <a:rect l="textAreaLeft" t="textAreaTop" r="textAreaRight" b="textAreaBottom"/>
            <a:pathLst>
              <a:path w="21615" h="21602">
                <a:moveTo>
                  <a:pt x="10800" y="21599"/>
                </a:moveTo>
                <a:lnTo>
                  <a:pt x="321" y="6886"/>
                </a:lnTo>
                <a:lnTo>
                  <a:pt x="70" y="6036"/>
                </a:lnTo>
                <a:cubicBezTo>
                  <a:pt x="-9" y="5766"/>
                  <a:pt x="-1" y="5474"/>
                  <a:pt x="2" y="5192"/>
                </a:cubicBezTo>
                <a:cubicBezTo>
                  <a:pt x="6" y="4918"/>
                  <a:pt x="43" y="4641"/>
                  <a:pt x="101" y="4370"/>
                </a:cubicBezTo>
                <a:cubicBezTo>
                  <a:pt x="159" y="4103"/>
                  <a:pt x="245" y="3837"/>
                  <a:pt x="353" y="3582"/>
                </a:cubicBezTo>
                <a:cubicBezTo>
                  <a:pt x="460" y="3326"/>
                  <a:pt x="591" y="3077"/>
                  <a:pt x="741" y="2839"/>
                </a:cubicBezTo>
                <a:cubicBezTo>
                  <a:pt x="892" y="2598"/>
                  <a:pt x="1066" y="2369"/>
                  <a:pt x="1253" y="2155"/>
                </a:cubicBezTo>
                <a:cubicBezTo>
                  <a:pt x="1443" y="1938"/>
                  <a:pt x="1651" y="1732"/>
                  <a:pt x="1874" y="1543"/>
                </a:cubicBezTo>
                <a:cubicBezTo>
                  <a:pt x="2097" y="1351"/>
                  <a:pt x="2337" y="1174"/>
                  <a:pt x="2587" y="1014"/>
                </a:cubicBezTo>
                <a:cubicBezTo>
                  <a:pt x="2839" y="854"/>
                  <a:pt x="3106" y="708"/>
                  <a:pt x="3380" y="584"/>
                </a:cubicBezTo>
                <a:cubicBezTo>
                  <a:pt x="3656" y="459"/>
                  <a:pt x="3945" y="350"/>
                  <a:pt x="4237" y="264"/>
                </a:cubicBezTo>
                <a:cubicBezTo>
                  <a:pt x="4533" y="176"/>
                  <a:pt x="4838" y="108"/>
                  <a:pt x="5144" y="66"/>
                </a:cubicBezTo>
                <a:cubicBezTo>
                  <a:pt x="5454" y="22"/>
                  <a:pt x="5771" y="1"/>
                  <a:pt x="6086" y="3"/>
                </a:cubicBezTo>
                <a:cubicBezTo>
                  <a:pt x="6407" y="7"/>
                  <a:pt x="6731" y="35"/>
                  <a:pt x="7048" y="89"/>
                </a:cubicBezTo>
                <a:cubicBezTo>
                  <a:pt x="7374" y="144"/>
                  <a:pt x="7700" y="226"/>
                  <a:pt x="8015" y="335"/>
                </a:cubicBezTo>
                <a:cubicBezTo>
                  <a:pt x="8344" y="447"/>
                  <a:pt x="8667" y="590"/>
                  <a:pt x="8972" y="756"/>
                </a:cubicBezTo>
                <a:cubicBezTo>
                  <a:pt x="9297" y="932"/>
                  <a:pt x="9613" y="1135"/>
                  <a:pt x="9907" y="1363"/>
                </a:cubicBezTo>
                <a:cubicBezTo>
                  <a:pt x="10224" y="1609"/>
                  <a:pt x="10504" y="1900"/>
                  <a:pt x="10802" y="2169"/>
                </a:cubicBezTo>
                <a:lnTo>
                  <a:pt x="11697" y="1363"/>
                </a:lnTo>
                <a:cubicBezTo>
                  <a:pt x="11971" y="1116"/>
                  <a:pt x="12304" y="934"/>
                  <a:pt x="12630" y="756"/>
                </a:cubicBezTo>
                <a:cubicBezTo>
                  <a:pt x="12935" y="590"/>
                  <a:pt x="13528" y="450"/>
                  <a:pt x="13589" y="335"/>
                </a:cubicBezTo>
                <a:cubicBezTo>
                  <a:pt x="13901" y="226"/>
                  <a:pt x="14227" y="144"/>
                  <a:pt x="14556" y="89"/>
                </a:cubicBezTo>
                <a:cubicBezTo>
                  <a:pt x="14872" y="35"/>
                  <a:pt x="15195" y="7"/>
                  <a:pt x="15517" y="3"/>
                </a:cubicBezTo>
                <a:cubicBezTo>
                  <a:pt x="15830" y="0"/>
                  <a:pt x="16147" y="22"/>
                  <a:pt x="16458" y="66"/>
                </a:cubicBezTo>
                <a:cubicBezTo>
                  <a:pt x="16764" y="109"/>
                  <a:pt x="17068" y="177"/>
                  <a:pt x="17365" y="264"/>
                </a:cubicBezTo>
                <a:cubicBezTo>
                  <a:pt x="17658" y="349"/>
                  <a:pt x="17946" y="458"/>
                  <a:pt x="18222" y="584"/>
                </a:cubicBezTo>
                <a:cubicBezTo>
                  <a:pt x="18496" y="708"/>
                  <a:pt x="18762" y="854"/>
                  <a:pt x="19015" y="1014"/>
                </a:cubicBezTo>
                <a:cubicBezTo>
                  <a:pt x="19264" y="1172"/>
                  <a:pt x="19504" y="1349"/>
                  <a:pt x="19730" y="1543"/>
                </a:cubicBezTo>
                <a:cubicBezTo>
                  <a:pt x="19950" y="1731"/>
                  <a:pt x="20158" y="1937"/>
                  <a:pt x="20350" y="2155"/>
                </a:cubicBezTo>
                <a:cubicBezTo>
                  <a:pt x="20536" y="2369"/>
                  <a:pt x="20710" y="2598"/>
                  <a:pt x="20861" y="2839"/>
                </a:cubicBezTo>
                <a:cubicBezTo>
                  <a:pt x="21010" y="3074"/>
                  <a:pt x="21143" y="3323"/>
                  <a:pt x="21251" y="3582"/>
                </a:cubicBezTo>
                <a:cubicBezTo>
                  <a:pt x="21357" y="3835"/>
                  <a:pt x="21443" y="4099"/>
                  <a:pt x="21502" y="4370"/>
                </a:cubicBezTo>
                <a:cubicBezTo>
                  <a:pt x="21561" y="4639"/>
                  <a:pt x="21595" y="4916"/>
                  <a:pt x="21600" y="5192"/>
                </a:cubicBezTo>
                <a:cubicBezTo>
                  <a:pt x="21606" y="5474"/>
                  <a:pt x="21584" y="5760"/>
                  <a:pt x="21532" y="6036"/>
                </a:cubicBezTo>
                <a:cubicBezTo>
                  <a:pt x="21478" y="6326"/>
                  <a:pt x="21366" y="6603"/>
                  <a:pt x="21282" y="6887"/>
                </a:cubicBezTo>
                <a:lnTo>
                  <a:pt x="10802" y="21602"/>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plus/>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603ab"/>
            </a:gs>
            <a:gs pos="100000">
              <a:srgbClr val="a603ab"/>
            </a:gs>
          </a:gsLst>
          <a:lin ang="5400000"/>
        </a:gradFill>
      </p:bgPr>
    </p:bg>
    <p:spTree>
      <p:nvGrpSpPr>
        <p:cNvPr id="1" name=""/>
        <p:cNvGrpSpPr/>
        <p:nvPr/>
      </p:nvGrpSpPr>
      <p:grpSpPr>
        <a:xfrm>
          <a:off x="0" y="0"/>
          <a:ext cx="0" cy="0"/>
          <a:chOff x="0" y="0"/>
          <a:chExt cx="0" cy="0"/>
        </a:xfrm>
      </p:grpSpPr>
      <p:pic>
        <p:nvPicPr>
          <p:cNvPr id="358" name="Rectangle 3" descr=""/>
          <p:cNvPicPr/>
          <p:nvPr/>
        </p:nvPicPr>
        <p:blipFill>
          <a:blip r:embed="rId1"/>
          <a:stretch/>
        </p:blipFill>
        <p:spPr>
          <a:xfrm>
            <a:off x="603360" y="480960"/>
            <a:ext cx="6645240" cy="1135080"/>
          </a:xfrm>
          <a:prstGeom prst="rect">
            <a:avLst/>
          </a:prstGeom>
          <a:ln w="0">
            <a:noFill/>
          </a:ln>
        </p:spPr>
      </p:pic>
      <p:pic>
        <p:nvPicPr>
          <p:cNvPr id="359" name="Picture 2" descr="grblat0a.gif"/>
          <p:cNvPicPr/>
          <p:nvPr/>
        </p:nvPicPr>
        <p:blipFill>
          <a:blip r:embed="rId2"/>
          <a:stretch/>
        </p:blipFill>
        <p:spPr>
          <a:xfrm>
            <a:off x="0" y="1219320"/>
            <a:ext cx="1752480" cy="2365200"/>
          </a:xfrm>
          <a:prstGeom prst="rect">
            <a:avLst/>
          </a:prstGeom>
          <a:ln w="0">
            <a:noFill/>
          </a:ln>
        </p:spPr>
      </p:pic>
      <p:pic>
        <p:nvPicPr>
          <p:cNvPr id="360" name="Picture 4" descr="img_grylloblattodea.jpg"/>
          <p:cNvPicPr/>
          <p:nvPr/>
        </p:nvPicPr>
        <p:blipFill>
          <a:blip r:embed="rId3"/>
          <a:stretch/>
        </p:blipFill>
        <p:spPr>
          <a:xfrm>
            <a:off x="1600200" y="1981080"/>
            <a:ext cx="1752480" cy="1314720"/>
          </a:xfrm>
          <a:prstGeom prst="rect">
            <a:avLst/>
          </a:prstGeom>
          <a:ln w="0">
            <a:noFill/>
          </a:ln>
        </p:spPr>
      </p:pic>
      <p:pic>
        <p:nvPicPr>
          <p:cNvPr id="361" name="Picture 6" descr="external image d1-25cn33011053.jpg"/>
          <p:cNvPicPr/>
          <p:nvPr/>
        </p:nvPicPr>
        <p:blipFill>
          <a:blip r:embed="rId4"/>
          <a:stretch/>
        </p:blipFill>
        <p:spPr>
          <a:xfrm>
            <a:off x="3505320" y="1905120"/>
            <a:ext cx="2743200" cy="1447560"/>
          </a:xfrm>
          <a:prstGeom prst="rect">
            <a:avLst/>
          </a:prstGeom>
          <a:ln w="0">
            <a:noFill/>
          </a:ln>
        </p:spPr>
      </p:pic>
      <p:pic>
        <p:nvPicPr>
          <p:cNvPr id="362" name="Picture 8" descr="external image sgaroa.jpg"/>
          <p:cNvPicPr/>
          <p:nvPr/>
        </p:nvPicPr>
        <p:blipFill>
          <a:blip r:embed="rId5"/>
          <a:stretch/>
        </p:blipFill>
        <p:spPr>
          <a:xfrm>
            <a:off x="6324480" y="1828800"/>
            <a:ext cx="1981440" cy="1600200"/>
          </a:xfrm>
          <a:prstGeom prst="rect">
            <a:avLst/>
          </a:prstGeom>
          <a:ln w="0">
            <a:noFill/>
          </a:ln>
        </p:spPr>
      </p:pic>
      <p:pic>
        <p:nvPicPr>
          <p:cNvPr id="363" name="Picture 10" descr="external image 1404_grylloblattidae_%20Ice%20crawler.jpg"/>
          <p:cNvPicPr/>
          <p:nvPr/>
        </p:nvPicPr>
        <p:blipFill>
          <a:blip r:embed="rId6"/>
          <a:stretch/>
        </p:blipFill>
        <p:spPr>
          <a:xfrm>
            <a:off x="0" y="3429000"/>
            <a:ext cx="2209680" cy="1609560"/>
          </a:xfrm>
          <a:prstGeom prst="rect">
            <a:avLst/>
          </a:prstGeom>
          <a:ln w="0">
            <a:noFill/>
          </a:ln>
        </p:spPr>
      </p:pic>
      <p:pic>
        <p:nvPicPr>
          <p:cNvPr id="364" name="Picture 12" descr="external image IL1Z4LAZRLRRIHAHIHDH4HRRWHAZUHAZUHDHZLNZ7L1Z9H3H4LAZMLFHPHYH6HVZWHLR9HVZQL2ZGLLREHNZLLNZ6H.jpg"/>
          <p:cNvPicPr/>
          <p:nvPr/>
        </p:nvPicPr>
        <p:blipFill>
          <a:blip r:embed="rId7"/>
          <a:stretch/>
        </p:blipFill>
        <p:spPr>
          <a:xfrm>
            <a:off x="2362320" y="3429000"/>
            <a:ext cx="2133360" cy="1600200"/>
          </a:xfrm>
          <a:prstGeom prst="rect">
            <a:avLst/>
          </a:prstGeom>
          <a:ln w="0">
            <a:noFill/>
          </a:ln>
        </p:spPr>
      </p:pic>
      <p:pic>
        <p:nvPicPr>
          <p:cNvPr id="365" name="Picture 14" descr="external image is0238_1m.jpg"/>
          <p:cNvPicPr/>
          <p:nvPr/>
        </p:nvPicPr>
        <p:blipFill>
          <a:blip r:embed="rId8"/>
          <a:stretch/>
        </p:blipFill>
        <p:spPr>
          <a:xfrm>
            <a:off x="4648320" y="3429000"/>
            <a:ext cx="2590560" cy="1600200"/>
          </a:xfrm>
          <a:prstGeom prst="rect">
            <a:avLst/>
          </a:prstGeom>
          <a:ln w="0">
            <a:noFill/>
          </a:ln>
        </p:spPr>
      </p:pic>
      <p:pic>
        <p:nvPicPr>
          <p:cNvPr id="366" name="Picture 16" descr="external image d1-25cn33111077.jpg"/>
          <p:cNvPicPr/>
          <p:nvPr/>
        </p:nvPicPr>
        <p:blipFill>
          <a:blip r:embed="rId9"/>
          <a:stretch/>
        </p:blipFill>
        <p:spPr>
          <a:xfrm>
            <a:off x="0" y="5105520"/>
            <a:ext cx="2590920" cy="1752480"/>
          </a:xfrm>
          <a:prstGeom prst="rect">
            <a:avLst/>
          </a:prstGeom>
          <a:ln w="0">
            <a:noFill/>
          </a:ln>
        </p:spPr>
      </p:pic>
      <p:pic>
        <p:nvPicPr>
          <p:cNvPr id="367" name="Picture 18" descr="external image 220px-Galloisiana_nipponensis.jpg"/>
          <p:cNvPicPr/>
          <p:nvPr/>
        </p:nvPicPr>
        <p:blipFill>
          <a:blip r:embed="rId10"/>
          <a:stretch/>
        </p:blipFill>
        <p:spPr>
          <a:xfrm>
            <a:off x="2666880" y="5105520"/>
            <a:ext cx="2210040" cy="1752480"/>
          </a:xfrm>
          <a:prstGeom prst="rect">
            <a:avLst/>
          </a:prstGeom>
          <a:ln w="0">
            <a:noFill/>
          </a:ln>
        </p:spPr>
      </p:pic>
      <p:pic>
        <p:nvPicPr>
          <p:cNvPr id="368" name="Picture 20" descr="external image SZCL7ZULFLULZZELJLDZJLYZSRULYLWLIRFZMROZ5RBL8RKHKZDLIZZHIZ0H0ZTLLZ6LZZ2LLZ9L0R.jpg"/>
          <p:cNvPicPr/>
          <p:nvPr/>
        </p:nvPicPr>
        <p:blipFill>
          <a:blip r:embed="rId11"/>
          <a:stretch/>
        </p:blipFill>
        <p:spPr>
          <a:xfrm>
            <a:off x="5303880" y="5075280"/>
            <a:ext cx="2636640" cy="1676520"/>
          </a:xfrm>
          <a:prstGeom prst="rect">
            <a:avLst/>
          </a:prstGeom>
          <a:ln w="0">
            <a:noFill/>
          </a:ln>
        </p:spPr>
      </p:pic>
      <p:sp>
        <p:nvSpPr>
          <p:cNvPr id="369" name=""/>
          <p:cNvSpPr/>
          <p:nvPr/>
        </p:nvSpPr>
        <p:spPr>
          <a:xfrm>
            <a:off x="0" y="3611520"/>
            <a:ext cx="274680" cy="27324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med">
    <p:checker dir="horz"/>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50000">
              <a:srgbClr val="ff3399"/>
            </a:gs>
            <a:gs pos="100000">
              <a:srgbClr val="3366ff"/>
            </a:gs>
          </a:gsLst>
          <a:lin ang="8100000"/>
        </a:gradFill>
      </p:bgPr>
    </p:bg>
    <p:spTree>
      <p:nvGrpSpPr>
        <p:cNvPr id="1" name=""/>
        <p:cNvGrpSpPr/>
        <p:nvPr/>
      </p:nvGrpSpPr>
      <p:grpSpPr>
        <a:xfrm>
          <a:off x="0" y="0"/>
          <a:ext cx="0" cy="0"/>
          <a:chOff x="0" y="0"/>
          <a:chExt cx="0" cy="0"/>
        </a:xfrm>
      </p:grpSpPr>
      <p:pic>
        <p:nvPicPr>
          <p:cNvPr id="370" name="" descr=""/>
          <p:cNvPicPr/>
          <p:nvPr/>
        </p:nvPicPr>
        <p:blipFill>
          <a:blip r:embed="rId1"/>
          <a:stretch/>
        </p:blipFill>
        <p:spPr>
          <a:xfrm>
            <a:off x="639720" y="1600200"/>
            <a:ext cx="7040520" cy="1668600"/>
          </a:xfrm>
          <a:prstGeom prst="rect">
            <a:avLst/>
          </a:prstGeom>
          <a:ln w="0">
            <a:noFill/>
          </a:ln>
        </p:spPr>
      </p:pic>
      <p:pic>
        <p:nvPicPr>
          <p:cNvPr id="371" name="" descr=""/>
          <p:cNvPicPr/>
          <p:nvPr/>
        </p:nvPicPr>
        <p:blipFill>
          <a:blip r:embed="rId2"/>
          <a:stretch/>
        </p:blipFill>
        <p:spPr>
          <a:xfrm>
            <a:off x="365040" y="3154320"/>
            <a:ext cx="7315200" cy="1871640"/>
          </a:xfrm>
          <a:prstGeom prst="rect">
            <a:avLst/>
          </a:prstGeom>
          <a:ln w="0">
            <a:noFill/>
          </a:ln>
        </p:spPr>
      </p:pic>
    </p:spTree>
  </p:cSld>
  <p:transition spd="med">
    <p:newsflash/>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00"/>
            </a:gs>
            <a:gs pos="50000">
              <a:srgbClr val="99ff99"/>
            </a:gs>
            <a:gs pos="100000">
              <a:srgbClr val="00cc00"/>
            </a:gs>
          </a:gsLst>
          <a:lin ang="5400000"/>
        </a:gra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28240"/>
            <a:ext cx="8229600" cy="1143000"/>
          </a:xfrm>
          <a:prstGeom prst="rect">
            <a:avLst/>
          </a:prstGeom>
          <a:solidFill>
            <a:srgbClr val="ffff00"/>
          </a:solidFill>
          <a:ln w="9360">
            <a:solidFill>
              <a:srgbClr val="ffffff"/>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cc"/>
                </a:solidFill>
                <a:latin typeface="Lucida Console"/>
              </a:rPr>
              <a:t>Facts about Ice Bugs:</a:t>
            </a: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57240">
            <a:solidFill>
              <a:srgbClr val="ff0000"/>
            </a:solidFill>
            <a:prstDash val="dashDot"/>
            <a:miter/>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a:t>
            </a:r>
            <a:r>
              <a:rPr b="0" lang="en-US" sz="1800" spc="-1" strike="noStrike">
                <a:solidFill>
                  <a:srgbClr val="000000"/>
                </a:solidFill>
                <a:latin typeface="Lucida Console"/>
              </a:rPr>
              <a:t>Ice Bug’s were first discovered around 1960, by E.M. Walke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Console"/>
              </a:rPr>
              <a:t>.</a:t>
            </a:r>
            <a:r>
              <a:rPr b="0" lang="en-US" sz="1800" spc="-1" strike="noStrike">
                <a:solidFill>
                  <a:srgbClr val="000000"/>
                </a:solidFill>
                <a:latin typeface="Lucida Console"/>
              </a:rPr>
              <a:t> They seemed to represent Cookroaches,Cricke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Console"/>
              </a:rPr>
              <a:t>Grass hopers, hence their scientific name is Grylloblattodea.</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Console"/>
              </a:rPr>
              <a:t>.</a:t>
            </a:r>
            <a:r>
              <a:rPr b="0" lang="en-US" sz="1800" spc="-1" strike="noStrike">
                <a:solidFill>
                  <a:srgbClr val="000000"/>
                </a:solidFill>
                <a:latin typeface="Lucida Console"/>
              </a:rPr>
              <a:t>With only 25 species found in world wide,Ice Bugs are the second smallest order of species out of the insects</a:t>
            </a:r>
            <a:r>
              <a:rPr b="1" lang="en-US" sz="1800" spc="-1" strike="noStrike">
                <a:solidFill>
                  <a:srgbClr val="000000"/>
                </a:solidFill>
                <a:latin typeface="Lucida Console"/>
              </a:rPr>
              <a: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Console"/>
              </a:rPr>
              <a:t>.</a:t>
            </a:r>
            <a:r>
              <a:rPr b="0" lang="en-US" sz="1800" spc="-1" strike="noStrike">
                <a:solidFill>
                  <a:srgbClr val="000000"/>
                </a:solidFill>
                <a:latin typeface="Lucida Console"/>
              </a:rPr>
              <a:t>They can not tolerate warm temperatures.Most species are active below FREEZING temperatures and usually die above 10 degrees Celsiu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Console"/>
              </a:rPr>
              <a:t>.</a:t>
            </a:r>
            <a:r>
              <a:rPr b="0" lang="en-US" sz="1800" spc="-1" strike="noStrike">
                <a:solidFill>
                  <a:srgbClr val="000000"/>
                </a:solidFill>
                <a:latin typeface="Lucida Console"/>
              </a:rPr>
              <a:t>Due to the cold temperature at which they live, growth and development is very slow. Ice Bugs may require up to seven years to complete a single generatio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
          <p:cNvSpPr/>
          <p:nvPr/>
        </p:nvSpPr>
        <p:spPr>
          <a:xfrm>
            <a:off x="0" y="2149560"/>
            <a:ext cx="274680" cy="274680"/>
          </a:xfrm>
          <a:custGeom>
            <a:avLst/>
            <a:gdLst>
              <a:gd name="textAreaLeft" fmla="*/ 64440 w 274680"/>
              <a:gd name="textAreaRight" fmla="*/ 209880 w 274680"/>
              <a:gd name="textAreaTop" fmla="*/ 32040 h 274680"/>
              <a:gd name="textAreaBottom" fmla="*/ 172440 h 274680"/>
            </a:gdLst>
            <a:ahLst/>
            <a:rect l="textAreaLeft" t="textAreaTop" r="textAreaRight" b="textAreaBottom"/>
            <a:pathLst>
              <a:path w="21615" h="21602">
                <a:moveTo>
                  <a:pt x="10800" y="21599"/>
                </a:moveTo>
                <a:lnTo>
                  <a:pt x="321" y="6886"/>
                </a:lnTo>
                <a:lnTo>
                  <a:pt x="70" y="6036"/>
                </a:lnTo>
                <a:cubicBezTo>
                  <a:pt x="-9" y="5766"/>
                  <a:pt x="-1" y="5474"/>
                  <a:pt x="2" y="5192"/>
                </a:cubicBezTo>
                <a:cubicBezTo>
                  <a:pt x="6" y="4918"/>
                  <a:pt x="43" y="4641"/>
                  <a:pt x="101" y="4370"/>
                </a:cubicBezTo>
                <a:cubicBezTo>
                  <a:pt x="159" y="4103"/>
                  <a:pt x="245" y="3837"/>
                  <a:pt x="353" y="3582"/>
                </a:cubicBezTo>
                <a:cubicBezTo>
                  <a:pt x="460" y="3326"/>
                  <a:pt x="591" y="3077"/>
                  <a:pt x="741" y="2839"/>
                </a:cubicBezTo>
                <a:cubicBezTo>
                  <a:pt x="892" y="2598"/>
                  <a:pt x="1066" y="2369"/>
                  <a:pt x="1253" y="2155"/>
                </a:cubicBezTo>
                <a:cubicBezTo>
                  <a:pt x="1443" y="1938"/>
                  <a:pt x="1651" y="1732"/>
                  <a:pt x="1874" y="1543"/>
                </a:cubicBezTo>
                <a:cubicBezTo>
                  <a:pt x="2097" y="1351"/>
                  <a:pt x="2337" y="1174"/>
                  <a:pt x="2587" y="1014"/>
                </a:cubicBezTo>
                <a:cubicBezTo>
                  <a:pt x="2839" y="854"/>
                  <a:pt x="3106" y="708"/>
                  <a:pt x="3380" y="584"/>
                </a:cubicBezTo>
                <a:cubicBezTo>
                  <a:pt x="3656" y="459"/>
                  <a:pt x="3945" y="350"/>
                  <a:pt x="4237" y="264"/>
                </a:cubicBezTo>
                <a:cubicBezTo>
                  <a:pt x="4533" y="176"/>
                  <a:pt x="4838" y="108"/>
                  <a:pt x="5144" y="66"/>
                </a:cubicBezTo>
                <a:cubicBezTo>
                  <a:pt x="5454" y="22"/>
                  <a:pt x="5771" y="1"/>
                  <a:pt x="6086" y="3"/>
                </a:cubicBezTo>
                <a:cubicBezTo>
                  <a:pt x="6407" y="7"/>
                  <a:pt x="6731" y="35"/>
                  <a:pt x="7048" y="89"/>
                </a:cubicBezTo>
                <a:cubicBezTo>
                  <a:pt x="7374" y="144"/>
                  <a:pt x="7700" y="226"/>
                  <a:pt x="8015" y="335"/>
                </a:cubicBezTo>
                <a:cubicBezTo>
                  <a:pt x="8344" y="447"/>
                  <a:pt x="8667" y="590"/>
                  <a:pt x="8972" y="756"/>
                </a:cubicBezTo>
                <a:cubicBezTo>
                  <a:pt x="9297" y="932"/>
                  <a:pt x="9613" y="1135"/>
                  <a:pt x="9907" y="1363"/>
                </a:cubicBezTo>
                <a:cubicBezTo>
                  <a:pt x="10224" y="1609"/>
                  <a:pt x="10504" y="1900"/>
                  <a:pt x="10802" y="2169"/>
                </a:cubicBezTo>
                <a:lnTo>
                  <a:pt x="11697" y="1363"/>
                </a:lnTo>
                <a:cubicBezTo>
                  <a:pt x="11971" y="1116"/>
                  <a:pt x="12304" y="934"/>
                  <a:pt x="12630" y="756"/>
                </a:cubicBezTo>
                <a:cubicBezTo>
                  <a:pt x="12935" y="590"/>
                  <a:pt x="13528" y="450"/>
                  <a:pt x="13589" y="335"/>
                </a:cubicBezTo>
                <a:cubicBezTo>
                  <a:pt x="13901" y="226"/>
                  <a:pt x="14227" y="144"/>
                  <a:pt x="14556" y="89"/>
                </a:cubicBezTo>
                <a:cubicBezTo>
                  <a:pt x="14872" y="35"/>
                  <a:pt x="15195" y="7"/>
                  <a:pt x="15517" y="3"/>
                </a:cubicBezTo>
                <a:cubicBezTo>
                  <a:pt x="15830" y="0"/>
                  <a:pt x="16147" y="22"/>
                  <a:pt x="16458" y="66"/>
                </a:cubicBezTo>
                <a:cubicBezTo>
                  <a:pt x="16764" y="109"/>
                  <a:pt x="17068" y="177"/>
                  <a:pt x="17365" y="264"/>
                </a:cubicBezTo>
                <a:cubicBezTo>
                  <a:pt x="17658" y="349"/>
                  <a:pt x="17946" y="458"/>
                  <a:pt x="18222" y="584"/>
                </a:cubicBezTo>
                <a:cubicBezTo>
                  <a:pt x="18496" y="708"/>
                  <a:pt x="18762" y="854"/>
                  <a:pt x="19015" y="1014"/>
                </a:cubicBezTo>
                <a:cubicBezTo>
                  <a:pt x="19264" y="1172"/>
                  <a:pt x="19504" y="1349"/>
                  <a:pt x="19730" y="1543"/>
                </a:cubicBezTo>
                <a:cubicBezTo>
                  <a:pt x="19950" y="1731"/>
                  <a:pt x="20158" y="1937"/>
                  <a:pt x="20350" y="2155"/>
                </a:cubicBezTo>
                <a:cubicBezTo>
                  <a:pt x="20536" y="2369"/>
                  <a:pt x="20710" y="2598"/>
                  <a:pt x="20861" y="2839"/>
                </a:cubicBezTo>
                <a:cubicBezTo>
                  <a:pt x="21010" y="3074"/>
                  <a:pt x="21143" y="3323"/>
                  <a:pt x="21251" y="3582"/>
                </a:cubicBezTo>
                <a:cubicBezTo>
                  <a:pt x="21357" y="3835"/>
                  <a:pt x="21443" y="4099"/>
                  <a:pt x="21502" y="4370"/>
                </a:cubicBezTo>
                <a:cubicBezTo>
                  <a:pt x="21561" y="4639"/>
                  <a:pt x="21595" y="4916"/>
                  <a:pt x="21600" y="5192"/>
                </a:cubicBezTo>
                <a:cubicBezTo>
                  <a:pt x="21606" y="5474"/>
                  <a:pt x="21584" y="5760"/>
                  <a:pt x="21532" y="6036"/>
                </a:cubicBezTo>
                <a:cubicBezTo>
                  <a:pt x="21478" y="6326"/>
                  <a:pt x="21366" y="6603"/>
                  <a:pt x="21282" y="6887"/>
                </a:cubicBezTo>
                <a:lnTo>
                  <a:pt x="10802" y="21602"/>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 name=""/>
          <p:cNvSpPr/>
          <p:nvPr/>
        </p:nvSpPr>
        <p:spPr>
          <a:xfrm>
            <a:off x="0" y="3611520"/>
            <a:ext cx="274680" cy="274680"/>
          </a:xfrm>
          <a:custGeom>
            <a:avLst/>
            <a:gdLst>
              <a:gd name="textAreaLeft" fmla="*/ 64440 w 274680"/>
              <a:gd name="textAreaRight" fmla="*/ 209880 w 274680"/>
              <a:gd name="textAreaTop" fmla="*/ 32040 h 274680"/>
              <a:gd name="textAreaBottom" fmla="*/ 172440 h 274680"/>
            </a:gdLst>
            <a:ahLst/>
            <a:rect l="textAreaLeft" t="textAreaTop" r="textAreaRight" b="textAreaBottom"/>
            <a:pathLst>
              <a:path w="21615" h="21602">
                <a:moveTo>
                  <a:pt x="10800" y="21599"/>
                </a:moveTo>
                <a:lnTo>
                  <a:pt x="321" y="6886"/>
                </a:lnTo>
                <a:lnTo>
                  <a:pt x="70" y="6036"/>
                </a:lnTo>
                <a:cubicBezTo>
                  <a:pt x="-9" y="5766"/>
                  <a:pt x="-1" y="5474"/>
                  <a:pt x="2" y="5192"/>
                </a:cubicBezTo>
                <a:cubicBezTo>
                  <a:pt x="6" y="4918"/>
                  <a:pt x="43" y="4641"/>
                  <a:pt x="101" y="4370"/>
                </a:cubicBezTo>
                <a:cubicBezTo>
                  <a:pt x="159" y="4103"/>
                  <a:pt x="245" y="3837"/>
                  <a:pt x="353" y="3582"/>
                </a:cubicBezTo>
                <a:cubicBezTo>
                  <a:pt x="460" y="3326"/>
                  <a:pt x="591" y="3077"/>
                  <a:pt x="741" y="2839"/>
                </a:cubicBezTo>
                <a:cubicBezTo>
                  <a:pt x="892" y="2598"/>
                  <a:pt x="1066" y="2369"/>
                  <a:pt x="1253" y="2155"/>
                </a:cubicBezTo>
                <a:cubicBezTo>
                  <a:pt x="1443" y="1938"/>
                  <a:pt x="1651" y="1732"/>
                  <a:pt x="1874" y="1543"/>
                </a:cubicBezTo>
                <a:cubicBezTo>
                  <a:pt x="2097" y="1351"/>
                  <a:pt x="2337" y="1174"/>
                  <a:pt x="2587" y="1014"/>
                </a:cubicBezTo>
                <a:cubicBezTo>
                  <a:pt x="2839" y="854"/>
                  <a:pt x="3106" y="708"/>
                  <a:pt x="3380" y="584"/>
                </a:cubicBezTo>
                <a:cubicBezTo>
                  <a:pt x="3656" y="459"/>
                  <a:pt x="3945" y="350"/>
                  <a:pt x="4237" y="264"/>
                </a:cubicBezTo>
                <a:cubicBezTo>
                  <a:pt x="4533" y="176"/>
                  <a:pt x="4838" y="108"/>
                  <a:pt x="5144" y="66"/>
                </a:cubicBezTo>
                <a:cubicBezTo>
                  <a:pt x="5454" y="22"/>
                  <a:pt x="5771" y="1"/>
                  <a:pt x="6086" y="3"/>
                </a:cubicBezTo>
                <a:cubicBezTo>
                  <a:pt x="6407" y="7"/>
                  <a:pt x="6731" y="35"/>
                  <a:pt x="7048" y="89"/>
                </a:cubicBezTo>
                <a:cubicBezTo>
                  <a:pt x="7374" y="144"/>
                  <a:pt x="7700" y="226"/>
                  <a:pt x="8015" y="335"/>
                </a:cubicBezTo>
                <a:cubicBezTo>
                  <a:pt x="8344" y="447"/>
                  <a:pt x="8667" y="590"/>
                  <a:pt x="8972" y="756"/>
                </a:cubicBezTo>
                <a:cubicBezTo>
                  <a:pt x="9297" y="932"/>
                  <a:pt x="9613" y="1135"/>
                  <a:pt x="9907" y="1363"/>
                </a:cubicBezTo>
                <a:cubicBezTo>
                  <a:pt x="10224" y="1609"/>
                  <a:pt x="10504" y="1900"/>
                  <a:pt x="10802" y="2169"/>
                </a:cubicBezTo>
                <a:lnTo>
                  <a:pt x="11697" y="1363"/>
                </a:lnTo>
                <a:cubicBezTo>
                  <a:pt x="11971" y="1116"/>
                  <a:pt x="12304" y="934"/>
                  <a:pt x="12630" y="756"/>
                </a:cubicBezTo>
                <a:cubicBezTo>
                  <a:pt x="12935" y="590"/>
                  <a:pt x="13528" y="450"/>
                  <a:pt x="13589" y="335"/>
                </a:cubicBezTo>
                <a:cubicBezTo>
                  <a:pt x="13901" y="226"/>
                  <a:pt x="14227" y="144"/>
                  <a:pt x="14556" y="89"/>
                </a:cubicBezTo>
                <a:cubicBezTo>
                  <a:pt x="14872" y="35"/>
                  <a:pt x="15195" y="7"/>
                  <a:pt x="15517" y="3"/>
                </a:cubicBezTo>
                <a:cubicBezTo>
                  <a:pt x="15830" y="0"/>
                  <a:pt x="16147" y="22"/>
                  <a:pt x="16458" y="66"/>
                </a:cubicBezTo>
                <a:cubicBezTo>
                  <a:pt x="16764" y="109"/>
                  <a:pt x="17068" y="177"/>
                  <a:pt x="17365" y="264"/>
                </a:cubicBezTo>
                <a:cubicBezTo>
                  <a:pt x="17658" y="349"/>
                  <a:pt x="17946" y="458"/>
                  <a:pt x="18222" y="584"/>
                </a:cubicBezTo>
                <a:cubicBezTo>
                  <a:pt x="18496" y="708"/>
                  <a:pt x="18762" y="854"/>
                  <a:pt x="19015" y="1014"/>
                </a:cubicBezTo>
                <a:cubicBezTo>
                  <a:pt x="19264" y="1172"/>
                  <a:pt x="19504" y="1349"/>
                  <a:pt x="19730" y="1543"/>
                </a:cubicBezTo>
                <a:cubicBezTo>
                  <a:pt x="19950" y="1731"/>
                  <a:pt x="20158" y="1937"/>
                  <a:pt x="20350" y="2155"/>
                </a:cubicBezTo>
                <a:cubicBezTo>
                  <a:pt x="20536" y="2369"/>
                  <a:pt x="20710" y="2598"/>
                  <a:pt x="20861" y="2839"/>
                </a:cubicBezTo>
                <a:cubicBezTo>
                  <a:pt x="21010" y="3074"/>
                  <a:pt x="21143" y="3323"/>
                  <a:pt x="21251" y="3582"/>
                </a:cubicBezTo>
                <a:cubicBezTo>
                  <a:pt x="21357" y="3835"/>
                  <a:pt x="21443" y="4099"/>
                  <a:pt x="21502" y="4370"/>
                </a:cubicBezTo>
                <a:cubicBezTo>
                  <a:pt x="21561" y="4639"/>
                  <a:pt x="21595" y="4916"/>
                  <a:pt x="21600" y="5192"/>
                </a:cubicBezTo>
                <a:cubicBezTo>
                  <a:pt x="21606" y="5474"/>
                  <a:pt x="21584" y="5760"/>
                  <a:pt x="21532" y="6036"/>
                </a:cubicBezTo>
                <a:cubicBezTo>
                  <a:pt x="21478" y="6326"/>
                  <a:pt x="21366" y="6603"/>
                  <a:pt x="21282" y="6887"/>
                </a:cubicBezTo>
                <a:lnTo>
                  <a:pt x="10802" y="21602"/>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 name=""/>
          <p:cNvSpPr/>
          <p:nvPr/>
        </p:nvSpPr>
        <p:spPr>
          <a:xfrm>
            <a:off x="0" y="5075280"/>
            <a:ext cx="274680" cy="274680"/>
          </a:xfrm>
          <a:custGeom>
            <a:avLst/>
            <a:gdLst>
              <a:gd name="textAreaLeft" fmla="*/ 64440 w 274680"/>
              <a:gd name="textAreaRight" fmla="*/ 209880 w 274680"/>
              <a:gd name="textAreaTop" fmla="*/ 32040 h 274680"/>
              <a:gd name="textAreaBottom" fmla="*/ 172440 h 274680"/>
            </a:gdLst>
            <a:ahLst/>
            <a:rect l="textAreaLeft" t="textAreaTop" r="textAreaRight" b="textAreaBottom"/>
            <a:pathLst>
              <a:path w="21615" h="21602">
                <a:moveTo>
                  <a:pt x="10800" y="21599"/>
                </a:moveTo>
                <a:lnTo>
                  <a:pt x="321" y="6886"/>
                </a:lnTo>
                <a:lnTo>
                  <a:pt x="70" y="6036"/>
                </a:lnTo>
                <a:cubicBezTo>
                  <a:pt x="-9" y="5766"/>
                  <a:pt x="-1" y="5474"/>
                  <a:pt x="2" y="5192"/>
                </a:cubicBezTo>
                <a:cubicBezTo>
                  <a:pt x="6" y="4918"/>
                  <a:pt x="43" y="4641"/>
                  <a:pt x="101" y="4370"/>
                </a:cubicBezTo>
                <a:cubicBezTo>
                  <a:pt x="159" y="4103"/>
                  <a:pt x="245" y="3837"/>
                  <a:pt x="353" y="3582"/>
                </a:cubicBezTo>
                <a:cubicBezTo>
                  <a:pt x="460" y="3326"/>
                  <a:pt x="591" y="3077"/>
                  <a:pt x="741" y="2839"/>
                </a:cubicBezTo>
                <a:cubicBezTo>
                  <a:pt x="892" y="2598"/>
                  <a:pt x="1066" y="2369"/>
                  <a:pt x="1253" y="2155"/>
                </a:cubicBezTo>
                <a:cubicBezTo>
                  <a:pt x="1443" y="1938"/>
                  <a:pt x="1651" y="1732"/>
                  <a:pt x="1874" y="1543"/>
                </a:cubicBezTo>
                <a:cubicBezTo>
                  <a:pt x="2097" y="1351"/>
                  <a:pt x="2337" y="1174"/>
                  <a:pt x="2587" y="1014"/>
                </a:cubicBezTo>
                <a:cubicBezTo>
                  <a:pt x="2839" y="854"/>
                  <a:pt x="3106" y="708"/>
                  <a:pt x="3380" y="584"/>
                </a:cubicBezTo>
                <a:cubicBezTo>
                  <a:pt x="3656" y="459"/>
                  <a:pt x="3945" y="350"/>
                  <a:pt x="4237" y="264"/>
                </a:cubicBezTo>
                <a:cubicBezTo>
                  <a:pt x="4533" y="176"/>
                  <a:pt x="4838" y="108"/>
                  <a:pt x="5144" y="66"/>
                </a:cubicBezTo>
                <a:cubicBezTo>
                  <a:pt x="5454" y="22"/>
                  <a:pt x="5771" y="1"/>
                  <a:pt x="6086" y="3"/>
                </a:cubicBezTo>
                <a:cubicBezTo>
                  <a:pt x="6407" y="7"/>
                  <a:pt x="6731" y="35"/>
                  <a:pt x="7048" y="89"/>
                </a:cubicBezTo>
                <a:cubicBezTo>
                  <a:pt x="7374" y="144"/>
                  <a:pt x="7700" y="226"/>
                  <a:pt x="8015" y="335"/>
                </a:cubicBezTo>
                <a:cubicBezTo>
                  <a:pt x="8344" y="447"/>
                  <a:pt x="8667" y="590"/>
                  <a:pt x="8972" y="756"/>
                </a:cubicBezTo>
                <a:cubicBezTo>
                  <a:pt x="9297" y="932"/>
                  <a:pt x="9613" y="1135"/>
                  <a:pt x="9907" y="1363"/>
                </a:cubicBezTo>
                <a:cubicBezTo>
                  <a:pt x="10224" y="1609"/>
                  <a:pt x="10504" y="1900"/>
                  <a:pt x="10802" y="2169"/>
                </a:cubicBezTo>
                <a:lnTo>
                  <a:pt x="11697" y="1363"/>
                </a:lnTo>
                <a:cubicBezTo>
                  <a:pt x="11971" y="1116"/>
                  <a:pt x="12304" y="934"/>
                  <a:pt x="12630" y="756"/>
                </a:cubicBezTo>
                <a:cubicBezTo>
                  <a:pt x="12935" y="590"/>
                  <a:pt x="13528" y="450"/>
                  <a:pt x="13589" y="335"/>
                </a:cubicBezTo>
                <a:cubicBezTo>
                  <a:pt x="13901" y="226"/>
                  <a:pt x="14227" y="144"/>
                  <a:pt x="14556" y="89"/>
                </a:cubicBezTo>
                <a:cubicBezTo>
                  <a:pt x="14872" y="35"/>
                  <a:pt x="15195" y="7"/>
                  <a:pt x="15517" y="3"/>
                </a:cubicBezTo>
                <a:cubicBezTo>
                  <a:pt x="15830" y="0"/>
                  <a:pt x="16147" y="22"/>
                  <a:pt x="16458" y="66"/>
                </a:cubicBezTo>
                <a:cubicBezTo>
                  <a:pt x="16764" y="109"/>
                  <a:pt x="17068" y="177"/>
                  <a:pt x="17365" y="264"/>
                </a:cubicBezTo>
                <a:cubicBezTo>
                  <a:pt x="17658" y="349"/>
                  <a:pt x="17946" y="458"/>
                  <a:pt x="18222" y="584"/>
                </a:cubicBezTo>
                <a:cubicBezTo>
                  <a:pt x="18496" y="708"/>
                  <a:pt x="18762" y="854"/>
                  <a:pt x="19015" y="1014"/>
                </a:cubicBezTo>
                <a:cubicBezTo>
                  <a:pt x="19264" y="1172"/>
                  <a:pt x="19504" y="1349"/>
                  <a:pt x="19730" y="1543"/>
                </a:cubicBezTo>
                <a:cubicBezTo>
                  <a:pt x="19950" y="1731"/>
                  <a:pt x="20158" y="1937"/>
                  <a:pt x="20350" y="2155"/>
                </a:cubicBezTo>
                <a:cubicBezTo>
                  <a:pt x="20536" y="2369"/>
                  <a:pt x="20710" y="2598"/>
                  <a:pt x="20861" y="2839"/>
                </a:cubicBezTo>
                <a:cubicBezTo>
                  <a:pt x="21010" y="3074"/>
                  <a:pt x="21143" y="3323"/>
                  <a:pt x="21251" y="3582"/>
                </a:cubicBezTo>
                <a:cubicBezTo>
                  <a:pt x="21357" y="3835"/>
                  <a:pt x="21443" y="4099"/>
                  <a:pt x="21502" y="4370"/>
                </a:cubicBezTo>
                <a:cubicBezTo>
                  <a:pt x="21561" y="4639"/>
                  <a:pt x="21595" y="4916"/>
                  <a:pt x="21600" y="5192"/>
                </a:cubicBezTo>
                <a:cubicBezTo>
                  <a:pt x="21606" y="5474"/>
                  <a:pt x="21584" y="5760"/>
                  <a:pt x="21532" y="6036"/>
                </a:cubicBezTo>
                <a:cubicBezTo>
                  <a:pt x="21478" y="6326"/>
                  <a:pt x="21366" y="6603"/>
                  <a:pt x="21282" y="6887"/>
                </a:cubicBezTo>
                <a:lnTo>
                  <a:pt x="10802" y="21602"/>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p:cNvSpPr/>
          <p:nvPr/>
        </p:nvSpPr>
        <p:spPr>
          <a:xfrm>
            <a:off x="0" y="593640"/>
            <a:ext cx="274680" cy="27324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p:cNvSpPr/>
          <p:nvPr/>
        </p:nvSpPr>
        <p:spPr>
          <a:xfrm>
            <a:off x="0" y="2789280"/>
            <a:ext cx="274680" cy="27288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 name=""/>
          <p:cNvSpPr/>
          <p:nvPr/>
        </p:nvSpPr>
        <p:spPr>
          <a:xfrm>
            <a:off x="0" y="4160880"/>
            <a:ext cx="274680" cy="27288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med" advTm="0">
    <p:strips dir="rd"/>
  </p:transition>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56">
                                  <p:stCondLst>
                                    <p:cond delay="0"/>
                                  </p:stCondLst>
                                  <p:iterate type="lt">
                                    <p:tmAbs val="100"/>
                                  </p:iterate>
                                  <p:childTnLst>
                                    <p:set>
                                      <p:cBhvr>
                                        <p:cTn id="41" dur="1" fill="hold">
                                          <p:stCondLst>
                                            <p:cond delay="0"/>
                                          </p:stCondLst>
                                        </p:cTn>
                                        <p:tgtEl>
                                          <p:spTgt spid="66"/>
                                        </p:tgtEl>
                                        <p:attrNameLst>
                                          <p:attrName>style.visibility</p:attrName>
                                        </p:attrNameLst>
                                      </p:cBhvr>
                                      <p:to>
                                        <p:strVal val="visible"/>
                                      </p:to>
                                    </p:set>
                                    <p:anim calcmode="lin" valueType="num" by="(-#ppt_w*2)">
                                      <p:cBhvr additive="repl">
                                        <p:cTn id="42" dur="500" autoRev="1" fill="hold">
                                          <p:stCondLst>
                                            <p:cond delay="0"/>
                                          </p:stCondLst>
                                        </p:cTn>
                                        <p:tgtEl>
                                          <p:spTgt spid="66"/>
                                        </p:tgtEl>
                                        <p:attrNameLst>
                                          <p:attrName>ppt_w</p:attrName>
                                        </p:attrNameLst>
                                      </p:cBhvr>
                                    </p:anim>
                                    <p:anim calcmode="lin" valueType="num" by="(#ppt_w*0.50)">
                                      <p:cBhvr additive="repl">
                                        <p:cTn id="43" dur="500" autoRev="1" fill="hold">
                                          <p:stCondLst>
                                            <p:cond delay="0"/>
                                          </p:stCondLst>
                                        </p:cTn>
                                        <p:tgtEl>
                                          <p:spTgt spid="66"/>
                                        </p:tgtEl>
                                        <p:attrNameLst>
                                          <p:attrName>ppt_x</p:attrName>
                                        </p:attrNameLst>
                                      </p:cBhvr>
                                    </p:anim>
                                    <p:anim calcmode="lin" valueType="num" from="(-#ppt_h/2)" to="(#ppt_y)">
                                      <p:cBhvr additive="repl">
                                        <p:cTn id="44" dur="1000" fill="hold">
                                          <p:stCondLst>
                                            <p:cond delay="0"/>
                                          </p:stCondLst>
                                        </p:cTn>
                                        <p:tgtEl>
                                          <p:spTgt spid="66"/>
                                        </p:tgtEl>
                                        <p:attrNameLst>
                                          <p:attrName>ppt_y</p:attrName>
                                        </p:attrNameLst>
                                      </p:cBhvr>
                                    </p:anim>
                                    <p:animRot by="21600000">
                                      <p:cBhvr>
                                        <p:cTn id="45" dur="1000" fill="hold">
                                          <p:stCondLst>
                                            <p:cond delay="0"/>
                                          </p:stCondLst>
                                        </p:cTn>
                                        <p:tgtEl>
                                          <p:spTgt spid="66"/>
                                        </p:tgtEl>
                                        <p:attrNameLst>
                                          <p:attrName>r</p:attrName>
                                        </p:attrNameLst>
                                      </p:cBhvr>
                                    </p:animRo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56">
                                  <p:stCondLst>
                                    <p:cond delay="0"/>
                                  </p:stCondLst>
                                  <p:iterate type="lt">
                                    <p:tmAbs val="50"/>
                                  </p:iterate>
                                  <p:childTnLst>
                                    <p:set>
                                      <p:cBhvr>
                                        <p:cTn id="49" dur="1" fill="hold">
                                          <p:stCondLst>
                                            <p:cond delay="0"/>
                                          </p:stCondLst>
                                        </p:cTn>
                                        <p:tgtEl>
                                          <p:spTgt spid="67"/>
                                        </p:tgtEl>
                                        <p:attrNameLst>
                                          <p:attrName>style.visibility</p:attrName>
                                        </p:attrNameLst>
                                      </p:cBhvr>
                                      <p:to>
                                        <p:strVal val="visible"/>
                                      </p:to>
                                    </p:set>
                                    <p:anim calcmode="lin" valueType="num" by="(-#ppt_w*2)">
                                      <p:cBhvr additive="repl">
                                        <p:cTn id="50" dur="250" autoRev="1" fill="hold">
                                          <p:stCondLst>
                                            <p:cond delay="0"/>
                                          </p:stCondLst>
                                        </p:cTn>
                                        <p:tgtEl>
                                          <p:spTgt spid="67"/>
                                        </p:tgtEl>
                                        <p:attrNameLst>
                                          <p:attrName>ppt_w</p:attrName>
                                        </p:attrNameLst>
                                      </p:cBhvr>
                                    </p:anim>
                                    <p:anim calcmode="lin" valueType="num" by="(#ppt_w*0.50)">
                                      <p:cBhvr additive="repl">
                                        <p:cTn id="51" dur="250" autoRev="1" fill="hold">
                                          <p:stCondLst>
                                            <p:cond delay="0"/>
                                          </p:stCondLst>
                                        </p:cTn>
                                        <p:tgtEl>
                                          <p:spTgt spid="67"/>
                                        </p:tgtEl>
                                        <p:attrNameLst>
                                          <p:attrName>ppt_x</p:attrName>
                                        </p:attrNameLst>
                                      </p:cBhvr>
                                    </p:anim>
                                    <p:anim calcmode="lin" valueType="num" from="(-#ppt_h/2)" to="(#ppt_y)">
                                      <p:cBhvr additive="repl">
                                        <p:cTn id="52" dur="500" fill="hold">
                                          <p:stCondLst>
                                            <p:cond delay="0"/>
                                          </p:stCondLst>
                                        </p:cTn>
                                        <p:tgtEl>
                                          <p:spTgt spid="67"/>
                                        </p:tgtEl>
                                        <p:attrNameLst>
                                          <p:attrName>ppt_y</p:attrName>
                                        </p:attrNameLst>
                                      </p:cBhvr>
                                    </p:anim>
                                    <p:animRot by="21600000">
                                      <p:cBhvr>
                                        <p:cTn id="53" dur="500" fill="hold">
                                          <p:stCondLst>
                                            <p:cond delay="0"/>
                                          </p:stCondLst>
                                        </p:cTn>
                                        <p:tgtEl>
                                          <p:spTgt spid="67"/>
                                        </p:tgtEl>
                                        <p:attrNameLst>
                                          <p:attrName>r</p:attrName>
                                        </p:attrNameLst>
                                      </p:cBhvr>
                                    </p:animRo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56">
                                  <p:stCondLst>
                                    <p:cond delay="0"/>
                                  </p:stCondLst>
                                  <p:iterate type="lt">
                                    <p:tmAbs val="50"/>
                                  </p:iterate>
                                  <p:childTnLst>
                                    <p:set>
                                      <p:cBhvr>
                                        <p:cTn id="57" dur="1" fill="hold">
                                          <p:stCondLst>
                                            <p:cond delay="0"/>
                                          </p:stCondLst>
                                        </p:cTn>
                                        <p:tgtEl>
                                          <p:spTgt spid="67">
                                            <p:txEl>
                                              <p:pRg st="0" end="0"/>
                                            </p:txEl>
                                          </p:spTgt>
                                        </p:tgtEl>
                                        <p:attrNameLst>
                                          <p:attrName>style.visibility</p:attrName>
                                        </p:attrNameLst>
                                      </p:cBhvr>
                                      <p:to>
                                        <p:strVal val="visible"/>
                                      </p:to>
                                    </p:set>
                                    <p:anim calcmode="lin" valueType="num" by="(-#ppt_w*2)">
                                      <p:cBhvr additive="repl">
                                        <p:cTn id="58" dur="250" autoRev="1" fill="hold">
                                          <p:stCondLst>
                                            <p:cond delay="0"/>
                                          </p:stCondLst>
                                        </p:cTn>
                                        <p:tgtEl>
                                          <p:spTgt spid="67">
                                            <p:txEl>
                                              <p:pRg st="0" end="0"/>
                                            </p:txEl>
                                          </p:spTgt>
                                        </p:tgtEl>
                                        <p:attrNameLst>
                                          <p:attrName>ppt_w</p:attrName>
                                        </p:attrNameLst>
                                      </p:cBhvr>
                                    </p:anim>
                                    <p:anim calcmode="lin" valueType="num" by="(#ppt_w*0.50)">
                                      <p:cBhvr additive="repl">
                                        <p:cTn id="59" dur="250" autoRev="1" fill="hold">
                                          <p:stCondLst>
                                            <p:cond delay="0"/>
                                          </p:stCondLst>
                                        </p:cTn>
                                        <p:tgtEl>
                                          <p:spTgt spid="67">
                                            <p:txEl>
                                              <p:pRg st="0" end="0"/>
                                            </p:txEl>
                                          </p:spTgt>
                                        </p:tgtEl>
                                        <p:attrNameLst>
                                          <p:attrName>ppt_x</p:attrName>
                                        </p:attrNameLst>
                                      </p:cBhvr>
                                    </p:anim>
                                    <p:anim calcmode="lin" valueType="num" from="(-#ppt_h/2)" to="(#ppt_y)">
                                      <p:cBhvr additive="repl">
                                        <p:cTn id="60" dur="500" fill="hold">
                                          <p:stCondLst>
                                            <p:cond delay="0"/>
                                          </p:stCondLst>
                                        </p:cTn>
                                        <p:tgtEl>
                                          <p:spTgt spid="67">
                                            <p:txEl>
                                              <p:pRg st="0" end="0"/>
                                            </p:txEl>
                                          </p:spTgt>
                                        </p:tgtEl>
                                        <p:attrNameLst>
                                          <p:attrName>ppt_y</p:attrName>
                                        </p:attrNameLst>
                                      </p:cBhvr>
                                    </p:anim>
                                    <p:animRot by="21600000">
                                      <p:cBhvr>
                                        <p:cTn id="61" dur="500" fill="hold">
                                          <p:stCondLst>
                                            <p:cond delay="0"/>
                                          </p:stCondLst>
                                        </p:cTn>
                                        <p:tgtEl>
                                          <p:spTgt spid="67">
                                            <p:txEl>
                                              <p:pRg st="0" end="0"/>
                                            </p:txEl>
                                          </p:spTgt>
                                        </p:tgtEl>
                                        <p:attrNameLst>
                                          <p:attrName>r</p:attrName>
                                        </p:attrNameLst>
                                      </p:cBhvr>
                                    </p:animRo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56">
                                  <p:stCondLst>
                                    <p:cond delay="0"/>
                                  </p:stCondLst>
                                  <p:iterate type="lt">
                                    <p:tmAbs val="50"/>
                                  </p:iterate>
                                  <p:childTnLst>
                                    <p:set>
                                      <p:cBhvr>
                                        <p:cTn id="65" dur="1" fill="hold">
                                          <p:stCondLst>
                                            <p:cond delay="0"/>
                                          </p:stCondLst>
                                        </p:cTn>
                                        <p:tgtEl>
                                          <p:spTgt spid="67">
                                            <p:txEl>
                                              <p:pRg st="1" end="1"/>
                                            </p:txEl>
                                          </p:spTgt>
                                        </p:tgtEl>
                                        <p:attrNameLst>
                                          <p:attrName>style.visibility</p:attrName>
                                        </p:attrNameLst>
                                      </p:cBhvr>
                                      <p:to>
                                        <p:strVal val="visible"/>
                                      </p:to>
                                    </p:set>
                                    <p:anim calcmode="lin" valueType="num" by="(-#ppt_w*2)">
                                      <p:cBhvr additive="repl">
                                        <p:cTn id="66" dur="250" autoRev="1" fill="hold">
                                          <p:stCondLst>
                                            <p:cond delay="0"/>
                                          </p:stCondLst>
                                        </p:cTn>
                                        <p:tgtEl>
                                          <p:spTgt spid="67">
                                            <p:txEl>
                                              <p:pRg st="1" end="1"/>
                                            </p:txEl>
                                          </p:spTgt>
                                        </p:tgtEl>
                                        <p:attrNameLst>
                                          <p:attrName>ppt_w</p:attrName>
                                        </p:attrNameLst>
                                      </p:cBhvr>
                                    </p:anim>
                                    <p:anim calcmode="lin" valueType="num" by="(#ppt_w*0.50)">
                                      <p:cBhvr additive="repl">
                                        <p:cTn id="67" dur="250" autoRev="1" fill="hold">
                                          <p:stCondLst>
                                            <p:cond delay="0"/>
                                          </p:stCondLst>
                                        </p:cTn>
                                        <p:tgtEl>
                                          <p:spTgt spid="67">
                                            <p:txEl>
                                              <p:pRg st="1" end="1"/>
                                            </p:txEl>
                                          </p:spTgt>
                                        </p:tgtEl>
                                        <p:attrNameLst>
                                          <p:attrName>ppt_x</p:attrName>
                                        </p:attrNameLst>
                                      </p:cBhvr>
                                    </p:anim>
                                    <p:anim calcmode="lin" valueType="num" from="(-#ppt_h/2)" to="(#ppt_y)">
                                      <p:cBhvr additive="repl">
                                        <p:cTn id="68" dur="500" fill="hold">
                                          <p:stCondLst>
                                            <p:cond delay="0"/>
                                          </p:stCondLst>
                                        </p:cTn>
                                        <p:tgtEl>
                                          <p:spTgt spid="67">
                                            <p:txEl>
                                              <p:pRg st="1" end="1"/>
                                            </p:txEl>
                                          </p:spTgt>
                                        </p:tgtEl>
                                        <p:attrNameLst>
                                          <p:attrName>ppt_y</p:attrName>
                                        </p:attrNameLst>
                                      </p:cBhvr>
                                    </p:anim>
                                    <p:animRot by="21600000">
                                      <p:cBhvr>
                                        <p:cTn id="69" dur="500" fill="hold">
                                          <p:stCondLst>
                                            <p:cond delay="0"/>
                                          </p:stCondLst>
                                        </p:cTn>
                                        <p:tgtEl>
                                          <p:spTgt spid="67">
                                            <p:txEl>
                                              <p:pRg st="1" end="1"/>
                                            </p:txEl>
                                          </p:spTgt>
                                        </p:tgtEl>
                                        <p:attrNameLst>
                                          <p:attrName>r</p:attrName>
                                        </p:attrNameLst>
                                      </p:cBhvr>
                                    </p:animRo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56">
                                  <p:stCondLst>
                                    <p:cond delay="0"/>
                                  </p:stCondLst>
                                  <p:iterate type="lt">
                                    <p:tmAbs val="50"/>
                                  </p:iterate>
                                  <p:childTnLst>
                                    <p:set>
                                      <p:cBhvr>
                                        <p:cTn id="73" dur="1" fill="hold">
                                          <p:stCondLst>
                                            <p:cond delay="0"/>
                                          </p:stCondLst>
                                        </p:cTn>
                                        <p:tgtEl>
                                          <p:spTgt spid="67">
                                            <p:txEl>
                                              <p:pRg st="2" end="2"/>
                                            </p:txEl>
                                          </p:spTgt>
                                        </p:tgtEl>
                                        <p:attrNameLst>
                                          <p:attrName>style.visibility</p:attrName>
                                        </p:attrNameLst>
                                      </p:cBhvr>
                                      <p:to>
                                        <p:strVal val="visible"/>
                                      </p:to>
                                    </p:set>
                                    <p:anim calcmode="lin" valueType="num" by="(-#ppt_w*2)">
                                      <p:cBhvr additive="repl">
                                        <p:cTn id="74" dur="250" autoRev="1" fill="hold">
                                          <p:stCondLst>
                                            <p:cond delay="0"/>
                                          </p:stCondLst>
                                        </p:cTn>
                                        <p:tgtEl>
                                          <p:spTgt spid="67">
                                            <p:txEl>
                                              <p:pRg st="2" end="2"/>
                                            </p:txEl>
                                          </p:spTgt>
                                        </p:tgtEl>
                                        <p:attrNameLst>
                                          <p:attrName>ppt_w</p:attrName>
                                        </p:attrNameLst>
                                      </p:cBhvr>
                                    </p:anim>
                                    <p:anim calcmode="lin" valueType="num" by="(#ppt_w*0.50)">
                                      <p:cBhvr additive="repl">
                                        <p:cTn id="75" dur="250" autoRev="1" fill="hold">
                                          <p:stCondLst>
                                            <p:cond delay="0"/>
                                          </p:stCondLst>
                                        </p:cTn>
                                        <p:tgtEl>
                                          <p:spTgt spid="67">
                                            <p:txEl>
                                              <p:pRg st="2" end="2"/>
                                            </p:txEl>
                                          </p:spTgt>
                                        </p:tgtEl>
                                        <p:attrNameLst>
                                          <p:attrName>ppt_x</p:attrName>
                                        </p:attrNameLst>
                                      </p:cBhvr>
                                    </p:anim>
                                    <p:anim calcmode="lin" valueType="num" from="(-#ppt_h/2)" to="(#ppt_y)">
                                      <p:cBhvr additive="repl">
                                        <p:cTn id="76" dur="500" fill="hold">
                                          <p:stCondLst>
                                            <p:cond delay="0"/>
                                          </p:stCondLst>
                                        </p:cTn>
                                        <p:tgtEl>
                                          <p:spTgt spid="67">
                                            <p:txEl>
                                              <p:pRg st="2" end="2"/>
                                            </p:txEl>
                                          </p:spTgt>
                                        </p:tgtEl>
                                        <p:attrNameLst>
                                          <p:attrName>ppt_y</p:attrName>
                                        </p:attrNameLst>
                                      </p:cBhvr>
                                    </p:anim>
                                    <p:animRot by="21600000">
                                      <p:cBhvr>
                                        <p:cTn id="77" dur="500" fill="hold">
                                          <p:stCondLst>
                                            <p:cond delay="0"/>
                                          </p:stCondLst>
                                        </p:cTn>
                                        <p:tgtEl>
                                          <p:spTgt spid="67">
                                            <p:txEl>
                                              <p:pRg st="2" end="2"/>
                                            </p:txEl>
                                          </p:spTgt>
                                        </p:tgtEl>
                                        <p:attrNameLst>
                                          <p:attrName>r</p:attrName>
                                        </p:attrNameLst>
                                      </p:cBhvr>
                                    </p:animRo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56">
                                  <p:stCondLst>
                                    <p:cond delay="0"/>
                                  </p:stCondLst>
                                  <p:iterate type="lt">
                                    <p:tmAbs val="50"/>
                                  </p:iterate>
                                  <p:childTnLst>
                                    <p:set>
                                      <p:cBhvr>
                                        <p:cTn id="81" dur="1" fill="hold">
                                          <p:stCondLst>
                                            <p:cond delay="0"/>
                                          </p:stCondLst>
                                        </p:cTn>
                                        <p:tgtEl>
                                          <p:spTgt spid="67">
                                            <p:txEl>
                                              <p:pRg st="3" end="3"/>
                                            </p:txEl>
                                          </p:spTgt>
                                        </p:tgtEl>
                                        <p:attrNameLst>
                                          <p:attrName>style.visibility</p:attrName>
                                        </p:attrNameLst>
                                      </p:cBhvr>
                                      <p:to>
                                        <p:strVal val="visible"/>
                                      </p:to>
                                    </p:set>
                                    <p:anim calcmode="lin" valueType="num" by="(-#ppt_w*2)">
                                      <p:cBhvr additive="repl">
                                        <p:cTn id="82" dur="250" autoRev="1" fill="hold">
                                          <p:stCondLst>
                                            <p:cond delay="0"/>
                                          </p:stCondLst>
                                        </p:cTn>
                                        <p:tgtEl>
                                          <p:spTgt spid="67">
                                            <p:txEl>
                                              <p:pRg st="3" end="3"/>
                                            </p:txEl>
                                          </p:spTgt>
                                        </p:tgtEl>
                                        <p:attrNameLst>
                                          <p:attrName>ppt_w</p:attrName>
                                        </p:attrNameLst>
                                      </p:cBhvr>
                                    </p:anim>
                                    <p:anim calcmode="lin" valueType="num" by="(#ppt_w*0.50)">
                                      <p:cBhvr additive="repl">
                                        <p:cTn id="83" dur="250" autoRev="1" fill="hold">
                                          <p:stCondLst>
                                            <p:cond delay="0"/>
                                          </p:stCondLst>
                                        </p:cTn>
                                        <p:tgtEl>
                                          <p:spTgt spid="67">
                                            <p:txEl>
                                              <p:pRg st="3" end="3"/>
                                            </p:txEl>
                                          </p:spTgt>
                                        </p:tgtEl>
                                        <p:attrNameLst>
                                          <p:attrName>ppt_x</p:attrName>
                                        </p:attrNameLst>
                                      </p:cBhvr>
                                    </p:anim>
                                    <p:anim calcmode="lin" valueType="num" from="(-#ppt_h/2)" to="(#ppt_y)">
                                      <p:cBhvr additive="repl">
                                        <p:cTn id="84" dur="500" fill="hold">
                                          <p:stCondLst>
                                            <p:cond delay="0"/>
                                          </p:stCondLst>
                                        </p:cTn>
                                        <p:tgtEl>
                                          <p:spTgt spid="67">
                                            <p:txEl>
                                              <p:pRg st="3" end="3"/>
                                            </p:txEl>
                                          </p:spTgt>
                                        </p:tgtEl>
                                        <p:attrNameLst>
                                          <p:attrName>ppt_y</p:attrName>
                                        </p:attrNameLst>
                                      </p:cBhvr>
                                    </p:anim>
                                    <p:animRot by="21600000">
                                      <p:cBhvr>
                                        <p:cTn id="85" dur="500" fill="hold">
                                          <p:stCondLst>
                                            <p:cond delay="0"/>
                                          </p:stCondLst>
                                        </p:cTn>
                                        <p:tgtEl>
                                          <p:spTgt spid="67">
                                            <p:txEl>
                                              <p:pRg st="3" end="3"/>
                                            </p:txEl>
                                          </p:spTgt>
                                        </p:tgtEl>
                                        <p:attrNameLst>
                                          <p:attrName>r</p:attrName>
                                        </p:attrNameLst>
                                      </p:cBhvr>
                                    </p:animRo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56">
                                  <p:stCondLst>
                                    <p:cond delay="0"/>
                                  </p:stCondLst>
                                  <p:iterate type="lt">
                                    <p:tmAbs val="50"/>
                                  </p:iterate>
                                  <p:childTnLst>
                                    <p:set>
                                      <p:cBhvr>
                                        <p:cTn id="89" dur="1" fill="hold">
                                          <p:stCondLst>
                                            <p:cond delay="0"/>
                                          </p:stCondLst>
                                        </p:cTn>
                                        <p:tgtEl>
                                          <p:spTgt spid="67">
                                            <p:txEl>
                                              <p:pRg st="4" end="4"/>
                                            </p:txEl>
                                          </p:spTgt>
                                        </p:tgtEl>
                                        <p:attrNameLst>
                                          <p:attrName>style.visibility</p:attrName>
                                        </p:attrNameLst>
                                      </p:cBhvr>
                                      <p:to>
                                        <p:strVal val="visible"/>
                                      </p:to>
                                    </p:set>
                                    <p:anim calcmode="lin" valueType="num" by="(-#ppt_w*2)">
                                      <p:cBhvr additive="repl">
                                        <p:cTn id="90" dur="250" autoRev="1" fill="hold">
                                          <p:stCondLst>
                                            <p:cond delay="0"/>
                                          </p:stCondLst>
                                        </p:cTn>
                                        <p:tgtEl>
                                          <p:spTgt spid="67">
                                            <p:txEl>
                                              <p:pRg st="4" end="4"/>
                                            </p:txEl>
                                          </p:spTgt>
                                        </p:tgtEl>
                                        <p:attrNameLst>
                                          <p:attrName>ppt_w</p:attrName>
                                        </p:attrNameLst>
                                      </p:cBhvr>
                                    </p:anim>
                                    <p:anim calcmode="lin" valueType="num" by="(#ppt_w*0.50)">
                                      <p:cBhvr additive="repl">
                                        <p:cTn id="91" dur="250" autoRev="1" fill="hold">
                                          <p:stCondLst>
                                            <p:cond delay="0"/>
                                          </p:stCondLst>
                                        </p:cTn>
                                        <p:tgtEl>
                                          <p:spTgt spid="67">
                                            <p:txEl>
                                              <p:pRg st="4" end="4"/>
                                            </p:txEl>
                                          </p:spTgt>
                                        </p:tgtEl>
                                        <p:attrNameLst>
                                          <p:attrName>ppt_x</p:attrName>
                                        </p:attrNameLst>
                                      </p:cBhvr>
                                    </p:anim>
                                    <p:anim calcmode="lin" valueType="num" from="(-#ppt_h/2)" to="(#ppt_y)">
                                      <p:cBhvr additive="repl">
                                        <p:cTn id="92" dur="500" fill="hold">
                                          <p:stCondLst>
                                            <p:cond delay="0"/>
                                          </p:stCondLst>
                                        </p:cTn>
                                        <p:tgtEl>
                                          <p:spTgt spid="67">
                                            <p:txEl>
                                              <p:pRg st="4" end="4"/>
                                            </p:txEl>
                                          </p:spTgt>
                                        </p:tgtEl>
                                        <p:attrNameLst>
                                          <p:attrName>ppt_y</p:attrName>
                                        </p:attrNameLst>
                                      </p:cBhvr>
                                    </p:anim>
                                    <p:animRot by="21600000">
                                      <p:cBhvr>
                                        <p:cTn id="93" dur="500" fill="hold">
                                          <p:stCondLst>
                                            <p:cond delay="0"/>
                                          </p:stCondLst>
                                        </p:cTn>
                                        <p:tgtEl>
                                          <p:spTgt spid="67">
                                            <p:txEl>
                                              <p:pRg st="4" end="4"/>
                                            </p:txEl>
                                          </p:spTgt>
                                        </p:tgtEl>
                                        <p:attrNameLst>
                                          <p:attrName>r</p:attrName>
                                        </p:attrNameLst>
                                      </p:cBhvr>
                                    </p:animRo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56">
                                  <p:stCondLst>
                                    <p:cond delay="0"/>
                                  </p:stCondLst>
                                  <p:iterate type="lt">
                                    <p:tmAbs val="50"/>
                                  </p:iterate>
                                  <p:childTnLst>
                                    <p:set>
                                      <p:cBhvr>
                                        <p:cTn id="97" dur="1" fill="hold">
                                          <p:stCondLst>
                                            <p:cond delay="0"/>
                                          </p:stCondLst>
                                        </p:cTn>
                                        <p:tgtEl>
                                          <p:spTgt spid="67">
                                            <p:txEl>
                                              <p:pRg st="5" end="5"/>
                                            </p:txEl>
                                          </p:spTgt>
                                        </p:tgtEl>
                                        <p:attrNameLst>
                                          <p:attrName>style.visibility</p:attrName>
                                        </p:attrNameLst>
                                      </p:cBhvr>
                                      <p:to>
                                        <p:strVal val="visible"/>
                                      </p:to>
                                    </p:set>
                                    <p:anim calcmode="lin" valueType="num" by="(-#ppt_w*2)">
                                      <p:cBhvr additive="repl">
                                        <p:cTn id="98" dur="250" autoRev="1" fill="hold">
                                          <p:stCondLst>
                                            <p:cond delay="0"/>
                                          </p:stCondLst>
                                        </p:cTn>
                                        <p:tgtEl>
                                          <p:spTgt spid="67">
                                            <p:txEl>
                                              <p:pRg st="5" end="5"/>
                                            </p:txEl>
                                          </p:spTgt>
                                        </p:tgtEl>
                                        <p:attrNameLst>
                                          <p:attrName>ppt_w</p:attrName>
                                        </p:attrNameLst>
                                      </p:cBhvr>
                                    </p:anim>
                                    <p:anim calcmode="lin" valueType="num" by="(#ppt_w*0.50)">
                                      <p:cBhvr additive="repl">
                                        <p:cTn id="99" dur="250" autoRev="1" fill="hold">
                                          <p:stCondLst>
                                            <p:cond delay="0"/>
                                          </p:stCondLst>
                                        </p:cTn>
                                        <p:tgtEl>
                                          <p:spTgt spid="67">
                                            <p:txEl>
                                              <p:pRg st="5" end="5"/>
                                            </p:txEl>
                                          </p:spTgt>
                                        </p:tgtEl>
                                        <p:attrNameLst>
                                          <p:attrName>ppt_x</p:attrName>
                                        </p:attrNameLst>
                                      </p:cBhvr>
                                    </p:anim>
                                    <p:anim calcmode="lin" valueType="num" from="(-#ppt_h/2)" to="(#ppt_y)">
                                      <p:cBhvr additive="repl">
                                        <p:cTn id="100" dur="500" fill="hold">
                                          <p:stCondLst>
                                            <p:cond delay="0"/>
                                          </p:stCondLst>
                                        </p:cTn>
                                        <p:tgtEl>
                                          <p:spTgt spid="67">
                                            <p:txEl>
                                              <p:pRg st="5" end="5"/>
                                            </p:txEl>
                                          </p:spTgt>
                                        </p:tgtEl>
                                        <p:attrNameLst>
                                          <p:attrName>ppt_y</p:attrName>
                                        </p:attrNameLst>
                                      </p:cBhvr>
                                    </p:anim>
                                    <p:animRot by="21600000">
                                      <p:cBhvr>
                                        <p:cTn id="101" dur="500" fill="hold">
                                          <p:stCondLst>
                                            <p:cond delay="0"/>
                                          </p:stCondLst>
                                        </p:cTn>
                                        <p:tgtEl>
                                          <p:spTgt spid="67">
                                            <p:txEl>
                                              <p:pRg st="5" end="5"/>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2"/>
            </a:gs>
            <a:gs pos="50000">
              <a:srgbClr val="ff8200"/>
            </a:gs>
            <a:gs pos="100000">
              <a:srgbClr val="000082"/>
            </a:gs>
          </a:gsLst>
          <a:lin ang="13500000"/>
        </a:gradFill>
      </p:bgPr>
    </p:bg>
    <p:spTree>
      <p:nvGrpSpPr>
        <p:cNvPr id="1" name=""/>
        <p:cNvGrpSpPr/>
        <p:nvPr/>
      </p:nvGrpSpPr>
      <p:grpSpPr>
        <a:xfrm>
          <a:off x="0" y="0"/>
          <a:ext cx="0" cy="0"/>
          <a:chOff x="0" y="0"/>
          <a:chExt cx="0" cy="0"/>
        </a:xfrm>
      </p:grpSpPr>
      <p:sp>
        <p:nvSpPr>
          <p:cNvPr id="74" name=""/>
          <p:cNvSpPr txBox="1"/>
          <p:nvPr/>
        </p:nvSpPr>
        <p:spPr>
          <a:xfrm>
            <a:off x="549360" y="2606760"/>
            <a:ext cx="7543800" cy="1218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57240">
                  <a:solidFill>
                    <a:srgbClr val="000000"/>
                  </a:solidFill>
                  <a:miter/>
                </a:ln>
                <a:solidFill>
                  <a:srgbClr val="ffffff"/>
                </a:solidFill>
                <a:latin typeface="Arial Rounded MT Bold"/>
              </a:rPr>
              <a:t>Global presence</a:t>
            </a:r>
            <a:endParaRPr b="0" lang="en-US" sz="1800" spc="1" strike="noStrike">
              <a:ln w="57240">
                <a:solidFill>
                  <a:srgbClr val="000000"/>
                </a:solidFill>
                <a:miter/>
              </a:ln>
              <a:solidFill>
                <a:srgbClr val="ffffff"/>
              </a:solidFill>
              <a:latin typeface="Arial Rounded MT Bold"/>
              <a:ea typeface="Arial Rounded MT Bold"/>
            </a:endParaRPr>
          </a:p>
        </p:txBody>
      </p:sp>
      <p:pic>
        <p:nvPicPr>
          <p:cNvPr id="75" name="" descr=""/>
          <p:cNvPicPr/>
          <p:nvPr/>
        </p:nvPicPr>
        <p:blipFill>
          <a:blip r:embed="rId1">
            <a:alphaModFix amt="0"/>
          </a:blip>
          <a:stretch/>
        </p:blipFill>
        <p:spPr>
          <a:xfrm>
            <a:off x="457200" y="228600"/>
            <a:ext cx="1981080" cy="1770120"/>
          </a:xfrm>
          <a:prstGeom prst="rect">
            <a:avLst/>
          </a:prstGeom>
          <a:ln w="76320">
            <a:solidFill>
              <a:srgbClr val="993366"/>
            </a:solidFill>
            <a:miter/>
          </a:ln>
        </p:spPr>
      </p:pic>
      <p:pic>
        <p:nvPicPr>
          <p:cNvPr id="76" name="" descr=""/>
          <p:cNvPicPr/>
          <p:nvPr/>
        </p:nvPicPr>
        <p:blipFill>
          <a:blip r:embed="rId2"/>
          <a:stretch/>
        </p:blipFill>
        <p:spPr>
          <a:xfrm>
            <a:off x="5943600" y="4160880"/>
            <a:ext cx="2286000" cy="2286000"/>
          </a:xfrm>
          <a:prstGeom prst="rect">
            <a:avLst/>
          </a:prstGeom>
          <a:ln w="0">
            <a:noFill/>
          </a:ln>
        </p:spPr>
      </p:pic>
      <p:sp>
        <p:nvSpPr>
          <p:cNvPr id="77" name=""/>
          <p:cNvSpPr/>
          <p:nvPr/>
        </p:nvSpPr>
        <p:spPr>
          <a:xfrm>
            <a:off x="0" y="2971800"/>
            <a:ext cx="274680" cy="274680"/>
          </a:xfrm>
          <a:custGeom>
            <a:avLst/>
            <a:gdLst>
              <a:gd name="textAreaLeft" fmla="*/ 64440 w 274680"/>
              <a:gd name="textAreaRight" fmla="*/ 209880 w 274680"/>
              <a:gd name="textAreaTop" fmla="*/ 32040 h 274680"/>
              <a:gd name="textAreaBottom" fmla="*/ 172440 h 274680"/>
            </a:gdLst>
            <a:ahLst/>
            <a:rect l="textAreaLeft" t="textAreaTop" r="textAreaRight" b="textAreaBottom"/>
            <a:pathLst>
              <a:path w="21615" h="21602">
                <a:moveTo>
                  <a:pt x="10800" y="21599"/>
                </a:moveTo>
                <a:lnTo>
                  <a:pt x="321" y="6886"/>
                </a:lnTo>
                <a:lnTo>
                  <a:pt x="70" y="6036"/>
                </a:lnTo>
                <a:cubicBezTo>
                  <a:pt x="-9" y="5766"/>
                  <a:pt x="-1" y="5474"/>
                  <a:pt x="2" y="5192"/>
                </a:cubicBezTo>
                <a:cubicBezTo>
                  <a:pt x="6" y="4918"/>
                  <a:pt x="43" y="4641"/>
                  <a:pt x="101" y="4370"/>
                </a:cubicBezTo>
                <a:cubicBezTo>
                  <a:pt x="159" y="4103"/>
                  <a:pt x="245" y="3837"/>
                  <a:pt x="353" y="3582"/>
                </a:cubicBezTo>
                <a:cubicBezTo>
                  <a:pt x="460" y="3326"/>
                  <a:pt x="591" y="3077"/>
                  <a:pt x="741" y="2839"/>
                </a:cubicBezTo>
                <a:cubicBezTo>
                  <a:pt x="892" y="2598"/>
                  <a:pt x="1066" y="2369"/>
                  <a:pt x="1253" y="2155"/>
                </a:cubicBezTo>
                <a:cubicBezTo>
                  <a:pt x="1443" y="1938"/>
                  <a:pt x="1651" y="1732"/>
                  <a:pt x="1874" y="1543"/>
                </a:cubicBezTo>
                <a:cubicBezTo>
                  <a:pt x="2097" y="1351"/>
                  <a:pt x="2337" y="1174"/>
                  <a:pt x="2587" y="1014"/>
                </a:cubicBezTo>
                <a:cubicBezTo>
                  <a:pt x="2839" y="854"/>
                  <a:pt x="3106" y="708"/>
                  <a:pt x="3380" y="584"/>
                </a:cubicBezTo>
                <a:cubicBezTo>
                  <a:pt x="3656" y="459"/>
                  <a:pt x="3945" y="350"/>
                  <a:pt x="4237" y="264"/>
                </a:cubicBezTo>
                <a:cubicBezTo>
                  <a:pt x="4533" y="176"/>
                  <a:pt x="4838" y="108"/>
                  <a:pt x="5144" y="66"/>
                </a:cubicBezTo>
                <a:cubicBezTo>
                  <a:pt x="5454" y="22"/>
                  <a:pt x="5771" y="1"/>
                  <a:pt x="6086" y="3"/>
                </a:cubicBezTo>
                <a:cubicBezTo>
                  <a:pt x="6407" y="7"/>
                  <a:pt x="6731" y="35"/>
                  <a:pt x="7048" y="89"/>
                </a:cubicBezTo>
                <a:cubicBezTo>
                  <a:pt x="7374" y="144"/>
                  <a:pt x="7700" y="226"/>
                  <a:pt x="8015" y="335"/>
                </a:cubicBezTo>
                <a:cubicBezTo>
                  <a:pt x="8344" y="447"/>
                  <a:pt x="8667" y="590"/>
                  <a:pt x="8972" y="756"/>
                </a:cubicBezTo>
                <a:cubicBezTo>
                  <a:pt x="9297" y="932"/>
                  <a:pt x="9613" y="1135"/>
                  <a:pt x="9907" y="1363"/>
                </a:cubicBezTo>
                <a:cubicBezTo>
                  <a:pt x="10224" y="1609"/>
                  <a:pt x="10504" y="1900"/>
                  <a:pt x="10802" y="2169"/>
                </a:cubicBezTo>
                <a:lnTo>
                  <a:pt x="11697" y="1363"/>
                </a:lnTo>
                <a:cubicBezTo>
                  <a:pt x="11971" y="1116"/>
                  <a:pt x="12304" y="934"/>
                  <a:pt x="12630" y="756"/>
                </a:cubicBezTo>
                <a:cubicBezTo>
                  <a:pt x="12935" y="590"/>
                  <a:pt x="13528" y="450"/>
                  <a:pt x="13589" y="335"/>
                </a:cubicBezTo>
                <a:cubicBezTo>
                  <a:pt x="13901" y="226"/>
                  <a:pt x="14227" y="144"/>
                  <a:pt x="14556" y="89"/>
                </a:cubicBezTo>
                <a:cubicBezTo>
                  <a:pt x="14872" y="35"/>
                  <a:pt x="15195" y="7"/>
                  <a:pt x="15517" y="3"/>
                </a:cubicBezTo>
                <a:cubicBezTo>
                  <a:pt x="15830" y="0"/>
                  <a:pt x="16147" y="22"/>
                  <a:pt x="16458" y="66"/>
                </a:cubicBezTo>
                <a:cubicBezTo>
                  <a:pt x="16764" y="109"/>
                  <a:pt x="17068" y="177"/>
                  <a:pt x="17365" y="264"/>
                </a:cubicBezTo>
                <a:cubicBezTo>
                  <a:pt x="17658" y="349"/>
                  <a:pt x="17946" y="458"/>
                  <a:pt x="18222" y="584"/>
                </a:cubicBezTo>
                <a:cubicBezTo>
                  <a:pt x="18496" y="708"/>
                  <a:pt x="18762" y="854"/>
                  <a:pt x="19015" y="1014"/>
                </a:cubicBezTo>
                <a:cubicBezTo>
                  <a:pt x="19264" y="1172"/>
                  <a:pt x="19504" y="1349"/>
                  <a:pt x="19730" y="1543"/>
                </a:cubicBezTo>
                <a:cubicBezTo>
                  <a:pt x="19950" y="1731"/>
                  <a:pt x="20158" y="1937"/>
                  <a:pt x="20350" y="2155"/>
                </a:cubicBezTo>
                <a:cubicBezTo>
                  <a:pt x="20536" y="2369"/>
                  <a:pt x="20710" y="2598"/>
                  <a:pt x="20861" y="2839"/>
                </a:cubicBezTo>
                <a:cubicBezTo>
                  <a:pt x="21010" y="3074"/>
                  <a:pt x="21143" y="3323"/>
                  <a:pt x="21251" y="3582"/>
                </a:cubicBezTo>
                <a:cubicBezTo>
                  <a:pt x="21357" y="3835"/>
                  <a:pt x="21443" y="4099"/>
                  <a:pt x="21502" y="4370"/>
                </a:cubicBezTo>
                <a:cubicBezTo>
                  <a:pt x="21561" y="4639"/>
                  <a:pt x="21595" y="4916"/>
                  <a:pt x="21600" y="5192"/>
                </a:cubicBezTo>
                <a:cubicBezTo>
                  <a:pt x="21606" y="5474"/>
                  <a:pt x="21584" y="5760"/>
                  <a:pt x="21532" y="6036"/>
                </a:cubicBezTo>
                <a:cubicBezTo>
                  <a:pt x="21478" y="6326"/>
                  <a:pt x="21366" y="6603"/>
                  <a:pt x="21282" y="6887"/>
                </a:cubicBezTo>
                <a:lnTo>
                  <a:pt x="10802" y="21602"/>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med">
    <p:comb dir="vert"/>
  </p:transition>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2" presetSubtype="4">
                                  <p:stCondLst>
                                    <p:cond delay="0"/>
                                  </p:stCondLst>
                                  <p:childTnLst>
                                    <p:set>
                                      <p:cBhvr>
                                        <p:cTn id="107" dur="1" fill="hold">
                                          <p:stCondLst>
                                            <p:cond delay="0"/>
                                          </p:stCondLst>
                                        </p:cTn>
                                        <p:tgtEl>
                                          <p:spTgt spid="75"/>
                                        </p:tgtEl>
                                        <p:attrNameLst>
                                          <p:attrName>style.visibility</p:attrName>
                                        </p:attrNameLst>
                                      </p:cBhvr>
                                      <p:to>
                                        <p:strVal val="visible"/>
                                      </p:to>
                                    </p:set>
                                    <p:anim calcmode="lin" valueType="num">
                                      <p:cBhvr additive="base">
                                        <p:cTn id="108" dur="500" fill="hold"/>
                                        <p:tgtEl>
                                          <p:spTgt spid="75"/>
                                        </p:tgtEl>
                                        <p:attrNameLst>
                                          <p:attrName>ppt_x</p:attrName>
                                        </p:attrNameLst>
                                      </p:cBhvr>
                                      <p:tavLst>
                                        <p:tav tm="0">
                                          <p:val>
                                            <p:strVal val="#ppt_x"/>
                                          </p:val>
                                        </p:tav>
                                        <p:tav tm="100000">
                                          <p:val>
                                            <p:strVal val="#ppt_x"/>
                                          </p:val>
                                        </p:tav>
                                      </p:tavLst>
                                    </p:anim>
                                    <p:anim calcmode="lin" valueType="num">
                                      <p:cBhvr additive="base">
                                        <p:cTn id="109" dur="500" fill="hold"/>
                                        <p:tgtEl>
                                          <p:spTgt spid="7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p:nvPr>
        </p:nvSpPr>
        <p:spPr>
          <a:xfrm>
            <a:off x="457200" y="456840"/>
            <a:ext cx="8229600" cy="566892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ucida Console"/>
              </a:rPr>
              <a:t>No grylloblattids has</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ucida Console"/>
              </a:rPr>
              <a:t> </a:t>
            </a:r>
            <a:r>
              <a:rPr b="1" lang="en-US" sz="1600" spc="-1" strike="noStrike">
                <a:solidFill>
                  <a:srgbClr val="000000"/>
                </a:solidFill>
                <a:latin typeface="Lucida Console"/>
              </a:rPr>
              <a:t>ever been found in the southern hemisphere. </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ucida Console"/>
              </a:rPr>
              <a:t>They live in places that are not inhabited by humans</a:t>
            </a:r>
            <a:r>
              <a:rPr b="1" lang="en-US" sz="1600" spc="-1" strike="noStrike">
                <a:solidFill>
                  <a:srgbClr val="000000"/>
                </a:solidFill>
                <a:latin typeface="Arial"/>
              </a:rPr>
              <a:t>.</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ucida Console"/>
              </a:rPr>
              <a:t>They are most commonly found in south-eastern British Columbia, south-eastern Alberta, eastern Washington, northern Indaho, western and southern Montana,Asia,North-eastern Europe, northern Korea etc.</a:t>
            </a:r>
            <a:endParaRPr b="0" lang="en-US" sz="1600" spc="-1" strike="noStrike">
              <a:solidFill>
                <a:srgbClr val="000000"/>
              </a:solidFill>
              <a:latin typeface="Arial"/>
            </a:endParaRPr>
          </a:p>
        </p:txBody>
      </p:sp>
      <p:pic>
        <p:nvPicPr>
          <p:cNvPr id="79" name="" descr=""/>
          <p:cNvPicPr/>
          <p:nvPr/>
        </p:nvPicPr>
        <p:blipFill>
          <a:blip r:embed="rId1"/>
          <a:stretch/>
        </p:blipFill>
        <p:spPr>
          <a:xfrm>
            <a:off x="0" y="2666880"/>
            <a:ext cx="9144000" cy="4038840"/>
          </a:xfrm>
          <a:prstGeom prst="rect">
            <a:avLst/>
          </a:prstGeom>
          <a:ln w="76320">
            <a:solidFill>
              <a:srgbClr val="6600ff"/>
            </a:solidFill>
            <a:miter/>
          </a:ln>
        </p:spPr>
      </p:pic>
      <p:sp>
        <p:nvSpPr>
          <p:cNvPr id="80" name=""/>
          <p:cNvSpPr/>
          <p:nvPr/>
        </p:nvSpPr>
        <p:spPr>
          <a:xfrm>
            <a:off x="914400" y="3352680"/>
            <a:ext cx="1447920" cy="1600200"/>
          </a:xfrm>
          <a:prstGeom prst="ellipse">
            <a:avLst/>
          </a:prstGeom>
          <a:noFill/>
          <a:ln w="57240">
            <a:solidFill>
              <a:srgbClr val="ff33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 name=""/>
          <p:cNvSpPr/>
          <p:nvPr/>
        </p:nvSpPr>
        <p:spPr>
          <a:xfrm>
            <a:off x="3505320" y="3505320"/>
            <a:ext cx="2361960" cy="761760"/>
          </a:xfrm>
          <a:prstGeom prst="ellipse">
            <a:avLst/>
          </a:prstGeom>
          <a:noFill/>
          <a:ln w="57240">
            <a:solidFill>
              <a:srgbClr val="ff33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 name=""/>
          <p:cNvSpPr/>
          <p:nvPr/>
        </p:nvSpPr>
        <p:spPr>
          <a:xfrm>
            <a:off x="4321080" y="1768320"/>
            <a:ext cx="3716280" cy="1800"/>
          </a:xfrm>
          <a:custGeom>
            <a:avLst/>
            <a:gdLst/>
            <a:ahLst/>
            <a:rect l="l" t="t" r="r" b="b"/>
            <a:pathLst>
              <a:path w="10320" h="1">
                <a:moveTo>
                  <a:pt x="12005" y="4911"/>
                </a:moveTo>
                <a:cubicBezTo>
                  <a:pt x="15445" y="4911"/>
                  <a:pt x="18884" y="4911"/>
                  <a:pt x="22324" y="4911"/>
                </a:cubicBezTo>
              </a:path>
            </a:pathLst>
          </a:custGeom>
          <a:noFill/>
          <a:ln cap="sq" w="228600">
            <a:solidFill>
              <a:srgbClr val="ff0000">
                <a:alpha val="33000"/>
              </a:srgbClr>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3" name=""/>
          <p:cNvSpPr/>
          <p:nvPr/>
        </p:nvSpPr>
        <p:spPr>
          <a:xfrm>
            <a:off x="1197000" y="4160880"/>
            <a:ext cx="419040" cy="1440"/>
          </a:xfrm>
          <a:custGeom>
            <a:avLst/>
            <a:gdLst/>
            <a:ahLst/>
            <a:rect l="l" t="t" r="r" b="b"/>
            <a:pathLst>
              <a:path w="1167" h="1">
                <a:moveTo>
                  <a:pt x="3324" y="11559"/>
                </a:moveTo>
                <a:cubicBezTo>
                  <a:pt x="3713" y="11559"/>
                  <a:pt x="4101" y="11559"/>
                  <a:pt x="4490" y="11559"/>
                </a:cubicBezTo>
              </a:path>
            </a:pathLst>
          </a:custGeom>
          <a:noFill/>
          <a:ln cap="sq" w="228600">
            <a:solidFill>
              <a:srgbClr val="ff0000">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4" name=""/>
          <p:cNvSpPr/>
          <p:nvPr/>
        </p:nvSpPr>
        <p:spPr>
          <a:xfrm>
            <a:off x="1214280" y="4303800"/>
            <a:ext cx="277920" cy="1440"/>
          </a:xfrm>
          <a:custGeom>
            <a:avLst/>
            <a:gdLst/>
            <a:ahLst/>
            <a:rect l="l" t="t" r="r" b="b"/>
            <a:pathLst>
              <a:path w="770" h="1">
                <a:moveTo>
                  <a:pt x="3373" y="11956"/>
                </a:moveTo>
                <a:cubicBezTo>
                  <a:pt x="3629" y="11956"/>
                  <a:pt x="3886" y="11956"/>
                  <a:pt x="4142" y="11956"/>
                </a:cubicBezTo>
              </a:path>
            </a:pathLst>
          </a:custGeom>
          <a:noFill/>
          <a:ln cap="sq" w="228600">
            <a:solidFill>
              <a:srgbClr val="ff0000">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5" name=""/>
          <p:cNvSpPr/>
          <p:nvPr/>
        </p:nvSpPr>
        <p:spPr>
          <a:xfrm>
            <a:off x="1527120" y="4259160"/>
            <a:ext cx="1800" cy="1800"/>
          </a:xfrm>
          <a:custGeom>
            <a:avLst/>
            <a:gdLst/>
            <a:ahLst/>
            <a:rect l="l" t="t" r="r" b="b"/>
            <a:pathLst>
              <a:path w="1" h="1">
                <a:moveTo>
                  <a:pt x="4242" y="11832"/>
                </a:moveTo>
                <a:lnTo>
                  <a:pt x="4242" y="11832"/>
                </a:lnTo>
              </a:path>
            </a:pathLst>
          </a:custGeom>
          <a:noFill/>
          <a:ln cap="sq" w="228600">
            <a:solidFill>
              <a:srgbClr val="ff0000">
                <a:alpha val="33000"/>
              </a:srgbClr>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6" name=""/>
          <p:cNvSpPr/>
          <p:nvPr/>
        </p:nvSpPr>
        <p:spPr>
          <a:xfrm>
            <a:off x="1490760" y="4394160"/>
            <a:ext cx="1440" cy="1800"/>
          </a:xfrm>
          <a:custGeom>
            <a:avLst/>
            <a:gdLst/>
            <a:ahLst/>
            <a:rect l="l" t="t" r="r" b="b"/>
            <a:pathLst>
              <a:path w="1" h="1">
                <a:moveTo>
                  <a:pt x="4142" y="12204"/>
                </a:moveTo>
                <a:lnTo>
                  <a:pt x="4142" y="12204"/>
                </a:lnTo>
              </a:path>
            </a:pathLst>
          </a:custGeom>
          <a:noFill/>
          <a:ln cap="sq" w="228600">
            <a:solidFill>
              <a:srgbClr val="ff0000">
                <a:alpha val="33000"/>
              </a:srgbClr>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7" name=""/>
          <p:cNvSpPr/>
          <p:nvPr/>
        </p:nvSpPr>
        <p:spPr>
          <a:xfrm>
            <a:off x="1465200" y="4375080"/>
            <a:ext cx="1800" cy="1800"/>
          </a:xfrm>
          <a:custGeom>
            <a:avLst/>
            <a:gdLst/>
            <a:ahLst/>
            <a:rect l="l" t="t" r="r" b="b"/>
            <a:pathLst>
              <a:path w="1" h="1">
                <a:moveTo>
                  <a:pt x="4068" y="12154"/>
                </a:moveTo>
                <a:lnTo>
                  <a:pt x="4068" y="12154"/>
                </a:lnTo>
              </a:path>
            </a:pathLst>
          </a:custGeom>
          <a:noFill/>
          <a:ln cap="sq" w="228600">
            <a:solidFill>
              <a:srgbClr val="ff0000">
                <a:alpha val="33000"/>
              </a:srgbClr>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8" name=""/>
          <p:cNvSpPr/>
          <p:nvPr/>
        </p:nvSpPr>
        <p:spPr>
          <a:xfrm>
            <a:off x="1428840" y="4321080"/>
            <a:ext cx="1440" cy="1800"/>
          </a:xfrm>
          <a:custGeom>
            <a:avLst/>
            <a:gdLst/>
            <a:ahLst/>
            <a:rect l="l" t="t" r="r" b="b"/>
            <a:pathLst>
              <a:path w="1" h="1">
                <a:moveTo>
                  <a:pt x="3969" y="12005"/>
                </a:moveTo>
                <a:lnTo>
                  <a:pt x="3969" y="12005"/>
                </a:lnTo>
              </a:path>
            </a:pathLst>
          </a:custGeom>
          <a:noFill/>
          <a:ln cap="sq" w="228600">
            <a:solidFill>
              <a:srgbClr val="ff0000">
                <a:alpha val="33000"/>
              </a:srgbClr>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9" name=""/>
          <p:cNvSpPr/>
          <p:nvPr/>
        </p:nvSpPr>
        <p:spPr>
          <a:xfrm>
            <a:off x="1276200" y="4384800"/>
            <a:ext cx="1800" cy="1440"/>
          </a:xfrm>
          <a:custGeom>
            <a:avLst/>
            <a:gdLst/>
            <a:ahLst/>
            <a:rect l="l" t="t" r="r" b="b"/>
            <a:pathLst>
              <a:path w="1" h="1">
                <a:moveTo>
                  <a:pt x="3547" y="12179"/>
                </a:moveTo>
                <a:lnTo>
                  <a:pt x="3547" y="12179"/>
                </a:lnTo>
              </a:path>
            </a:pathLst>
          </a:custGeom>
          <a:noFill/>
          <a:ln cap="sq" w="228600">
            <a:solidFill>
              <a:srgbClr val="ff0000">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0" name=""/>
          <p:cNvSpPr/>
          <p:nvPr/>
        </p:nvSpPr>
        <p:spPr>
          <a:xfrm>
            <a:off x="1224000" y="4357800"/>
            <a:ext cx="7920" cy="1440"/>
          </a:xfrm>
          <a:custGeom>
            <a:avLst/>
            <a:gdLst/>
            <a:ahLst/>
            <a:rect l="l" t="t" r="r" b="b"/>
            <a:pathLst>
              <a:path w="26" h="1">
                <a:moveTo>
                  <a:pt x="3398" y="12105"/>
                </a:moveTo>
                <a:cubicBezTo>
                  <a:pt x="3406" y="12105"/>
                  <a:pt x="3415" y="12105"/>
                  <a:pt x="3423" y="12105"/>
                </a:cubicBezTo>
              </a:path>
            </a:pathLst>
          </a:custGeom>
          <a:noFill/>
          <a:ln cap="sq" w="228600">
            <a:solidFill>
              <a:srgbClr val="ff0000">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1" name=""/>
          <p:cNvSpPr/>
          <p:nvPr/>
        </p:nvSpPr>
        <p:spPr>
          <a:xfrm>
            <a:off x="1554120" y="4197240"/>
            <a:ext cx="1800" cy="1800"/>
          </a:xfrm>
          <a:custGeom>
            <a:avLst/>
            <a:gdLst/>
            <a:ahLst/>
            <a:rect l="l" t="t" r="r" b="b"/>
            <a:pathLst>
              <a:path w="1" h="1">
                <a:moveTo>
                  <a:pt x="4316" y="11658"/>
                </a:moveTo>
                <a:lnTo>
                  <a:pt x="4316" y="11658"/>
                </a:lnTo>
              </a:path>
            </a:pathLst>
          </a:custGeom>
          <a:noFill/>
          <a:ln cap="sq" w="228600">
            <a:solidFill>
              <a:srgbClr val="ff0000">
                <a:alpha val="33000"/>
              </a:srgbClr>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2" name=""/>
          <p:cNvSpPr/>
          <p:nvPr/>
        </p:nvSpPr>
        <p:spPr>
          <a:xfrm>
            <a:off x="1177920" y="4062240"/>
            <a:ext cx="366840" cy="117720"/>
          </a:xfrm>
          <a:custGeom>
            <a:avLst/>
            <a:gdLst/>
            <a:ahLst/>
            <a:rect l="l" t="t" r="r" b="b"/>
            <a:pathLst>
              <a:path w="1018" h="324">
                <a:moveTo>
                  <a:pt x="3448" y="11460"/>
                </a:moveTo>
                <a:cubicBezTo>
                  <a:pt x="3461" y="11498"/>
                  <a:pt x="3477" y="11485"/>
                  <a:pt x="3522" y="11485"/>
                </a:cubicBezTo>
                <a:cubicBezTo>
                  <a:pt x="3658" y="11485"/>
                  <a:pt x="3846" y="11469"/>
                  <a:pt x="3944" y="11509"/>
                </a:cubicBezTo>
                <a:cubicBezTo>
                  <a:pt x="3986" y="11526"/>
                  <a:pt x="3992" y="11542"/>
                  <a:pt x="4018" y="11559"/>
                </a:cubicBezTo>
                <a:cubicBezTo>
                  <a:pt x="4026" y="11559"/>
                  <a:pt x="4035" y="11559"/>
                  <a:pt x="4043" y="11559"/>
                </a:cubicBezTo>
                <a:cubicBezTo>
                  <a:pt x="4043" y="11503"/>
                  <a:pt x="4030" y="11485"/>
                  <a:pt x="4018" y="11460"/>
                </a:cubicBezTo>
                <a:cubicBezTo>
                  <a:pt x="4007" y="11437"/>
                  <a:pt x="3982" y="11392"/>
                  <a:pt x="3969" y="11385"/>
                </a:cubicBezTo>
                <a:cubicBezTo>
                  <a:pt x="3941" y="11371"/>
                  <a:pt x="3906" y="11385"/>
                  <a:pt x="3894" y="11361"/>
                </a:cubicBezTo>
                <a:cubicBezTo>
                  <a:pt x="3877" y="11326"/>
                  <a:pt x="3869" y="11336"/>
                  <a:pt x="3820" y="11336"/>
                </a:cubicBezTo>
                <a:cubicBezTo>
                  <a:pt x="3717" y="11336"/>
                  <a:pt x="3587" y="11328"/>
                  <a:pt x="3522" y="11361"/>
                </a:cubicBezTo>
                <a:cubicBezTo>
                  <a:pt x="3500" y="11372"/>
                  <a:pt x="3454" y="11397"/>
                  <a:pt x="3448" y="11410"/>
                </a:cubicBezTo>
                <a:cubicBezTo>
                  <a:pt x="3436" y="11435"/>
                  <a:pt x="3406" y="11445"/>
                  <a:pt x="3398" y="11460"/>
                </a:cubicBezTo>
                <a:cubicBezTo>
                  <a:pt x="3382" y="11492"/>
                  <a:pt x="3398" y="11573"/>
                  <a:pt x="3398" y="11609"/>
                </a:cubicBezTo>
                <a:cubicBezTo>
                  <a:pt x="3398" y="11554"/>
                  <a:pt x="3369" y="11363"/>
                  <a:pt x="3423" y="11336"/>
                </a:cubicBezTo>
                <a:cubicBezTo>
                  <a:pt x="3508" y="11294"/>
                  <a:pt x="3795" y="11336"/>
                  <a:pt x="3845" y="11361"/>
                </a:cubicBezTo>
                <a:cubicBezTo>
                  <a:pt x="3897" y="11387"/>
                  <a:pt x="4007" y="11368"/>
                  <a:pt x="4043" y="11385"/>
                </a:cubicBezTo>
                <a:cubicBezTo>
                  <a:pt x="4097" y="11411"/>
                  <a:pt x="4283" y="11344"/>
                  <a:pt x="4291" y="11410"/>
                </a:cubicBezTo>
                <a:cubicBezTo>
                  <a:pt x="4291" y="11418"/>
                  <a:pt x="4291" y="11427"/>
                  <a:pt x="4291" y="11435"/>
                </a:cubicBezTo>
                <a:cubicBezTo>
                  <a:pt x="4291" y="11376"/>
                  <a:pt x="4283" y="11397"/>
                  <a:pt x="4242" y="11361"/>
                </a:cubicBezTo>
                <a:cubicBezTo>
                  <a:pt x="4220" y="11341"/>
                  <a:pt x="4173" y="11323"/>
                  <a:pt x="4167" y="11311"/>
                </a:cubicBezTo>
                <a:cubicBezTo>
                  <a:pt x="4150" y="11276"/>
                  <a:pt x="4141" y="11286"/>
                  <a:pt x="4093" y="11286"/>
                </a:cubicBezTo>
                <a:cubicBezTo>
                  <a:pt x="3992" y="11286"/>
                  <a:pt x="3439" y="11228"/>
                  <a:pt x="3398" y="11311"/>
                </a:cubicBezTo>
                <a:cubicBezTo>
                  <a:pt x="3371" y="11365"/>
                  <a:pt x="3392" y="11472"/>
                  <a:pt x="3373" y="11509"/>
                </a:cubicBezTo>
                <a:cubicBezTo>
                  <a:pt x="3360" y="11535"/>
                  <a:pt x="3359" y="11555"/>
                  <a:pt x="3324" y="11559"/>
                </a:cubicBezTo>
                <a:cubicBezTo>
                  <a:pt x="3316" y="11560"/>
                  <a:pt x="3232" y="11559"/>
                  <a:pt x="3299" y="11559"/>
                </a:cubicBezTo>
              </a:path>
            </a:pathLst>
          </a:custGeom>
          <a:noFill/>
          <a:ln cap="sq" w="228600">
            <a:solidFill>
              <a:srgbClr val="ff0000">
                <a:alpha val="33000"/>
              </a:srgbClr>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a:off x="1268280" y="4394160"/>
            <a:ext cx="1800" cy="1800"/>
          </a:xfrm>
          <a:custGeom>
            <a:avLst/>
            <a:gdLst/>
            <a:ahLst/>
            <a:rect l="l" t="t" r="r" b="b"/>
            <a:pathLst>
              <a:path w="1" h="1">
                <a:moveTo>
                  <a:pt x="3522" y="12204"/>
                </a:moveTo>
                <a:lnTo>
                  <a:pt x="3522" y="12204"/>
                </a:lnTo>
              </a:path>
            </a:pathLst>
          </a:custGeom>
          <a:noFill/>
          <a:ln cap="sq" w="228600">
            <a:solidFill>
              <a:srgbClr val="ff0000">
                <a:alpha val="33000"/>
              </a:srgbClr>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4" name=""/>
          <p:cNvSpPr/>
          <p:nvPr/>
        </p:nvSpPr>
        <p:spPr>
          <a:xfrm>
            <a:off x="1285920" y="4411800"/>
            <a:ext cx="1440" cy="1440"/>
          </a:xfrm>
          <a:custGeom>
            <a:avLst/>
            <a:gdLst/>
            <a:ahLst/>
            <a:rect l="l" t="t" r="r" b="b"/>
            <a:pathLst>
              <a:path w="1" h="1">
                <a:moveTo>
                  <a:pt x="3572" y="12254"/>
                </a:moveTo>
                <a:lnTo>
                  <a:pt x="3572" y="12254"/>
                </a:lnTo>
              </a:path>
            </a:pathLst>
          </a:custGeom>
          <a:noFill/>
          <a:ln cap="sq" w="228600">
            <a:solidFill>
              <a:srgbClr val="ff0000">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5" name=""/>
          <p:cNvSpPr/>
          <p:nvPr/>
        </p:nvSpPr>
        <p:spPr>
          <a:xfrm>
            <a:off x="1473120" y="4419720"/>
            <a:ext cx="1800" cy="1440"/>
          </a:xfrm>
          <a:custGeom>
            <a:avLst/>
            <a:gdLst/>
            <a:ahLst/>
            <a:rect l="l" t="t" r="r" b="b"/>
            <a:pathLst>
              <a:path w="1" h="1">
                <a:moveTo>
                  <a:pt x="4093" y="12278"/>
                </a:moveTo>
                <a:lnTo>
                  <a:pt x="4093" y="12278"/>
                </a:lnTo>
              </a:path>
            </a:pathLst>
          </a:custGeom>
          <a:noFill/>
          <a:ln cap="sq" w="228600">
            <a:solidFill>
              <a:srgbClr val="ff0000">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6" name=""/>
          <p:cNvSpPr/>
          <p:nvPr/>
        </p:nvSpPr>
        <p:spPr>
          <a:xfrm>
            <a:off x="1446120" y="4348080"/>
            <a:ext cx="1800" cy="1800"/>
          </a:xfrm>
          <a:custGeom>
            <a:avLst/>
            <a:gdLst/>
            <a:ahLst/>
            <a:rect l="l" t="t" r="r" b="b"/>
            <a:pathLst>
              <a:path w="1" h="1">
                <a:moveTo>
                  <a:pt x="4018" y="12080"/>
                </a:moveTo>
                <a:lnTo>
                  <a:pt x="4018" y="12080"/>
                </a:lnTo>
              </a:path>
            </a:pathLst>
          </a:custGeom>
          <a:noFill/>
          <a:ln cap="sq" w="228600">
            <a:solidFill>
              <a:srgbClr val="ff0000">
                <a:alpha val="33000"/>
              </a:srgbClr>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7" name=""/>
          <p:cNvSpPr/>
          <p:nvPr/>
        </p:nvSpPr>
        <p:spPr>
          <a:xfrm>
            <a:off x="1500120" y="4286160"/>
            <a:ext cx="1800" cy="1800"/>
          </a:xfrm>
          <a:custGeom>
            <a:avLst/>
            <a:gdLst/>
            <a:ahLst/>
            <a:rect l="l" t="t" r="r" b="b"/>
            <a:pathLst>
              <a:path w="1" h="1">
                <a:moveTo>
                  <a:pt x="4167" y="11906"/>
                </a:moveTo>
                <a:lnTo>
                  <a:pt x="4167" y="11906"/>
                </a:lnTo>
              </a:path>
            </a:pathLst>
          </a:custGeom>
          <a:noFill/>
          <a:ln cap="sq" w="228600">
            <a:solidFill>
              <a:srgbClr val="ff0000">
                <a:alpha val="33000"/>
              </a:srgbClr>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8" name=""/>
          <p:cNvSpPr/>
          <p:nvPr/>
        </p:nvSpPr>
        <p:spPr>
          <a:xfrm>
            <a:off x="1562040" y="4197240"/>
            <a:ext cx="9720" cy="1800"/>
          </a:xfrm>
          <a:custGeom>
            <a:avLst/>
            <a:gdLst/>
            <a:ahLst/>
            <a:rect l="l" t="t" r="r" b="b"/>
            <a:pathLst>
              <a:path w="26" h="1">
                <a:moveTo>
                  <a:pt x="4341" y="11658"/>
                </a:moveTo>
                <a:cubicBezTo>
                  <a:pt x="4349" y="11658"/>
                  <a:pt x="4358" y="11658"/>
                  <a:pt x="4366" y="11658"/>
                </a:cubicBezTo>
              </a:path>
            </a:pathLst>
          </a:custGeom>
          <a:noFill/>
          <a:ln cap="sq" w="228600">
            <a:solidFill>
              <a:srgbClr val="ff0000">
                <a:alpha val="33000"/>
              </a:srgbClr>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9" name=""/>
          <p:cNvSpPr/>
          <p:nvPr/>
        </p:nvSpPr>
        <p:spPr>
          <a:xfrm>
            <a:off x="1366920" y="4106880"/>
            <a:ext cx="231840" cy="28440"/>
          </a:xfrm>
          <a:custGeom>
            <a:avLst/>
            <a:gdLst/>
            <a:ahLst/>
            <a:rect l="l" t="t" r="r" b="b"/>
            <a:pathLst>
              <a:path w="646" h="76">
                <a:moveTo>
                  <a:pt x="4316" y="11460"/>
                </a:moveTo>
                <a:cubicBezTo>
                  <a:pt x="4316" y="11468"/>
                  <a:pt x="4316" y="11477"/>
                  <a:pt x="4316" y="11485"/>
                </a:cubicBezTo>
                <a:cubicBezTo>
                  <a:pt x="4357" y="11485"/>
                  <a:pt x="4399" y="11485"/>
                  <a:pt x="4440" y="11485"/>
                </a:cubicBezTo>
                <a:cubicBezTo>
                  <a:pt x="4415" y="11485"/>
                  <a:pt x="4391" y="11485"/>
                  <a:pt x="4366" y="11485"/>
                </a:cubicBezTo>
                <a:cubicBezTo>
                  <a:pt x="4353" y="11447"/>
                  <a:pt x="4336" y="11460"/>
                  <a:pt x="4291" y="11460"/>
                </a:cubicBezTo>
                <a:cubicBezTo>
                  <a:pt x="4278" y="11422"/>
                  <a:pt x="4262" y="11435"/>
                  <a:pt x="4217" y="11435"/>
                </a:cubicBezTo>
                <a:cubicBezTo>
                  <a:pt x="4204" y="11397"/>
                  <a:pt x="4187" y="11410"/>
                  <a:pt x="4142" y="11410"/>
                </a:cubicBezTo>
                <a:cubicBezTo>
                  <a:pt x="4035" y="11410"/>
                  <a:pt x="3927" y="11410"/>
                  <a:pt x="3820" y="11410"/>
                </a:cubicBezTo>
                <a:cubicBezTo>
                  <a:pt x="3820" y="11435"/>
                  <a:pt x="3820" y="11443"/>
                  <a:pt x="3795" y="11435"/>
                </a:cubicBezTo>
              </a:path>
            </a:pathLst>
          </a:custGeom>
          <a:noFill/>
          <a:ln cap="sq" w="228600">
            <a:solidFill>
              <a:srgbClr val="ff0000">
                <a:alpha val="33000"/>
              </a:srgbClr>
            </a:solidFill>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00" name=""/>
          <p:cNvSpPr/>
          <p:nvPr/>
        </p:nvSpPr>
        <p:spPr>
          <a:xfrm>
            <a:off x="1633680" y="4143240"/>
            <a:ext cx="1440" cy="1800"/>
          </a:xfrm>
          <a:custGeom>
            <a:avLst/>
            <a:gdLst/>
            <a:ahLst/>
            <a:rect l="l" t="t" r="r" b="b"/>
            <a:pathLst>
              <a:path w="1" h="1">
                <a:moveTo>
                  <a:pt x="4539" y="11509"/>
                </a:moveTo>
                <a:lnTo>
                  <a:pt x="4539" y="11509"/>
                </a:lnTo>
              </a:path>
            </a:pathLst>
          </a:custGeom>
          <a:noFill/>
          <a:ln cap="sq" w="228600">
            <a:solidFill>
              <a:srgbClr val="ff0000">
                <a:alpha val="33000"/>
              </a:srgbClr>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1" name=""/>
          <p:cNvSpPr/>
          <p:nvPr/>
        </p:nvSpPr>
        <p:spPr>
          <a:xfrm>
            <a:off x="1652760" y="4116240"/>
            <a:ext cx="9360" cy="1800"/>
          </a:xfrm>
          <a:custGeom>
            <a:avLst/>
            <a:gdLst/>
            <a:ahLst/>
            <a:rect l="l" t="t" r="r" b="b"/>
            <a:pathLst>
              <a:path w="26" h="1">
                <a:moveTo>
                  <a:pt x="4589" y="11435"/>
                </a:moveTo>
                <a:cubicBezTo>
                  <a:pt x="4597" y="11435"/>
                  <a:pt x="4606" y="11435"/>
                  <a:pt x="4614" y="11435"/>
                </a:cubicBezTo>
              </a:path>
            </a:pathLst>
          </a:custGeom>
          <a:noFill/>
          <a:ln cap="sq" w="228600">
            <a:solidFill>
              <a:srgbClr val="ff0000">
                <a:alpha val="33000"/>
              </a:srgbClr>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2" name=""/>
          <p:cNvSpPr/>
          <p:nvPr/>
        </p:nvSpPr>
        <p:spPr>
          <a:xfrm>
            <a:off x="1704960" y="4125960"/>
            <a:ext cx="1440" cy="1440"/>
          </a:xfrm>
          <a:custGeom>
            <a:avLst/>
            <a:gdLst/>
            <a:ahLst/>
            <a:rect l="l" t="t" r="r" b="b"/>
            <a:pathLst>
              <a:path w="1" h="1">
                <a:moveTo>
                  <a:pt x="4738" y="11460"/>
                </a:moveTo>
                <a:lnTo>
                  <a:pt x="4738" y="11460"/>
                </a:lnTo>
              </a:path>
            </a:pathLst>
          </a:custGeom>
          <a:noFill/>
          <a:ln cap="sq" w="228600">
            <a:solidFill>
              <a:srgbClr val="ff0000">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3" name=""/>
          <p:cNvSpPr/>
          <p:nvPr/>
        </p:nvSpPr>
        <p:spPr>
          <a:xfrm>
            <a:off x="1731960" y="4116240"/>
            <a:ext cx="1440" cy="1800"/>
          </a:xfrm>
          <a:custGeom>
            <a:avLst/>
            <a:gdLst/>
            <a:ahLst/>
            <a:rect l="l" t="t" r="r" b="b"/>
            <a:pathLst>
              <a:path w="1" h="1">
                <a:moveTo>
                  <a:pt x="4812" y="11435"/>
                </a:moveTo>
                <a:lnTo>
                  <a:pt x="4812" y="11435"/>
                </a:lnTo>
              </a:path>
            </a:pathLst>
          </a:custGeom>
          <a:noFill/>
          <a:ln cap="sq" w="228600">
            <a:solidFill>
              <a:srgbClr val="ff0000">
                <a:alpha val="33000"/>
              </a:srgbClr>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4" name=""/>
          <p:cNvSpPr/>
          <p:nvPr/>
        </p:nvSpPr>
        <p:spPr>
          <a:xfrm>
            <a:off x="1509840" y="4116240"/>
            <a:ext cx="152280" cy="214560"/>
          </a:xfrm>
          <a:custGeom>
            <a:avLst/>
            <a:gdLst/>
            <a:ahLst/>
            <a:rect l="l" t="t" r="r" b="b"/>
            <a:pathLst>
              <a:path w="423" h="596">
                <a:moveTo>
                  <a:pt x="4614" y="11435"/>
                </a:moveTo>
                <a:cubicBezTo>
                  <a:pt x="4614" y="11443"/>
                  <a:pt x="4614" y="11452"/>
                  <a:pt x="4614" y="11460"/>
                </a:cubicBezTo>
                <a:cubicBezTo>
                  <a:pt x="4571" y="11460"/>
                  <a:pt x="4576" y="11450"/>
                  <a:pt x="4564" y="11485"/>
                </a:cubicBezTo>
                <a:cubicBezTo>
                  <a:pt x="4520" y="11485"/>
                  <a:pt x="4504" y="11500"/>
                  <a:pt x="4465" y="11509"/>
                </a:cubicBezTo>
                <a:cubicBezTo>
                  <a:pt x="4452" y="11547"/>
                  <a:pt x="4440" y="11530"/>
                  <a:pt x="4440" y="11584"/>
                </a:cubicBezTo>
                <a:cubicBezTo>
                  <a:pt x="4400" y="11597"/>
                  <a:pt x="4430" y="11596"/>
                  <a:pt x="4390" y="11609"/>
                </a:cubicBezTo>
                <a:cubicBezTo>
                  <a:pt x="4377" y="11648"/>
                  <a:pt x="4379" y="11618"/>
                  <a:pt x="4366" y="11658"/>
                </a:cubicBezTo>
                <a:cubicBezTo>
                  <a:pt x="4326" y="11671"/>
                  <a:pt x="4356" y="11670"/>
                  <a:pt x="4316" y="11683"/>
                </a:cubicBezTo>
                <a:cubicBezTo>
                  <a:pt x="4303" y="11723"/>
                  <a:pt x="4304" y="11693"/>
                  <a:pt x="4291" y="11733"/>
                </a:cubicBezTo>
                <a:cubicBezTo>
                  <a:pt x="4253" y="11745"/>
                  <a:pt x="4266" y="11762"/>
                  <a:pt x="4266" y="11807"/>
                </a:cubicBezTo>
                <a:cubicBezTo>
                  <a:pt x="4266" y="11815"/>
                  <a:pt x="4266" y="11824"/>
                  <a:pt x="4266" y="11832"/>
                </a:cubicBezTo>
                <a:cubicBezTo>
                  <a:pt x="4241" y="11832"/>
                  <a:pt x="4217" y="11832"/>
                  <a:pt x="4192" y="11832"/>
                </a:cubicBezTo>
                <a:cubicBezTo>
                  <a:pt x="4192" y="11898"/>
                  <a:pt x="4192" y="11964"/>
                  <a:pt x="4192" y="12030"/>
                </a:cubicBezTo>
              </a:path>
            </a:pathLst>
          </a:custGeom>
          <a:noFill/>
          <a:ln cap="sq" w="228600">
            <a:solidFill>
              <a:srgbClr val="ff0000">
                <a:alpha val="33000"/>
              </a:srgbClr>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1276200" y="4357800"/>
            <a:ext cx="1800" cy="1440"/>
          </a:xfrm>
          <a:custGeom>
            <a:avLst/>
            <a:gdLst/>
            <a:ahLst/>
            <a:rect l="l" t="t" r="r" b="b"/>
            <a:pathLst>
              <a:path w="1" h="1">
                <a:moveTo>
                  <a:pt x="3547" y="12105"/>
                </a:moveTo>
                <a:lnTo>
                  <a:pt x="3547" y="12105"/>
                </a:lnTo>
              </a:path>
            </a:pathLst>
          </a:custGeom>
          <a:noFill/>
          <a:ln cap="sq" w="228600">
            <a:solidFill>
              <a:srgbClr val="ff0000">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6" name=""/>
          <p:cNvSpPr/>
          <p:nvPr/>
        </p:nvSpPr>
        <p:spPr>
          <a:xfrm>
            <a:off x="1258920" y="4357800"/>
            <a:ext cx="1440" cy="1440"/>
          </a:xfrm>
          <a:custGeom>
            <a:avLst/>
            <a:gdLst/>
            <a:ahLst/>
            <a:rect l="l" t="t" r="r" b="b"/>
            <a:pathLst>
              <a:path w="1" h="1">
                <a:moveTo>
                  <a:pt x="3497" y="12105"/>
                </a:moveTo>
                <a:lnTo>
                  <a:pt x="3497" y="12105"/>
                </a:lnTo>
              </a:path>
            </a:pathLst>
          </a:custGeom>
          <a:noFill/>
          <a:ln cap="sq" w="228600">
            <a:solidFill>
              <a:srgbClr val="ff0000">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7" name=""/>
          <p:cNvSpPr/>
          <p:nvPr/>
        </p:nvSpPr>
        <p:spPr>
          <a:xfrm>
            <a:off x="1482840" y="4348080"/>
            <a:ext cx="1440" cy="1800"/>
          </a:xfrm>
          <a:custGeom>
            <a:avLst/>
            <a:gdLst/>
            <a:ahLst/>
            <a:rect l="l" t="t" r="r" b="b"/>
            <a:pathLst>
              <a:path w="1" h="1">
                <a:moveTo>
                  <a:pt x="4118" y="12080"/>
                </a:moveTo>
                <a:lnTo>
                  <a:pt x="4118" y="12080"/>
                </a:lnTo>
              </a:path>
            </a:pathLst>
          </a:custGeom>
          <a:noFill/>
          <a:ln cap="sq" w="228600">
            <a:solidFill>
              <a:srgbClr val="ff0000">
                <a:alpha val="33000"/>
              </a:srgbClr>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8" name=""/>
          <p:cNvSpPr/>
          <p:nvPr/>
        </p:nvSpPr>
        <p:spPr>
          <a:xfrm>
            <a:off x="1204920" y="4133880"/>
            <a:ext cx="1440" cy="1440"/>
          </a:xfrm>
          <a:custGeom>
            <a:avLst/>
            <a:gdLst/>
            <a:ahLst/>
            <a:rect l="l" t="t" r="r" b="b"/>
            <a:pathLst>
              <a:path w="1" h="1">
                <a:moveTo>
                  <a:pt x="3349" y="11485"/>
                </a:moveTo>
                <a:lnTo>
                  <a:pt x="3349" y="11485"/>
                </a:lnTo>
              </a:path>
            </a:pathLst>
          </a:custGeom>
          <a:noFill/>
          <a:ln cap="sq" w="228600">
            <a:solidFill>
              <a:srgbClr val="ff0000">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9" name=""/>
          <p:cNvSpPr/>
          <p:nvPr/>
        </p:nvSpPr>
        <p:spPr>
          <a:xfrm>
            <a:off x="1224000" y="4116240"/>
            <a:ext cx="7920" cy="1800"/>
          </a:xfrm>
          <a:custGeom>
            <a:avLst/>
            <a:gdLst/>
            <a:ahLst/>
            <a:rect l="l" t="t" r="r" b="b"/>
            <a:pathLst>
              <a:path w="26" h="1">
                <a:moveTo>
                  <a:pt x="3423" y="11435"/>
                </a:moveTo>
                <a:cubicBezTo>
                  <a:pt x="3415" y="11435"/>
                  <a:pt x="3406" y="11435"/>
                  <a:pt x="3398" y="11435"/>
                </a:cubicBezTo>
              </a:path>
            </a:pathLst>
          </a:custGeom>
          <a:noFill/>
          <a:ln cap="sq" w="228600">
            <a:solidFill>
              <a:srgbClr val="ff0000">
                <a:alpha val="33000"/>
              </a:srgbClr>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0" name=""/>
          <p:cNvSpPr/>
          <p:nvPr/>
        </p:nvSpPr>
        <p:spPr>
          <a:xfrm>
            <a:off x="1251000" y="4367160"/>
            <a:ext cx="1440" cy="1800"/>
          </a:xfrm>
          <a:custGeom>
            <a:avLst/>
            <a:gdLst/>
            <a:ahLst/>
            <a:rect l="l" t="t" r="r" b="b"/>
            <a:pathLst>
              <a:path w="1" h="1">
                <a:moveTo>
                  <a:pt x="3473" y="12129"/>
                </a:moveTo>
                <a:lnTo>
                  <a:pt x="3473" y="12129"/>
                </a:lnTo>
              </a:path>
            </a:pathLst>
          </a:custGeom>
          <a:noFill/>
          <a:ln cap="sq" w="228600">
            <a:solidFill>
              <a:srgbClr val="ff0000">
                <a:alpha val="33000"/>
              </a:srgbClr>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1" name=""/>
          <p:cNvSpPr/>
          <p:nvPr/>
        </p:nvSpPr>
        <p:spPr>
          <a:xfrm>
            <a:off x="1554120" y="4116240"/>
            <a:ext cx="9720" cy="9720"/>
          </a:xfrm>
          <a:custGeom>
            <a:avLst/>
            <a:gdLst/>
            <a:ahLst/>
            <a:rect l="l" t="t" r="r" b="b"/>
            <a:pathLst>
              <a:path w="26" h="26">
                <a:moveTo>
                  <a:pt x="4341" y="11435"/>
                </a:moveTo>
                <a:cubicBezTo>
                  <a:pt x="4341" y="11460"/>
                  <a:pt x="4341" y="11468"/>
                  <a:pt x="4316" y="11460"/>
                </a:cubicBezTo>
              </a:path>
            </a:pathLst>
          </a:custGeom>
          <a:noFill/>
          <a:ln cap="sq" w="228600">
            <a:solidFill>
              <a:srgbClr val="ff0000">
                <a:alpha val="33000"/>
              </a:srgbClr>
            </a:solidFill>
            <a:round/>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12" name=""/>
          <p:cNvSpPr/>
          <p:nvPr/>
        </p:nvSpPr>
        <p:spPr>
          <a:xfrm>
            <a:off x="1571760" y="4133880"/>
            <a:ext cx="1440" cy="1440"/>
          </a:xfrm>
          <a:custGeom>
            <a:avLst/>
            <a:gdLst/>
            <a:ahLst/>
            <a:rect l="l" t="t" r="r" b="b"/>
            <a:pathLst>
              <a:path w="1" h="1">
                <a:moveTo>
                  <a:pt x="4366" y="11485"/>
                </a:moveTo>
                <a:lnTo>
                  <a:pt x="4366" y="11485"/>
                </a:lnTo>
              </a:path>
            </a:pathLst>
          </a:custGeom>
          <a:noFill/>
          <a:ln cap="sq" w="228600">
            <a:solidFill>
              <a:srgbClr val="ff0000">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3" name=""/>
          <p:cNvSpPr/>
          <p:nvPr/>
        </p:nvSpPr>
        <p:spPr>
          <a:xfrm>
            <a:off x="1347840" y="3990960"/>
            <a:ext cx="314280" cy="1440"/>
          </a:xfrm>
          <a:custGeom>
            <a:avLst/>
            <a:gdLst/>
            <a:ahLst/>
            <a:rect l="l" t="t" r="r" b="b"/>
            <a:pathLst>
              <a:path w="869" h="1">
                <a:moveTo>
                  <a:pt x="3746" y="11088"/>
                </a:moveTo>
                <a:cubicBezTo>
                  <a:pt x="4035" y="11088"/>
                  <a:pt x="4325" y="11088"/>
                  <a:pt x="4614" y="11088"/>
                </a:cubicBezTo>
              </a:path>
            </a:pathLst>
          </a:custGeom>
          <a:noFill/>
          <a:ln cap="sq" w="228600">
            <a:solidFill>
              <a:srgbClr val="ff9900">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4" name=""/>
          <p:cNvSpPr/>
          <p:nvPr/>
        </p:nvSpPr>
        <p:spPr>
          <a:xfrm>
            <a:off x="1384200" y="3830760"/>
            <a:ext cx="401760" cy="260280"/>
          </a:xfrm>
          <a:custGeom>
            <a:avLst/>
            <a:gdLst/>
            <a:ahLst/>
            <a:rect l="l" t="t" r="r" b="b"/>
            <a:pathLst>
              <a:path w="1117" h="721">
                <a:moveTo>
                  <a:pt x="3894" y="10964"/>
                </a:moveTo>
                <a:cubicBezTo>
                  <a:pt x="4066" y="10964"/>
                  <a:pt x="4283" y="10966"/>
                  <a:pt x="4415" y="10939"/>
                </a:cubicBezTo>
                <a:cubicBezTo>
                  <a:pt x="4465" y="10929"/>
                  <a:pt x="4469" y="10937"/>
                  <a:pt x="4514" y="10914"/>
                </a:cubicBezTo>
                <a:cubicBezTo>
                  <a:pt x="4550" y="10896"/>
                  <a:pt x="4572" y="10878"/>
                  <a:pt x="4589" y="10864"/>
                </a:cubicBezTo>
                <a:cubicBezTo>
                  <a:pt x="4586" y="10862"/>
                  <a:pt x="4515" y="10820"/>
                  <a:pt x="4490" y="10815"/>
                </a:cubicBezTo>
                <a:cubicBezTo>
                  <a:pt x="4402" y="10798"/>
                  <a:pt x="4214" y="10804"/>
                  <a:pt x="4167" y="10840"/>
                </a:cubicBezTo>
                <a:cubicBezTo>
                  <a:pt x="4138" y="10862"/>
                  <a:pt x="4140" y="10886"/>
                  <a:pt x="4118" y="10914"/>
                </a:cubicBezTo>
                <a:cubicBezTo>
                  <a:pt x="4098" y="10939"/>
                  <a:pt x="4089" y="10943"/>
                  <a:pt x="4068" y="10964"/>
                </a:cubicBezTo>
                <a:cubicBezTo>
                  <a:pt x="4041" y="10991"/>
                  <a:pt x="4007" y="10994"/>
                  <a:pt x="3994" y="11013"/>
                </a:cubicBezTo>
                <a:cubicBezTo>
                  <a:pt x="3975" y="11039"/>
                  <a:pt x="3971" y="11076"/>
                  <a:pt x="3969" y="11112"/>
                </a:cubicBezTo>
                <a:cubicBezTo>
                  <a:pt x="3965" y="11181"/>
                  <a:pt x="3990" y="11147"/>
                  <a:pt x="3994" y="11212"/>
                </a:cubicBezTo>
                <a:cubicBezTo>
                  <a:pt x="3996" y="11245"/>
                  <a:pt x="4018" y="11286"/>
                  <a:pt x="4018" y="11286"/>
                </a:cubicBezTo>
                <a:cubicBezTo>
                  <a:pt x="4027" y="11333"/>
                  <a:pt x="4000" y="11344"/>
                  <a:pt x="4043" y="11361"/>
                </a:cubicBezTo>
                <a:cubicBezTo>
                  <a:pt x="4100" y="11383"/>
                  <a:pt x="4194" y="11354"/>
                  <a:pt x="4217" y="11336"/>
                </a:cubicBezTo>
                <a:cubicBezTo>
                  <a:pt x="4238" y="11319"/>
                  <a:pt x="4259" y="11292"/>
                  <a:pt x="4291" y="11261"/>
                </a:cubicBezTo>
                <a:cubicBezTo>
                  <a:pt x="4317" y="11235"/>
                  <a:pt x="4313" y="11242"/>
                  <a:pt x="4316" y="11187"/>
                </a:cubicBezTo>
                <a:cubicBezTo>
                  <a:pt x="4318" y="11145"/>
                  <a:pt x="4309" y="11134"/>
                  <a:pt x="4291" y="11112"/>
                </a:cubicBezTo>
                <a:cubicBezTo>
                  <a:pt x="4262" y="11076"/>
                  <a:pt x="4233" y="11090"/>
                  <a:pt x="4192" y="11088"/>
                </a:cubicBezTo>
                <a:cubicBezTo>
                  <a:pt x="4128" y="11085"/>
                  <a:pt x="4042" y="11074"/>
                  <a:pt x="3994" y="11112"/>
                </a:cubicBezTo>
                <a:cubicBezTo>
                  <a:pt x="3945" y="11151"/>
                  <a:pt x="3965" y="11170"/>
                  <a:pt x="3944" y="11212"/>
                </a:cubicBezTo>
                <a:cubicBezTo>
                  <a:pt x="3930" y="11239"/>
                  <a:pt x="3886" y="11255"/>
                  <a:pt x="3870" y="11261"/>
                </a:cubicBezTo>
                <a:cubicBezTo>
                  <a:pt x="3862" y="11261"/>
                  <a:pt x="3853" y="11261"/>
                  <a:pt x="3845" y="11261"/>
                </a:cubicBezTo>
                <a:cubicBezTo>
                  <a:pt x="3845" y="11181"/>
                  <a:pt x="3833" y="11081"/>
                  <a:pt x="3870" y="11038"/>
                </a:cubicBezTo>
                <a:cubicBezTo>
                  <a:pt x="3889" y="11016"/>
                  <a:pt x="3929" y="10974"/>
                  <a:pt x="3969" y="10964"/>
                </a:cubicBezTo>
                <a:cubicBezTo>
                  <a:pt x="4005" y="10955"/>
                  <a:pt x="4037" y="10958"/>
                  <a:pt x="4068" y="10939"/>
                </a:cubicBezTo>
                <a:cubicBezTo>
                  <a:pt x="4093" y="10923"/>
                  <a:pt x="4078" y="10894"/>
                  <a:pt x="4093" y="10864"/>
                </a:cubicBezTo>
                <a:cubicBezTo>
                  <a:pt x="4099" y="10852"/>
                  <a:pt x="4150" y="10828"/>
                  <a:pt x="4167" y="10815"/>
                </a:cubicBezTo>
                <a:cubicBezTo>
                  <a:pt x="4206" y="10785"/>
                  <a:pt x="4217" y="10793"/>
                  <a:pt x="4266" y="10790"/>
                </a:cubicBezTo>
                <a:cubicBezTo>
                  <a:pt x="4397" y="10783"/>
                  <a:pt x="4531" y="10790"/>
                  <a:pt x="4663" y="10790"/>
                </a:cubicBezTo>
                <a:cubicBezTo>
                  <a:pt x="4663" y="10833"/>
                  <a:pt x="4686" y="10970"/>
                  <a:pt x="4638" y="10988"/>
                </a:cubicBezTo>
                <a:cubicBezTo>
                  <a:pt x="4587" y="11007"/>
                  <a:pt x="4496" y="10988"/>
                  <a:pt x="4440" y="10988"/>
                </a:cubicBezTo>
                <a:cubicBezTo>
                  <a:pt x="4473" y="10988"/>
                  <a:pt x="4457" y="10988"/>
                  <a:pt x="4490" y="10988"/>
                </a:cubicBezTo>
                <a:cubicBezTo>
                  <a:pt x="4560" y="10988"/>
                  <a:pt x="4659" y="11007"/>
                  <a:pt x="4713" y="10964"/>
                </a:cubicBezTo>
                <a:cubicBezTo>
                  <a:pt x="4760" y="10927"/>
                  <a:pt x="4755" y="10947"/>
                  <a:pt x="4762" y="10889"/>
                </a:cubicBezTo>
                <a:cubicBezTo>
                  <a:pt x="4766" y="10856"/>
                  <a:pt x="4781" y="10847"/>
                  <a:pt x="4787" y="10815"/>
                </a:cubicBezTo>
                <a:cubicBezTo>
                  <a:pt x="4799" y="10755"/>
                  <a:pt x="4766" y="10765"/>
                  <a:pt x="4738" y="10740"/>
                </a:cubicBezTo>
                <a:cubicBezTo>
                  <a:pt x="4716" y="10720"/>
                  <a:pt x="4704" y="10718"/>
                  <a:pt x="4663" y="10716"/>
                </a:cubicBezTo>
                <a:cubicBezTo>
                  <a:pt x="4523" y="10708"/>
                  <a:pt x="4343" y="10720"/>
                  <a:pt x="4242" y="10740"/>
                </a:cubicBezTo>
                <a:cubicBezTo>
                  <a:pt x="4187" y="10751"/>
                  <a:pt x="4163" y="10728"/>
                  <a:pt x="4118" y="10765"/>
                </a:cubicBezTo>
                <a:cubicBezTo>
                  <a:pt x="4082" y="10795"/>
                  <a:pt x="4065" y="10835"/>
                  <a:pt x="4043" y="10864"/>
                </a:cubicBezTo>
                <a:cubicBezTo>
                  <a:pt x="4024" y="10889"/>
                  <a:pt x="4026" y="10906"/>
                  <a:pt x="3994" y="10939"/>
                </a:cubicBezTo>
                <a:cubicBezTo>
                  <a:pt x="3977" y="10957"/>
                  <a:pt x="3962" y="10971"/>
                  <a:pt x="3944" y="10988"/>
                </a:cubicBezTo>
                <a:cubicBezTo>
                  <a:pt x="3944" y="10955"/>
                  <a:pt x="3944" y="10972"/>
                  <a:pt x="3944" y="10939"/>
                </a:cubicBezTo>
                <a:cubicBezTo>
                  <a:pt x="3944" y="10872"/>
                  <a:pt x="3942" y="10824"/>
                  <a:pt x="3969" y="10790"/>
                </a:cubicBezTo>
                <a:cubicBezTo>
                  <a:pt x="3993" y="10760"/>
                  <a:pt x="3990" y="10768"/>
                  <a:pt x="4043" y="10765"/>
                </a:cubicBezTo>
                <a:cubicBezTo>
                  <a:pt x="4199" y="10756"/>
                  <a:pt x="4663" y="10710"/>
                  <a:pt x="4762" y="10790"/>
                </a:cubicBezTo>
                <a:cubicBezTo>
                  <a:pt x="4793" y="10815"/>
                  <a:pt x="4762" y="10835"/>
                  <a:pt x="4787" y="10864"/>
                </a:cubicBezTo>
                <a:cubicBezTo>
                  <a:pt x="4795" y="10864"/>
                  <a:pt x="4804" y="10864"/>
                  <a:pt x="4812" y="10864"/>
                </a:cubicBezTo>
                <a:cubicBezTo>
                  <a:pt x="4812" y="10801"/>
                  <a:pt x="4812" y="10771"/>
                  <a:pt x="4837" y="10740"/>
                </a:cubicBezTo>
                <a:cubicBezTo>
                  <a:pt x="4860" y="10712"/>
                  <a:pt x="4895" y="10705"/>
                  <a:pt x="4911" y="10691"/>
                </a:cubicBezTo>
                <a:cubicBezTo>
                  <a:pt x="4919" y="10683"/>
                  <a:pt x="4928" y="10674"/>
                  <a:pt x="4936" y="10666"/>
                </a:cubicBezTo>
                <a:cubicBezTo>
                  <a:pt x="4903" y="10666"/>
                  <a:pt x="4920" y="10666"/>
                  <a:pt x="4887" y="10666"/>
                </a:cubicBezTo>
                <a:cubicBezTo>
                  <a:pt x="4841" y="10666"/>
                  <a:pt x="4827" y="10648"/>
                  <a:pt x="4787" y="10641"/>
                </a:cubicBezTo>
                <a:cubicBezTo>
                  <a:pt x="4713" y="10629"/>
                  <a:pt x="4600" y="10637"/>
                  <a:pt x="4564" y="10666"/>
                </a:cubicBezTo>
                <a:cubicBezTo>
                  <a:pt x="4538" y="10687"/>
                  <a:pt x="4533" y="10685"/>
                  <a:pt x="4490" y="10691"/>
                </a:cubicBezTo>
                <a:cubicBezTo>
                  <a:pt x="4533" y="10675"/>
                  <a:pt x="4562" y="10669"/>
                  <a:pt x="4614" y="10666"/>
                </a:cubicBezTo>
                <a:cubicBezTo>
                  <a:pt x="4708" y="10661"/>
                  <a:pt x="4832" y="10680"/>
                  <a:pt x="4887" y="10691"/>
                </a:cubicBezTo>
                <a:cubicBezTo>
                  <a:pt x="4934" y="10700"/>
                  <a:pt x="4929" y="10697"/>
                  <a:pt x="4961" y="10716"/>
                </a:cubicBezTo>
              </a:path>
            </a:pathLst>
          </a:custGeom>
          <a:noFill/>
          <a:ln cap="sq" w="228600">
            <a:solidFill>
              <a:srgbClr val="ff9900">
                <a:alpha val="33000"/>
              </a:srgbClr>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1820880" y="3884760"/>
            <a:ext cx="1440" cy="1440"/>
          </a:xfrm>
          <a:custGeom>
            <a:avLst/>
            <a:gdLst/>
            <a:ahLst/>
            <a:rect l="l" t="t" r="r" b="b"/>
            <a:pathLst>
              <a:path w="1" h="1">
                <a:moveTo>
                  <a:pt x="5060" y="10790"/>
                </a:moveTo>
                <a:lnTo>
                  <a:pt x="5060" y="10790"/>
                </a:lnTo>
              </a:path>
            </a:pathLst>
          </a:custGeom>
          <a:noFill/>
          <a:ln cap="sq" w="228600">
            <a:solidFill>
              <a:srgbClr val="ff9900">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6" name=""/>
          <p:cNvSpPr/>
          <p:nvPr/>
        </p:nvSpPr>
        <p:spPr>
          <a:xfrm>
            <a:off x="1812960" y="3902040"/>
            <a:ext cx="1440" cy="1800"/>
          </a:xfrm>
          <a:custGeom>
            <a:avLst/>
            <a:gdLst/>
            <a:ahLst/>
            <a:rect l="l" t="t" r="r" b="b"/>
            <a:pathLst>
              <a:path w="1" h="1">
                <a:moveTo>
                  <a:pt x="5035" y="10840"/>
                </a:moveTo>
                <a:lnTo>
                  <a:pt x="5035" y="10840"/>
                </a:lnTo>
              </a:path>
            </a:pathLst>
          </a:custGeom>
          <a:noFill/>
          <a:ln cap="sq" w="228600">
            <a:solidFill>
              <a:srgbClr val="ff9900">
                <a:alpha val="33000"/>
              </a:srgbClr>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7" name=""/>
          <p:cNvSpPr/>
          <p:nvPr/>
        </p:nvSpPr>
        <p:spPr>
          <a:xfrm>
            <a:off x="1768320" y="3902040"/>
            <a:ext cx="1800" cy="1800"/>
          </a:xfrm>
          <a:custGeom>
            <a:avLst/>
            <a:gdLst/>
            <a:ahLst/>
            <a:rect l="l" t="t" r="r" b="b"/>
            <a:pathLst>
              <a:path w="1" h="1">
                <a:moveTo>
                  <a:pt x="4911" y="10840"/>
                </a:moveTo>
                <a:lnTo>
                  <a:pt x="4911" y="10840"/>
                </a:lnTo>
              </a:path>
            </a:pathLst>
          </a:custGeom>
          <a:noFill/>
          <a:ln cap="sq" w="228600">
            <a:solidFill>
              <a:srgbClr val="ff9900">
                <a:alpha val="33000"/>
              </a:srgbClr>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8" name=""/>
          <p:cNvSpPr/>
          <p:nvPr/>
        </p:nvSpPr>
        <p:spPr>
          <a:xfrm>
            <a:off x="1830240" y="3919680"/>
            <a:ext cx="1800" cy="1440"/>
          </a:xfrm>
          <a:custGeom>
            <a:avLst/>
            <a:gdLst/>
            <a:ahLst/>
            <a:rect l="l" t="t" r="r" b="b"/>
            <a:pathLst>
              <a:path w="1" h="1">
                <a:moveTo>
                  <a:pt x="5085" y="10889"/>
                </a:moveTo>
                <a:lnTo>
                  <a:pt x="5085" y="10889"/>
                </a:lnTo>
              </a:path>
            </a:pathLst>
          </a:custGeom>
          <a:noFill/>
          <a:ln cap="sq" w="228600">
            <a:solidFill>
              <a:srgbClr val="ff9900">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9" name=""/>
          <p:cNvSpPr/>
          <p:nvPr/>
        </p:nvSpPr>
        <p:spPr>
          <a:xfrm>
            <a:off x="1776240" y="3938760"/>
            <a:ext cx="19080" cy="1440"/>
          </a:xfrm>
          <a:custGeom>
            <a:avLst/>
            <a:gdLst/>
            <a:ahLst/>
            <a:rect l="l" t="t" r="r" b="b"/>
            <a:pathLst>
              <a:path w="51" h="1">
                <a:moveTo>
                  <a:pt x="4986" y="10939"/>
                </a:moveTo>
                <a:cubicBezTo>
                  <a:pt x="4969" y="10939"/>
                  <a:pt x="4953" y="10939"/>
                  <a:pt x="4936" y="10939"/>
                </a:cubicBezTo>
              </a:path>
            </a:pathLst>
          </a:custGeom>
          <a:noFill/>
          <a:ln cap="sq" w="228600">
            <a:solidFill>
              <a:srgbClr val="ff9900">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0" name=""/>
          <p:cNvSpPr/>
          <p:nvPr/>
        </p:nvSpPr>
        <p:spPr>
          <a:xfrm>
            <a:off x="1751040" y="3938760"/>
            <a:ext cx="7920" cy="9360"/>
          </a:xfrm>
          <a:custGeom>
            <a:avLst/>
            <a:gdLst/>
            <a:ahLst/>
            <a:rect l="l" t="t" r="r" b="b"/>
            <a:pathLst>
              <a:path w="26" h="26">
                <a:moveTo>
                  <a:pt x="4887" y="10939"/>
                </a:moveTo>
                <a:cubicBezTo>
                  <a:pt x="4887" y="10964"/>
                  <a:pt x="4887" y="10972"/>
                  <a:pt x="4862" y="10964"/>
                </a:cubicBezTo>
              </a:path>
            </a:pathLst>
          </a:custGeom>
          <a:noFill/>
          <a:ln cap="sq" w="228600">
            <a:solidFill>
              <a:srgbClr val="ff9900">
                <a:alpha val="33000"/>
              </a:srgbClr>
            </a:solidFill>
            <a:round/>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21" name=""/>
          <p:cNvSpPr/>
          <p:nvPr/>
        </p:nvSpPr>
        <p:spPr>
          <a:xfrm>
            <a:off x="1500120" y="3902040"/>
            <a:ext cx="223920" cy="108000"/>
          </a:xfrm>
          <a:custGeom>
            <a:avLst/>
            <a:gdLst/>
            <a:ahLst/>
            <a:rect l="l" t="t" r="r" b="b"/>
            <a:pathLst>
              <a:path w="621" h="298">
                <a:moveTo>
                  <a:pt x="4787" y="10889"/>
                </a:moveTo>
                <a:cubicBezTo>
                  <a:pt x="4772" y="10866"/>
                  <a:pt x="4743" y="10844"/>
                  <a:pt x="4713" y="10840"/>
                </a:cubicBezTo>
                <a:cubicBezTo>
                  <a:pt x="4658" y="10833"/>
                  <a:pt x="4633" y="10850"/>
                  <a:pt x="4589" y="10864"/>
                </a:cubicBezTo>
                <a:cubicBezTo>
                  <a:pt x="4576" y="10868"/>
                  <a:pt x="4508" y="10893"/>
                  <a:pt x="4490" y="10914"/>
                </a:cubicBezTo>
                <a:cubicBezTo>
                  <a:pt x="4460" y="10949"/>
                  <a:pt x="4459" y="10915"/>
                  <a:pt x="4415" y="10939"/>
                </a:cubicBezTo>
                <a:cubicBezTo>
                  <a:pt x="4380" y="10959"/>
                  <a:pt x="4346" y="10970"/>
                  <a:pt x="4341" y="11013"/>
                </a:cubicBezTo>
                <a:cubicBezTo>
                  <a:pt x="4341" y="11021"/>
                  <a:pt x="4341" y="11030"/>
                  <a:pt x="4341" y="11038"/>
                </a:cubicBezTo>
                <a:cubicBezTo>
                  <a:pt x="4392" y="11038"/>
                  <a:pt x="4422" y="11019"/>
                  <a:pt x="4465" y="10988"/>
                </a:cubicBezTo>
                <a:cubicBezTo>
                  <a:pt x="4512" y="10953"/>
                  <a:pt x="4534" y="10903"/>
                  <a:pt x="4589" y="10889"/>
                </a:cubicBezTo>
                <a:cubicBezTo>
                  <a:pt x="4537" y="10889"/>
                  <a:pt x="4476" y="10893"/>
                  <a:pt x="4440" y="10939"/>
                </a:cubicBezTo>
                <a:cubicBezTo>
                  <a:pt x="4427" y="10955"/>
                  <a:pt x="4459" y="10972"/>
                  <a:pt x="4465" y="10988"/>
                </a:cubicBezTo>
                <a:cubicBezTo>
                  <a:pt x="4419" y="11000"/>
                  <a:pt x="4385" y="11045"/>
                  <a:pt x="4341" y="11063"/>
                </a:cubicBezTo>
                <a:cubicBezTo>
                  <a:pt x="4305" y="11077"/>
                  <a:pt x="4288" y="11095"/>
                  <a:pt x="4266" y="11112"/>
                </a:cubicBezTo>
                <a:cubicBezTo>
                  <a:pt x="4229" y="11140"/>
                  <a:pt x="4214" y="11137"/>
                  <a:pt x="4167" y="11137"/>
                </a:cubicBezTo>
              </a:path>
            </a:pathLst>
          </a:custGeom>
          <a:noFill/>
          <a:ln cap="sq" w="228600">
            <a:solidFill>
              <a:srgbClr val="ff9900">
                <a:alpha val="33000"/>
              </a:srgbClr>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1490760" y="4010040"/>
            <a:ext cx="1440" cy="1440"/>
          </a:xfrm>
          <a:custGeom>
            <a:avLst/>
            <a:gdLst/>
            <a:ahLst/>
            <a:rect l="l" t="t" r="r" b="b"/>
            <a:pathLst>
              <a:path w="1" h="1">
                <a:moveTo>
                  <a:pt x="4142" y="11137"/>
                </a:moveTo>
                <a:lnTo>
                  <a:pt x="4142" y="11137"/>
                </a:lnTo>
              </a:path>
            </a:pathLst>
          </a:custGeom>
          <a:noFill/>
          <a:ln cap="sq" w="228600">
            <a:solidFill>
              <a:srgbClr val="ff9900">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3" name=""/>
          <p:cNvSpPr/>
          <p:nvPr/>
        </p:nvSpPr>
        <p:spPr>
          <a:xfrm>
            <a:off x="911160" y="2000160"/>
            <a:ext cx="2517840" cy="1800"/>
          </a:xfrm>
          <a:custGeom>
            <a:avLst/>
            <a:gdLst/>
            <a:ahLst/>
            <a:rect l="l" t="t" r="r" b="b"/>
            <a:pathLst>
              <a:path w="6996" h="1">
                <a:moveTo>
                  <a:pt x="2530" y="5556"/>
                </a:moveTo>
                <a:cubicBezTo>
                  <a:pt x="4862" y="5556"/>
                  <a:pt x="7193" y="5556"/>
                  <a:pt x="9525" y="5556"/>
                </a:cubicBezTo>
              </a:path>
            </a:pathLst>
          </a:custGeom>
          <a:noFill/>
          <a:ln cap="sq" w="228600">
            <a:solidFill>
              <a:srgbClr val="ff9900">
                <a:alpha val="33000"/>
              </a:srgbClr>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4" name=""/>
          <p:cNvSpPr/>
          <p:nvPr/>
        </p:nvSpPr>
        <p:spPr>
          <a:xfrm>
            <a:off x="7589880" y="5848200"/>
            <a:ext cx="9360" cy="9720"/>
          </a:xfrm>
          <a:custGeom>
            <a:avLst/>
            <a:gdLst/>
            <a:ahLst/>
            <a:rect l="l" t="t" r="r" b="b"/>
            <a:pathLst>
              <a:path w="26" h="26">
                <a:moveTo>
                  <a:pt x="21084" y="16247"/>
                </a:moveTo>
                <a:cubicBezTo>
                  <a:pt x="21109" y="16247"/>
                  <a:pt x="21117" y="16247"/>
                  <a:pt x="21109" y="16272"/>
                </a:cubicBezTo>
              </a:path>
            </a:pathLst>
          </a:custGeom>
          <a:noFill/>
          <a:ln cap="rnd" w="19080">
            <a:solidFill>
              <a:srgbClr val="ff00ff"/>
            </a:solidFill>
            <a:round/>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25" name=""/>
          <p:cNvSpPr/>
          <p:nvPr/>
        </p:nvSpPr>
        <p:spPr>
          <a:xfrm>
            <a:off x="1455840" y="4687920"/>
            <a:ext cx="303120" cy="1440"/>
          </a:xfrm>
          <a:custGeom>
            <a:avLst/>
            <a:gdLst/>
            <a:ahLst/>
            <a:rect l="l" t="t" r="r" b="b"/>
            <a:pathLst>
              <a:path w="845" h="1">
                <a:moveTo>
                  <a:pt x="4043" y="13022"/>
                </a:moveTo>
                <a:cubicBezTo>
                  <a:pt x="4324" y="13022"/>
                  <a:pt x="4606" y="13022"/>
                  <a:pt x="4887" y="13022"/>
                </a:cubicBezTo>
              </a:path>
            </a:pathLst>
          </a:custGeom>
          <a:noFill/>
          <a:ln cap="sq" w="228600">
            <a:solidFill>
              <a:srgbClr val="ffff00">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6" name=""/>
          <p:cNvSpPr/>
          <p:nvPr/>
        </p:nvSpPr>
        <p:spPr>
          <a:xfrm>
            <a:off x="3705120" y="2009880"/>
            <a:ext cx="2189160" cy="1440"/>
          </a:xfrm>
          <a:custGeom>
            <a:avLst/>
            <a:gdLst/>
            <a:ahLst/>
            <a:rect l="l" t="t" r="r" b="b"/>
            <a:pathLst>
              <a:path w="6078" h="1">
                <a:moveTo>
                  <a:pt x="10294" y="5581"/>
                </a:moveTo>
                <a:cubicBezTo>
                  <a:pt x="12320" y="5581"/>
                  <a:pt x="14345" y="5581"/>
                  <a:pt x="16371" y="5581"/>
                </a:cubicBezTo>
              </a:path>
            </a:pathLst>
          </a:custGeom>
          <a:noFill/>
          <a:ln cap="sq" w="228600">
            <a:solidFill>
              <a:srgbClr val="ffff00">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7" name=""/>
          <p:cNvSpPr/>
          <p:nvPr/>
        </p:nvSpPr>
        <p:spPr>
          <a:xfrm>
            <a:off x="892080" y="2251080"/>
            <a:ext cx="3492720" cy="1440"/>
          </a:xfrm>
          <a:custGeom>
            <a:avLst/>
            <a:gdLst/>
            <a:ahLst/>
            <a:rect l="l" t="t" r="r" b="b"/>
            <a:pathLst>
              <a:path w="9700" h="1">
                <a:moveTo>
                  <a:pt x="2480" y="6251"/>
                </a:moveTo>
                <a:cubicBezTo>
                  <a:pt x="5713" y="6251"/>
                  <a:pt x="8946" y="6251"/>
                  <a:pt x="12179" y="6251"/>
                </a:cubicBezTo>
              </a:path>
            </a:pathLst>
          </a:custGeom>
          <a:noFill/>
          <a:ln cap="sq" w="228600">
            <a:solidFill>
              <a:srgbClr val="00ffff">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8" name=""/>
          <p:cNvSpPr/>
          <p:nvPr/>
        </p:nvSpPr>
        <p:spPr>
          <a:xfrm>
            <a:off x="6062760" y="2017800"/>
            <a:ext cx="1982520" cy="1440"/>
          </a:xfrm>
          <a:custGeom>
            <a:avLst/>
            <a:gdLst/>
            <a:ahLst/>
            <a:rect l="l" t="t" r="r" b="b"/>
            <a:pathLst>
              <a:path w="5508" h="1">
                <a:moveTo>
                  <a:pt x="16842" y="5606"/>
                </a:moveTo>
                <a:cubicBezTo>
                  <a:pt x="17380" y="5606"/>
                  <a:pt x="17917" y="5606"/>
                  <a:pt x="18455" y="5606"/>
                </a:cubicBezTo>
                <a:cubicBezTo>
                  <a:pt x="18496" y="5606"/>
                  <a:pt x="18438" y="5606"/>
                  <a:pt x="18479" y="5606"/>
                </a:cubicBezTo>
                <a:cubicBezTo>
                  <a:pt x="18678" y="5606"/>
                  <a:pt x="18876" y="5606"/>
                  <a:pt x="19075" y="5606"/>
                </a:cubicBezTo>
                <a:cubicBezTo>
                  <a:pt x="19117" y="5606"/>
                  <a:pt x="19058" y="5606"/>
                  <a:pt x="19100" y="5606"/>
                </a:cubicBezTo>
                <a:cubicBezTo>
                  <a:pt x="20183" y="5606"/>
                  <a:pt x="21266" y="5606"/>
                  <a:pt x="22349" y="5606"/>
                </a:cubicBezTo>
              </a:path>
            </a:pathLst>
          </a:custGeom>
          <a:noFill/>
          <a:ln cap="sq" w="228600">
            <a:solidFill>
              <a:srgbClr val="00ff00">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9" name=""/>
          <p:cNvSpPr/>
          <p:nvPr/>
        </p:nvSpPr>
        <p:spPr>
          <a:xfrm>
            <a:off x="1928880" y="4384800"/>
            <a:ext cx="223920" cy="1440"/>
          </a:xfrm>
          <a:custGeom>
            <a:avLst/>
            <a:gdLst/>
            <a:ahLst/>
            <a:rect l="l" t="t" r="r" b="b"/>
            <a:pathLst>
              <a:path w="621" h="1">
                <a:moveTo>
                  <a:pt x="5358" y="12179"/>
                </a:moveTo>
                <a:cubicBezTo>
                  <a:pt x="5565" y="12179"/>
                  <a:pt x="5771" y="12179"/>
                  <a:pt x="5978" y="12179"/>
                </a:cubicBezTo>
              </a:path>
            </a:pathLst>
          </a:custGeom>
          <a:noFill/>
          <a:ln cap="sq" w="228600">
            <a:solidFill>
              <a:srgbClr val="00ffff">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0" name=""/>
          <p:cNvSpPr/>
          <p:nvPr/>
        </p:nvSpPr>
        <p:spPr>
          <a:xfrm>
            <a:off x="3848040" y="4062240"/>
            <a:ext cx="1800" cy="1800"/>
          </a:xfrm>
          <a:custGeom>
            <a:avLst/>
            <a:gdLst/>
            <a:ahLst/>
            <a:rect l="l" t="t" r="r" b="b"/>
            <a:pathLst>
              <a:path w="1" h="1">
                <a:moveTo>
                  <a:pt x="10691" y="11286"/>
                </a:moveTo>
                <a:lnTo>
                  <a:pt x="10691" y="11286"/>
                </a:lnTo>
              </a:path>
            </a:pathLst>
          </a:custGeom>
          <a:noFill/>
          <a:ln cap="sq" w="228600">
            <a:solidFill>
              <a:srgbClr val="00ff00">
                <a:alpha val="33000"/>
              </a:srgbClr>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31" name=""/>
          <p:cNvSpPr/>
          <p:nvPr/>
        </p:nvSpPr>
        <p:spPr>
          <a:xfrm>
            <a:off x="3848040" y="3894120"/>
            <a:ext cx="1893960" cy="133200"/>
          </a:xfrm>
          <a:custGeom>
            <a:avLst/>
            <a:gdLst/>
            <a:ahLst/>
            <a:rect l="l" t="t" r="r" b="b"/>
            <a:pathLst>
              <a:path w="5259" h="373">
                <a:moveTo>
                  <a:pt x="10691" y="11187"/>
                </a:moveTo>
                <a:cubicBezTo>
                  <a:pt x="11052" y="11187"/>
                  <a:pt x="11493" y="11245"/>
                  <a:pt x="11832" y="11162"/>
                </a:cubicBezTo>
                <a:cubicBezTo>
                  <a:pt x="11868" y="11153"/>
                  <a:pt x="11897" y="11142"/>
                  <a:pt x="11931" y="11137"/>
                </a:cubicBezTo>
                <a:cubicBezTo>
                  <a:pt x="11955" y="11134"/>
                  <a:pt x="11981" y="11140"/>
                  <a:pt x="12005" y="11137"/>
                </a:cubicBezTo>
                <a:cubicBezTo>
                  <a:pt x="12037" y="11126"/>
                  <a:pt x="12048" y="11123"/>
                  <a:pt x="12080" y="11112"/>
                </a:cubicBezTo>
                <a:cubicBezTo>
                  <a:pt x="12111" y="11102"/>
                  <a:pt x="12123" y="11098"/>
                  <a:pt x="12154" y="11088"/>
                </a:cubicBezTo>
                <a:cubicBezTo>
                  <a:pt x="12177" y="11053"/>
                  <a:pt x="12154" y="11071"/>
                  <a:pt x="12204" y="11063"/>
                </a:cubicBezTo>
                <a:cubicBezTo>
                  <a:pt x="12235" y="11052"/>
                  <a:pt x="12247" y="11049"/>
                  <a:pt x="12278" y="11038"/>
                </a:cubicBezTo>
                <a:cubicBezTo>
                  <a:pt x="12310" y="11027"/>
                  <a:pt x="12321" y="11024"/>
                  <a:pt x="12353" y="11013"/>
                </a:cubicBezTo>
                <a:cubicBezTo>
                  <a:pt x="12355" y="11013"/>
                  <a:pt x="12394" y="10991"/>
                  <a:pt x="12427" y="10988"/>
                </a:cubicBezTo>
                <a:cubicBezTo>
                  <a:pt x="13014" y="10927"/>
                  <a:pt x="13638" y="11018"/>
                  <a:pt x="14213" y="10964"/>
                </a:cubicBezTo>
                <a:cubicBezTo>
                  <a:pt x="14237" y="10962"/>
                  <a:pt x="14264" y="10968"/>
                  <a:pt x="14288" y="10964"/>
                </a:cubicBezTo>
                <a:cubicBezTo>
                  <a:pt x="14319" y="10953"/>
                  <a:pt x="14332" y="10952"/>
                  <a:pt x="14362" y="10939"/>
                </a:cubicBezTo>
                <a:cubicBezTo>
                  <a:pt x="14385" y="10916"/>
                  <a:pt x="14389" y="10908"/>
                  <a:pt x="14412" y="10914"/>
                </a:cubicBezTo>
                <a:cubicBezTo>
                  <a:pt x="14427" y="10906"/>
                  <a:pt x="14448" y="10876"/>
                  <a:pt x="14486" y="10864"/>
                </a:cubicBezTo>
                <a:cubicBezTo>
                  <a:pt x="14511" y="10864"/>
                  <a:pt x="14519" y="10864"/>
                  <a:pt x="14536" y="10864"/>
                </a:cubicBezTo>
                <a:cubicBezTo>
                  <a:pt x="14538" y="10864"/>
                  <a:pt x="14578" y="10843"/>
                  <a:pt x="14610" y="10840"/>
                </a:cubicBezTo>
                <a:cubicBezTo>
                  <a:pt x="14812" y="10820"/>
                  <a:pt x="15027" y="10840"/>
                  <a:pt x="15230" y="10840"/>
                </a:cubicBezTo>
                <a:cubicBezTo>
                  <a:pt x="15231" y="10840"/>
                  <a:pt x="15271" y="10818"/>
                  <a:pt x="15304" y="10815"/>
                </a:cubicBezTo>
                <a:cubicBezTo>
                  <a:pt x="15424" y="10804"/>
                  <a:pt x="15548" y="10830"/>
                  <a:pt x="15652" y="10840"/>
                </a:cubicBezTo>
                <a:cubicBezTo>
                  <a:pt x="15749" y="10849"/>
                  <a:pt x="15851" y="10840"/>
                  <a:pt x="15949" y="10840"/>
                </a:cubicBezTo>
              </a:path>
            </a:pathLst>
          </a:custGeom>
          <a:noFill/>
          <a:ln cap="sq" w="228600">
            <a:solidFill>
              <a:srgbClr val="00ff00">
                <a:alpha val="33000"/>
              </a:srgbClr>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884160" y="2500200"/>
            <a:ext cx="1741680" cy="1800"/>
          </a:xfrm>
          <a:custGeom>
            <a:avLst/>
            <a:gdLst/>
            <a:ahLst/>
            <a:rect l="l" t="t" r="r" b="b"/>
            <a:pathLst>
              <a:path w="4838" h="1">
                <a:moveTo>
                  <a:pt x="2456" y="6945"/>
                </a:moveTo>
                <a:cubicBezTo>
                  <a:pt x="4068" y="6945"/>
                  <a:pt x="5681" y="6945"/>
                  <a:pt x="7293" y="6945"/>
                </a:cubicBezTo>
              </a:path>
            </a:pathLst>
          </a:custGeom>
          <a:noFill/>
          <a:ln cap="sq" w="228600">
            <a:solidFill>
              <a:srgbClr val="ff00ff">
                <a:alpha val="33000"/>
              </a:srgbClr>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33" name=""/>
          <p:cNvSpPr/>
          <p:nvPr/>
        </p:nvSpPr>
        <p:spPr>
          <a:xfrm>
            <a:off x="6518160" y="4456080"/>
            <a:ext cx="223920" cy="1800"/>
          </a:xfrm>
          <a:custGeom>
            <a:avLst/>
            <a:gdLst/>
            <a:ahLst/>
            <a:rect l="l" t="t" r="r" b="b"/>
            <a:pathLst>
              <a:path w="622" h="1">
                <a:moveTo>
                  <a:pt x="18107" y="12378"/>
                </a:moveTo>
                <a:cubicBezTo>
                  <a:pt x="18314" y="12378"/>
                  <a:pt x="18521" y="12378"/>
                  <a:pt x="18728" y="12378"/>
                </a:cubicBezTo>
              </a:path>
            </a:pathLst>
          </a:custGeom>
          <a:noFill/>
          <a:ln cap="sq" w="228600">
            <a:solidFill>
              <a:srgbClr val="ff00ff">
                <a:alpha val="33000"/>
              </a:srgbClr>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34" name=""/>
          <p:cNvSpPr/>
          <p:nvPr/>
        </p:nvSpPr>
        <p:spPr>
          <a:xfrm>
            <a:off x="4464000" y="2259000"/>
            <a:ext cx="438120" cy="1440"/>
          </a:xfrm>
          <a:custGeom>
            <a:avLst/>
            <a:gdLst/>
            <a:ahLst/>
            <a:rect l="l" t="t" r="r" b="b"/>
            <a:pathLst>
              <a:path w="1217" h="1">
                <a:moveTo>
                  <a:pt x="12402" y="6276"/>
                </a:moveTo>
                <a:cubicBezTo>
                  <a:pt x="12807" y="6276"/>
                  <a:pt x="13213" y="6276"/>
                  <a:pt x="13618" y="6276"/>
                </a:cubicBezTo>
              </a:path>
            </a:pathLst>
          </a:custGeom>
          <a:noFill/>
          <a:ln cap="sq" w="228600">
            <a:solidFill>
              <a:srgbClr val="3366ff">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5" name=""/>
          <p:cNvSpPr/>
          <p:nvPr/>
        </p:nvSpPr>
        <p:spPr>
          <a:xfrm>
            <a:off x="5037120" y="2259000"/>
            <a:ext cx="2436840" cy="1440"/>
          </a:xfrm>
          <a:custGeom>
            <a:avLst/>
            <a:gdLst/>
            <a:ahLst/>
            <a:rect l="l" t="t" r="r" b="b"/>
            <a:pathLst>
              <a:path w="6773" h="1">
                <a:moveTo>
                  <a:pt x="13990" y="6276"/>
                </a:moveTo>
                <a:cubicBezTo>
                  <a:pt x="16247" y="6276"/>
                  <a:pt x="18505" y="6276"/>
                  <a:pt x="20762" y="6276"/>
                </a:cubicBezTo>
              </a:path>
            </a:pathLst>
          </a:custGeom>
          <a:noFill/>
          <a:ln cap="sq" w="228600">
            <a:solidFill>
              <a:srgbClr val="9933ff">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6" name=""/>
          <p:cNvSpPr/>
          <p:nvPr/>
        </p:nvSpPr>
        <p:spPr>
          <a:xfrm>
            <a:off x="5884920" y="4152960"/>
            <a:ext cx="598320" cy="17280"/>
          </a:xfrm>
          <a:custGeom>
            <a:avLst/>
            <a:gdLst/>
            <a:ahLst/>
            <a:rect l="l" t="t" r="r" b="b"/>
            <a:pathLst>
              <a:path w="1663" h="51">
                <a:moveTo>
                  <a:pt x="16346" y="11584"/>
                </a:moveTo>
                <a:cubicBezTo>
                  <a:pt x="16523" y="11584"/>
                  <a:pt x="16699" y="11587"/>
                  <a:pt x="16867" y="11559"/>
                </a:cubicBezTo>
                <a:cubicBezTo>
                  <a:pt x="17061" y="11526"/>
                  <a:pt x="17279" y="11571"/>
                  <a:pt x="17462" y="11534"/>
                </a:cubicBezTo>
                <a:cubicBezTo>
                  <a:pt x="17629" y="11500"/>
                  <a:pt x="17837" y="11534"/>
                  <a:pt x="18008" y="11534"/>
                </a:cubicBezTo>
              </a:path>
            </a:pathLst>
          </a:custGeom>
          <a:noFill/>
          <a:ln cap="sq" w="228600">
            <a:solidFill>
              <a:srgbClr val="3366ff">
                <a:alpha val="33000"/>
              </a:srgbClr>
            </a:solidFill>
            <a:roun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37" name=""/>
          <p:cNvSpPr/>
          <p:nvPr/>
        </p:nvSpPr>
        <p:spPr>
          <a:xfrm>
            <a:off x="5616720" y="4357800"/>
            <a:ext cx="777600" cy="9360"/>
          </a:xfrm>
          <a:custGeom>
            <a:avLst/>
            <a:gdLst/>
            <a:ahLst/>
            <a:rect l="l" t="t" r="r" b="b"/>
            <a:pathLst>
              <a:path w="2159" h="25">
                <a:moveTo>
                  <a:pt x="15602" y="12105"/>
                </a:moveTo>
                <a:cubicBezTo>
                  <a:pt x="16213" y="12105"/>
                  <a:pt x="16862" y="12053"/>
                  <a:pt x="17462" y="12129"/>
                </a:cubicBezTo>
                <a:cubicBezTo>
                  <a:pt x="17558" y="12141"/>
                  <a:pt x="17663" y="12129"/>
                  <a:pt x="17760" y="12129"/>
                </a:cubicBezTo>
              </a:path>
            </a:pathLst>
          </a:custGeom>
          <a:noFill/>
          <a:ln cap="sq" w="228600">
            <a:solidFill>
              <a:srgbClr val="3366ff">
                <a:alpha val="33000"/>
              </a:srgbClr>
            </a:solidFill>
            <a:round/>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38" name=""/>
          <p:cNvSpPr/>
          <p:nvPr/>
        </p:nvSpPr>
        <p:spPr>
          <a:xfrm>
            <a:off x="5697360" y="4527720"/>
            <a:ext cx="768600" cy="44280"/>
          </a:xfrm>
          <a:custGeom>
            <a:avLst/>
            <a:gdLst/>
            <a:ahLst/>
            <a:rect l="l" t="t" r="r" b="b"/>
            <a:pathLst>
              <a:path w="2135" h="125">
                <a:moveTo>
                  <a:pt x="15825" y="12576"/>
                </a:moveTo>
                <a:cubicBezTo>
                  <a:pt x="15951" y="12576"/>
                  <a:pt x="16076" y="12565"/>
                  <a:pt x="16197" y="12601"/>
                </a:cubicBezTo>
                <a:cubicBezTo>
                  <a:pt x="16295" y="12630"/>
                  <a:pt x="16374" y="12631"/>
                  <a:pt x="16470" y="12650"/>
                </a:cubicBezTo>
                <a:cubicBezTo>
                  <a:pt x="16558" y="12667"/>
                  <a:pt x="16603" y="12700"/>
                  <a:pt x="16694" y="12700"/>
                </a:cubicBezTo>
                <a:cubicBezTo>
                  <a:pt x="17116" y="12700"/>
                  <a:pt x="17537" y="12700"/>
                  <a:pt x="17959" y="12700"/>
                </a:cubicBezTo>
              </a:path>
            </a:pathLst>
          </a:custGeom>
          <a:noFill/>
          <a:ln cap="sq" w="228600">
            <a:solidFill>
              <a:srgbClr val="3366ff">
                <a:alpha val="33000"/>
              </a:srgbClr>
            </a:solidFill>
            <a:round/>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39" name=""/>
          <p:cNvSpPr/>
          <p:nvPr/>
        </p:nvSpPr>
        <p:spPr>
          <a:xfrm>
            <a:off x="5670720" y="4589640"/>
            <a:ext cx="250560" cy="53640"/>
          </a:xfrm>
          <a:custGeom>
            <a:avLst/>
            <a:gdLst/>
            <a:ahLst/>
            <a:rect l="l" t="t" r="r" b="b"/>
            <a:pathLst>
              <a:path w="696" h="149">
                <a:moveTo>
                  <a:pt x="15751" y="12750"/>
                </a:moveTo>
                <a:cubicBezTo>
                  <a:pt x="15764" y="12786"/>
                  <a:pt x="15781" y="12774"/>
                  <a:pt x="15825" y="12774"/>
                </a:cubicBezTo>
                <a:cubicBezTo>
                  <a:pt x="15885" y="12774"/>
                  <a:pt x="15929" y="12792"/>
                  <a:pt x="15974" y="12799"/>
                </a:cubicBezTo>
                <a:cubicBezTo>
                  <a:pt x="16047" y="12811"/>
                  <a:pt x="16126" y="12818"/>
                  <a:pt x="16197" y="12824"/>
                </a:cubicBezTo>
                <a:cubicBezTo>
                  <a:pt x="16279" y="12830"/>
                  <a:pt x="16364" y="12824"/>
                  <a:pt x="16446" y="12824"/>
                </a:cubicBezTo>
                <a:cubicBezTo>
                  <a:pt x="16361" y="12841"/>
                  <a:pt x="16302" y="12859"/>
                  <a:pt x="16222" y="12898"/>
                </a:cubicBezTo>
              </a:path>
            </a:pathLst>
          </a:custGeom>
          <a:noFill/>
          <a:ln cap="sq" w="228600">
            <a:solidFill>
              <a:srgbClr val="3366ff">
                <a:alpha val="33000"/>
              </a:srgbClr>
            </a:solidFill>
            <a:round/>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40" name=""/>
          <p:cNvSpPr/>
          <p:nvPr/>
        </p:nvSpPr>
        <p:spPr>
          <a:xfrm>
            <a:off x="5742000" y="4724280"/>
            <a:ext cx="133200" cy="7920"/>
          </a:xfrm>
          <a:custGeom>
            <a:avLst/>
            <a:gdLst/>
            <a:ahLst/>
            <a:rect l="l" t="t" r="r" b="b"/>
            <a:pathLst>
              <a:path w="373" h="25">
                <a:moveTo>
                  <a:pt x="15949" y="13122"/>
                </a:moveTo>
                <a:cubicBezTo>
                  <a:pt x="16030" y="13122"/>
                  <a:pt x="16096" y="13129"/>
                  <a:pt x="16173" y="13146"/>
                </a:cubicBezTo>
                <a:cubicBezTo>
                  <a:pt x="16218" y="13156"/>
                  <a:pt x="16274" y="13146"/>
                  <a:pt x="16321" y="13146"/>
                </a:cubicBezTo>
              </a:path>
            </a:pathLst>
          </a:custGeom>
          <a:noFill/>
          <a:ln cap="sq" w="228600">
            <a:solidFill>
              <a:srgbClr val="3366ff">
                <a:alpha val="33000"/>
              </a:srgbClr>
            </a:solidFill>
            <a:round/>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41" name=""/>
          <p:cNvSpPr/>
          <p:nvPr/>
        </p:nvSpPr>
        <p:spPr>
          <a:xfrm>
            <a:off x="5823000" y="4795920"/>
            <a:ext cx="34920" cy="7920"/>
          </a:xfrm>
          <a:custGeom>
            <a:avLst/>
            <a:gdLst/>
            <a:ahLst/>
            <a:rect l="l" t="t" r="r" b="b"/>
            <a:pathLst>
              <a:path w="100" h="26">
                <a:moveTo>
                  <a:pt x="16173" y="13320"/>
                </a:moveTo>
                <a:cubicBezTo>
                  <a:pt x="16173" y="13328"/>
                  <a:pt x="16173" y="13337"/>
                  <a:pt x="16173" y="13345"/>
                </a:cubicBezTo>
                <a:cubicBezTo>
                  <a:pt x="16206" y="13345"/>
                  <a:pt x="16239" y="13345"/>
                  <a:pt x="16272" y="13345"/>
                </a:cubicBezTo>
              </a:path>
            </a:pathLst>
          </a:custGeom>
          <a:noFill/>
          <a:ln cap="sq" w="228600">
            <a:solidFill>
              <a:srgbClr val="3366ff">
                <a:alpha val="33000"/>
              </a:srgbClr>
            </a:solidFill>
            <a:round/>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42" name=""/>
          <p:cNvSpPr/>
          <p:nvPr/>
        </p:nvSpPr>
        <p:spPr>
          <a:xfrm>
            <a:off x="6242040" y="4653000"/>
            <a:ext cx="303120" cy="27000"/>
          </a:xfrm>
          <a:custGeom>
            <a:avLst/>
            <a:gdLst/>
            <a:ahLst/>
            <a:rect l="l" t="t" r="r" b="b"/>
            <a:pathLst>
              <a:path w="845" h="76">
                <a:moveTo>
                  <a:pt x="17338" y="12923"/>
                </a:moveTo>
                <a:cubicBezTo>
                  <a:pt x="17407" y="12923"/>
                  <a:pt x="17447" y="12932"/>
                  <a:pt x="17512" y="12948"/>
                </a:cubicBezTo>
                <a:cubicBezTo>
                  <a:pt x="17551" y="12958"/>
                  <a:pt x="17600" y="12970"/>
                  <a:pt x="17636" y="12973"/>
                </a:cubicBezTo>
                <a:cubicBezTo>
                  <a:pt x="17800" y="12985"/>
                  <a:pt x="17968" y="12973"/>
                  <a:pt x="18132" y="12973"/>
                </a:cubicBezTo>
                <a:cubicBezTo>
                  <a:pt x="18144" y="13008"/>
                  <a:pt x="18139" y="12998"/>
                  <a:pt x="18182" y="12998"/>
                </a:cubicBezTo>
              </a:path>
            </a:pathLst>
          </a:custGeom>
          <a:noFill/>
          <a:ln cap="sq" w="228600">
            <a:solidFill>
              <a:srgbClr val="3366ff">
                <a:alpha val="33000"/>
              </a:srgbClr>
            </a:solidFill>
            <a:roun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43" name=""/>
          <p:cNvSpPr/>
          <p:nvPr/>
        </p:nvSpPr>
        <p:spPr>
          <a:xfrm>
            <a:off x="6323040" y="4697280"/>
            <a:ext cx="169920" cy="54000"/>
          </a:xfrm>
          <a:custGeom>
            <a:avLst/>
            <a:gdLst/>
            <a:ahLst/>
            <a:rect l="l" t="t" r="r" b="b"/>
            <a:pathLst>
              <a:path w="472" h="150">
                <a:moveTo>
                  <a:pt x="17562" y="13047"/>
                </a:moveTo>
                <a:cubicBezTo>
                  <a:pt x="17622" y="13047"/>
                  <a:pt x="17661" y="13057"/>
                  <a:pt x="17711" y="13072"/>
                </a:cubicBezTo>
                <a:cubicBezTo>
                  <a:pt x="17753" y="13085"/>
                  <a:pt x="17796" y="13084"/>
                  <a:pt x="17835" y="13097"/>
                </a:cubicBezTo>
                <a:cubicBezTo>
                  <a:pt x="17859" y="13097"/>
                  <a:pt x="17868" y="13097"/>
                  <a:pt x="17884" y="13097"/>
                </a:cubicBezTo>
                <a:cubicBezTo>
                  <a:pt x="17897" y="13136"/>
                  <a:pt x="17896" y="13107"/>
                  <a:pt x="17909" y="13146"/>
                </a:cubicBezTo>
                <a:cubicBezTo>
                  <a:pt x="17967" y="13154"/>
                  <a:pt x="17988" y="13162"/>
                  <a:pt x="18033" y="13196"/>
                </a:cubicBezTo>
              </a:path>
            </a:pathLst>
          </a:custGeom>
          <a:noFill/>
          <a:ln cap="sq" w="228600">
            <a:solidFill>
              <a:srgbClr val="3366ff">
                <a:alpha val="33000"/>
              </a:srgbClr>
            </a:solidFill>
            <a:round/>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44" name=""/>
          <p:cNvSpPr/>
          <p:nvPr/>
        </p:nvSpPr>
        <p:spPr>
          <a:xfrm>
            <a:off x="6357960" y="4187880"/>
            <a:ext cx="312840" cy="19080"/>
          </a:xfrm>
          <a:custGeom>
            <a:avLst/>
            <a:gdLst/>
            <a:ahLst/>
            <a:rect l="l" t="t" r="r" b="b"/>
            <a:pathLst>
              <a:path w="869" h="51">
                <a:moveTo>
                  <a:pt x="17661" y="11633"/>
                </a:moveTo>
                <a:cubicBezTo>
                  <a:pt x="17895" y="11633"/>
                  <a:pt x="18190" y="11593"/>
                  <a:pt x="18405" y="11658"/>
                </a:cubicBezTo>
                <a:cubicBezTo>
                  <a:pt x="18437" y="11668"/>
                  <a:pt x="18473" y="11680"/>
                  <a:pt x="18504" y="11683"/>
                </a:cubicBezTo>
                <a:cubicBezTo>
                  <a:pt x="18512" y="11683"/>
                  <a:pt x="18521" y="11683"/>
                  <a:pt x="18529" y="11683"/>
                </a:cubicBezTo>
              </a:path>
            </a:pathLst>
          </a:custGeom>
          <a:noFill/>
          <a:ln cap="sq" w="228600">
            <a:solidFill>
              <a:srgbClr val="3366ff">
                <a:alpha val="33000"/>
              </a:srgbClr>
            </a:solidFill>
            <a:round/>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45" name=""/>
          <p:cNvSpPr/>
          <p:nvPr/>
        </p:nvSpPr>
        <p:spPr>
          <a:xfrm>
            <a:off x="5313240" y="4375080"/>
            <a:ext cx="509760" cy="81000"/>
          </a:xfrm>
          <a:custGeom>
            <a:avLst/>
            <a:gdLst/>
            <a:ahLst/>
            <a:rect l="l" t="t" r="r" b="b"/>
            <a:pathLst>
              <a:path w="1415" h="225">
                <a:moveTo>
                  <a:pt x="14759" y="12154"/>
                </a:moveTo>
                <a:cubicBezTo>
                  <a:pt x="14849" y="12154"/>
                  <a:pt x="14979" y="12131"/>
                  <a:pt x="15056" y="12179"/>
                </a:cubicBezTo>
                <a:cubicBezTo>
                  <a:pt x="15103" y="12208"/>
                  <a:pt x="15128" y="12187"/>
                  <a:pt x="15180" y="12204"/>
                </a:cubicBezTo>
                <a:cubicBezTo>
                  <a:pt x="15226" y="12219"/>
                  <a:pt x="15249" y="12251"/>
                  <a:pt x="15304" y="12254"/>
                </a:cubicBezTo>
                <a:cubicBezTo>
                  <a:pt x="15463" y="12263"/>
                  <a:pt x="15630" y="12256"/>
                  <a:pt x="15776" y="12278"/>
                </a:cubicBezTo>
                <a:cubicBezTo>
                  <a:pt x="15861" y="12291"/>
                  <a:pt x="15918" y="12310"/>
                  <a:pt x="15999" y="12328"/>
                </a:cubicBezTo>
                <a:cubicBezTo>
                  <a:pt x="16051" y="12340"/>
                  <a:pt x="16119" y="12328"/>
                  <a:pt x="16173" y="12328"/>
                </a:cubicBezTo>
                <a:cubicBezTo>
                  <a:pt x="16116" y="12328"/>
                  <a:pt x="16095" y="12333"/>
                  <a:pt x="16073" y="12378"/>
                </a:cubicBezTo>
              </a:path>
            </a:pathLst>
          </a:custGeom>
          <a:noFill/>
          <a:ln cap="sq" w="228600">
            <a:solidFill>
              <a:srgbClr val="3366ff">
                <a:alpha val="33000"/>
              </a:srgbClr>
            </a:solidFill>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46" name=""/>
          <p:cNvSpPr/>
          <p:nvPr/>
        </p:nvSpPr>
        <p:spPr>
          <a:xfrm>
            <a:off x="5348160" y="4241880"/>
            <a:ext cx="696960" cy="544320"/>
          </a:xfrm>
          <a:custGeom>
            <a:avLst/>
            <a:gdLst/>
            <a:ahLst/>
            <a:rect l="l" t="t" r="r" b="b"/>
            <a:pathLst>
              <a:path w="1936" h="1514">
                <a:moveTo>
                  <a:pt x="15528" y="12303"/>
                </a:moveTo>
                <a:cubicBezTo>
                  <a:pt x="15590" y="12309"/>
                  <a:pt x="15624" y="12316"/>
                  <a:pt x="15652" y="12328"/>
                </a:cubicBezTo>
                <a:cubicBezTo>
                  <a:pt x="15703" y="12350"/>
                  <a:pt x="15707" y="12345"/>
                  <a:pt x="15751" y="12402"/>
                </a:cubicBezTo>
                <a:cubicBezTo>
                  <a:pt x="15788" y="12451"/>
                  <a:pt x="15744" y="12418"/>
                  <a:pt x="15801" y="12452"/>
                </a:cubicBezTo>
                <a:cubicBezTo>
                  <a:pt x="15828" y="12468"/>
                  <a:pt x="15861" y="12486"/>
                  <a:pt x="15875" y="12502"/>
                </a:cubicBezTo>
                <a:cubicBezTo>
                  <a:pt x="15896" y="12526"/>
                  <a:pt x="15895" y="12568"/>
                  <a:pt x="15900" y="12601"/>
                </a:cubicBezTo>
                <a:cubicBezTo>
                  <a:pt x="15916" y="12704"/>
                  <a:pt x="15896" y="12828"/>
                  <a:pt x="15925" y="12898"/>
                </a:cubicBezTo>
                <a:cubicBezTo>
                  <a:pt x="15943" y="12942"/>
                  <a:pt x="15956" y="12948"/>
                  <a:pt x="15999" y="12973"/>
                </a:cubicBezTo>
                <a:cubicBezTo>
                  <a:pt x="16047" y="13001"/>
                  <a:pt x="16058" y="12967"/>
                  <a:pt x="16073" y="13022"/>
                </a:cubicBezTo>
                <a:cubicBezTo>
                  <a:pt x="16086" y="13071"/>
                  <a:pt x="16079" y="13101"/>
                  <a:pt x="16098" y="13146"/>
                </a:cubicBezTo>
                <a:cubicBezTo>
                  <a:pt x="16111" y="13177"/>
                  <a:pt x="16137" y="13165"/>
                  <a:pt x="16148" y="13196"/>
                </a:cubicBezTo>
                <a:cubicBezTo>
                  <a:pt x="16162" y="13237"/>
                  <a:pt x="16153" y="13256"/>
                  <a:pt x="16173" y="13295"/>
                </a:cubicBezTo>
                <a:cubicBezTo>
                  <a:pt x="16197" y="13295"/>
                  <a:pt x="16205" y="13295"/>
                  <a:pt x="16173" y="13295"/>
                </a:cubicBezTo>
                <a:cubicBezTo>
                  <a:pt x="16129" y="13274"/>
                  <a:pt x="16095" y="13250"/>
                  <a:pt x="16073" y="13221"/>
                </a:cubicBezTo>
                <a:cubicBezTo>
                  <a:pt x="16052" y="13193"/>
                  <a:pt x="16021" y="13173"/>
                  <a:pt x="15999" y="13146"/>
                </a:cubicBezTo>
                <a:cubicBezTo>
                  <a:pt x="15969" y="13109"/>
                  <a:pt x="15964" y="13103"/>
                  <a:pt x="15949" y="13072"/>
                </a:cubicBezTo>
                <a:cubicBezTo>
                  <a:pt x="15932" y="13037"/>
                  <a:pt x="15916" y="13018"/>
                  <a:pt x="15900" y="12998"/>
                </a:cubicBezTo>
                <a:cubicBezTo>
                  <a:pt x="15891" y="12987"/>
                  <a:pt x="15851" y="12943"/>
                  <a:pt x="15825" y="12923"/>
                </a:cubicBezTo>
                <a:cubicBezTo>
                  <a:pt x="15802" y="12905"/>
                  <a:pt x="15780" y="12907"/>
                  <a:pt x="15751" y="12874"/>
                </a:cubicBezTo>
                <a:cubicBezTo>
                  <a:pt x="15736" y="12856"/>
                  <a:pt x="15683" y="12776"/>
                  <a:pt x="15677" y="12750"/>
                </a:cubicBezTo>
                <a:cubicBezTo>
                  <a:pt x="15670" y="12717"/>
                  <a:pt x="15658" y="12708"/>
                  <a:pt x="15652" y="12675"/>
                </a:cubicBezTo>
                <a:cubicBezTo>
                  <a:pt x="15643" y="12621"/>
                  <a:pt x="15638" y="12577"/>
                  <a:pt x="15627" y="12551"/>
                </a:cubicBezTo>
                <a:cubicBezTo>
                  <a:pt x="15612" y="12515"/>
                  <a:pt x="15627" y="12500"/>
                  <a:pt x="15602" y="12477"/>
                </a:cubicBezTo>
                <a:cubicBezTo>
                  <a:pt x="15582" y="12458"/>
                  <a:pt x="15554" y="12422"/>
                  <a:pt x="15528" y="12402"/>
                </a:cubicBezTo>
                <a:cubicBezTo>
                  <a:pt x="15508" y="12386"/>
                  <a:pt x="15495" y="12367"/>
                  <a:pt x="15478" y="12353"/>
                </a:cubicBezTo>
                <a:cubicBezTo>
                  <a:pt x="15451" y="12331"/>
                  <a:pt x="15440" y="12346"/>
                  <a:pt x="15404" y="12328"/>
                </a:cubicBezTo>
                <a:cubicBezTo>
                  <a:pt x="15395" y="12324"/>
                  <a:pt x="15357" y="12289"/>
                  <a:pt x="15329" y="12278"/>
                </a:cubicBezTo>
                <a:cubicBezTo>
                  <a:pt x="15285" y="12261"/>
                  <a:pt x="15256" y="12258"/>
                  <a:pt x="15205" y="12254"/>
                </a:cubicBezTo>
                <a:cubicBezTo>
                  <a:pt x="15154" y="12251"/>
                  <a:pt x="15119" y="12273"/>
                  <a:pt x="15081" y="12278"/>
                </a:cubicBezTo>
                <a:cubicBezTo>
                  <a:pt x="15009" y="12287"/>
                  <a:pt x="14931" y="12278"/>
                  <a:pt x="14858" y="12278"/>
                </a:cubicBezTo>
                <a:cubicBezTo>
                  <a:pt x="14886" y="12234"/>
                  <a:pt x="14850" y="12240"/>
                  <a:pt x="14908" y="12204"/>
                </a:cubicBezTo>
                <a:cubicBezTo>
                  <a:pt x="14947" y="12180"/>
                  <a:pt x="14990" y="12169"/>
                  <a:pt x="15032" y="12154"/>
                </a:cubicBezTo>
                <a:cubicBezTo>
                  <a:pt x="15071" y="12140"/>
                  <a:pt x="15117" y="12141"/>
                  <a:pt x="15156" y="12129"/>
                </a:cubicBezTo>
                <a:cubicBezTo>
                  <a:pt x="15191" y="12118"/>
                  <a:pt x="15221" y="12116"/>
                  <a:pt x="15255" y="12105"/>
                </a:cubicBezTo>
                <a:cubicBezTo>
                  <a:pt x="15297" y="12091"/>
                  <a:pt x="15337" y="12064"/>
                  <a:pt x="15354" y="12055"/>
                </a:cubicBezTo>
                <a:cubicBezTo>
                  <a:pt x="15377" y="12042"/>
                  <a:pt x="15412" y="12033"/>
                  <a:pt x="15429" y="12030"/>
                </a:cubicBezTo>
                <a:cubicBezTo>
                  <a:pt x="15600" y="12005"/>
                  <a:pt x="16092" y="11966"/>
                  <a:pt x="16222" y="12055"/>
                </a:cubicBezTo>
                <a:cubicBezTo>
                  <a:pt x="16267" y="12086"/>
                  <a:pt x="16296" y="12133"/>
                  <a:pt x="16321" y="12179"/>
                </a:cubicBezTo>
                <a:cubicBezTo>
                  <a:pt x="16344" y="12202"/>
                  <a:pt x="16352" y="12206"/>
                  <a:pt x="16346" y="12229"/>
                </a:cubicBezTo>
                <a:cubicBezTo>
                  <a:pt x="16294" y="12245"/>
                  <a:pt x="16262" y="12252"/>
                  <a:pt x="16197" y="12254"/>
                </a:cubicBezTo>
                <a:cubicBezTo>
                  <a:pt x="16139" y="12256"/>
                  <a:pt x="16021" y="12273"/>
                  <a:pt x="15974" y="12229"/>
                </a:cubicBezTo>
                <a:cubicBezTo>
                  <a:pt x="15946" y="12203"/>
                  <a:pt x="15932" y="12180"/>
                  <a:pt x="15925" y="12154"/>
                </a:cubicBezTo>
                <a:cubicBezTo>
                  <a:pt x="15915" y="12116"/>
                  <a:pt x="15924" y="12082"/>
                  <a:pt x="15949" y="12055"/>
                </a:cubicBezTo>
                <a:cubicBezTo>
                  <a:pt x="15996" y="12004"/>
                  <a:pt x="16028" y="12053"/>
                  <a:pt x="16073" y="12030"/>
                </a:cubicBezTo>
                <a:cubicBezTo>
                  <a:pt x="16082" y="12025"/>
                  <a:pt x="16150" y="11974"/>
                  <a:pt x="16173" y="11956"/>
                </a:cubicBezTo>
                <a:cubicBezTo>
                  <a:pt x="16193" y="11941"/>
                  <a:pt x="16219" y="11924"/>
                  <a:pt x="16247" y="11906"/>
                </a:cubicBezTo>
                <a:cubicBezTo>
                  <a:pt x="16257" y="11900"/>
                  <a:pt x="16310" y="11840"/>
                  <a:pt x="16321" y="11832"/>
                </a:cubicBezTo>
                <a:cubicBezTo>
                  <a:pt x="16351" y="11812"/>
                  <a:pt x="16370" y="11819"/>
                  <a:pt x="16396" y="11807"/>
                </a:cubicBezTo>
                <a:cubicBezTo>
                  <a:pt x="16373" y="11800"/>
                  <a:pt x="16305" y="11784"/>
                  <a:pt x="16247" y="11782"/>
                </a:cubicBezTo>
                <a:cubicBezTo>
                  <a:pt x="16171" y="11779"/>
                  <a:pt x="16086" y="11809"/>
                  <a:pt x="16024" y="11857"/>
                </a:cubicBezTo>
                <a:cubicBezTo>
                  <a:pt x="15963" y="11904"/>
                  <a:pt x="15913" y="11965"/>
                  <a:pt x="15875" y="12030"/>
                </a:cubicBezTo>
                <a:cubicBezTo>
                  <a:pt x="15863" y="12050"/>
                  <a:pt x="15828" y="12129"/>
                  <a:pt x="15850" y="12154"/>
                </a:cubicBezTo>
                <a:cubicBezTo>
                  <a:pt x="15897" y="12207"/>
                  <a:pt x="16027" y="12184"/>
                  <a:pt x="16098" y="12204"/>
                </a:cubicBezTo>
                <a:cubicBezTo>
                  <a:pt x="16198" y="12233"/>
                  <a:pt x="16267" y="12251"/>
                  <a:pt x="16371" y="12254"/>
                </a:cubicBezTo>
                <a:cubicBezTo>
                  <a:pt x="16448" y="12256"/>
                  <a:pt x="16514" y="12268"/>
                  <a:pt x="16570" y="12328"/>
                </a:cubicBezTo>
                <a:cubicBezTo>
                  <a:pt x="16615" y="12377"/>
                  <a:pt x="16645" y="12457"/>
                  <a:pt x="16694" y="12502"/>
                </a:cubicBezTo>
                <a:cubicBezTo>
                  <a:pt x="16745" y="12550"/>
                  <a:pt x="16742" y="12558"/>
                  <a:pt x="16768" y="12626"/>
                </a:cubicBezTo>
                <a:cubicBezTo>
                  <a:pt x="16780" y="12658"/>
                  <a:pt x="16812" y="12706"/>
                  <a:pt x="16793" y="12750"/>
                </a:cubicBezTo>
                <a:cubicBezTo>
                  <a:pt x="16780" y="12781"/>
                  <a:pt x="16665" y="12790"/>
                  <a:pt x="16644" y="12799"/>
                </a:cubicBezTo>
                <a:cubicBezTo>
                  <a:pt x="16584" y="12823"/>
                  <a:pt x="16560" y="12822"/>
                  <a:pt x="16495" y="12824"/>
                </a:cubicBezTo>
                <a:cubicBezTo>
                  <a:pt x="16445" y="12826"/>
                  <a:pt x="16396" y="12824"/>
                  <a:pt x="16346" y="12824"/>
                </a:cubicBezTo>
              </a:path>
            </a:pathLst>
          </a:custGeom>
          <a:noFill/>
          <a:ln cap="sq" w="228600">
            <a:solidFill>
              <a:srgbClr val="3366ff">
                <a:alpha val="33000"/>
              </a:srgbClr>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5796000" y="4714920"/>
            <a:ext cx="169920" cy="1440"/>
          </a:xfrm>
          <a:custGeom>
            <a:avLst/>
            <a:gdLst/>
            <a:ahLst/>
            <a:rect l="l" t="t" r="r" b="b"/>
            <a:pathLst>
              <a:path w="473" h="1">
                <a:moveTo>
                  <a:pt x="16098" y="13097"/>
                </a:moveTo>
                <a:cubicBezTo>
                  <a:pt x="16264" y="13097"/>
                  <a:pt x="16711" y="13097"/>
                  <a:pt x="16545" y="13097"/>
                </a:cubicBezTo>
              </a:path>
            </a:pathLst>
          </a:custGeom>
          <a:noFill/>
          <a:ln cap="sq" w="228600">
            <a:solidFill>
              <a:srgbClr val="3366ff">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48" name=""/>
          <p:cNvSpPr/>
          <p:nvPr/>
        </p:nvSpPr>
        <p:spPr>
          <a:xfrm>
            <a:off x="5875200" y="4749840"/>
            <a:ext cx="1800" cy="28440"/>
          </a:xfrm>
          <a:custGeom>
            <a:avLst/>
            <a:gdLst/>
            <a:ahLst/>
            <a:rect l="l" t="t" r="r" b="b"/>
            <a:pathLst>
              <a:path w="1" h="76">
                <a:moveTo>
                  <a:pt x="16321" y="13196"/>
                </a:moveTo>
                <a:cubicBezTo>
                  <a:pt x="16321" y="13221"/>
                  <a:pt x="16321" y="13246"/>
                  <a:pt x="16321" y="13271"/>
                </a:cubicBezTo>
              </a:path>
            </a:pathLst>
          </a:custGeom>
          <a:noFill/>
          <a:ln cap="sq" w="228600">
            <a:solidFill>
              <a:srgbClr val="3366ff">
                <a:alpha val="33000"/>
              </a:srgbClr>
            </a:solidFill>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49" name=""/>
          <p:cNvSpPr/>
          <p:nvPr/>
        </p:nvSpPr>
        <p:spPr>
          <a:xfrm>
            <a:off x="5875200" y="4803840"/>
            <a:ext cx="19080" cy="19080"/>
          </a:xfrm>
          <a:custGeom>
            <a:avLst/>
            <a:gdLst/>
            <a:ahLst/>
            <a:rect l="l" t="t" r="r" b="b"/>
            <a:pathLst>
              <a:path w="51" h="51">
                <a:moveTo>
                  <a:pt x="16321" y="13345"/>
                </a:moveTo>
                <a:cubicBezTo>
                  <a:pt x="16321" y="13376"/>
                  <a:pt x="16347" y="13387"/>
                  <a:pt x="16371" y="13395"/>
                </a:cubicBezTo>
              </a:path>
            </a:pathLst>
          </a:custGeom>
          <a:noFill/>
          <a:ln cap="sq" w="228600">
            <a:solidFill>
              <a:srgbClr val="3366ff">
                <a:alpha val="33000"/>
              </a:srgbClr>
            </a:solidFill>
            <a:round/>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50" name=""/>
          <p:cNvSpPr/>
          <p:nvPr/>
        </p:nvSpPr>
        <p:spPr>
          <a:xfrm>
            <a:off x="5902200" y="4822920"/>
            <a:ext cx="1800" cy="1440"/>
          </a:xfrm>
          <a:custGeom>
            <a:avLst/>
            <a:gdLst/>
            <a:ahLst/>
            <a:rect l="l" t="t" r="r" b="b"/>
            <a:pathLst>
              <a:path w="1" h="1">
                <a:moveTo>
                  <a:pt x="16396" y="13395"/>
                </a:moveTo>
                <a:lnTo>
                  <a:pt x="16396" y="13395"/>
                </a:lnTo>
              </a:path>
            </a:pathLst>
          </a:custGeom>
          <a:noFill/>
          <a:ln cap="sq" w="228600">
            <a:solidFill>
              <a:srgbClr val="3366ff">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1" name=""/>
          <p:cNvSpPr/>
          <p:nvPr/>
        </p:nvSpPr>
        <p:spPr>
          <a:xfrm>
            <a:off x="5892840" y="4822920"/>
            <a:ext cx="1440" cy="1440"/>
          </a:xfrm>
          <a:custGeom>
            <a:avLst/>
            <a:gdLst/>
            <a:ahLst/>
            <a:rect l="l" t="t" r="r" b="b"/>
            <a:pathLst>
              <a:path w="1" h="1">
                <a:moveTo>
                  <a:pt x="16371" y="13395"/>
                </a:moveTo>
                <a:lnTo>
                  <a:pt x="16371" y="13395"/>
                </a:lnTo>
              </a:path>
            </a:pathLst>
          </a:custGeom>
          <a:noFill/>
          <a:ln cap="sq" w="228600">
            <a:solidFill>
              <a:srgbClr val="3366ff">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2" name=""/>
          <p:cNvSpPr/>
          <p:nvPr/>
        </p:nvSpPr>
        <p:spPr>
          <a:xfrm>
            <a:off x="6153120" y="4456080"/>
            <a:ext cx="1440" cy="1800"/>
          </a:xfrm>
          <a:custGeom>
            <a:avLst/>
            <a:gdLst/>
            <a:ahLst/>
            <a:rect l="l" t="t" r="r" b="b"/>
            <a:pathLst>
              <a:path w="1" h="1">
                <a:moveTo>
                  <a:pt x="17090" y="12378"/>
                </a:moveTo>
                <a:lnTo>
                  <a:pt x="17090" y="12378"/>
                </a:lnTo>
              </a:path>
            </a:pathLst>
          </a:custGeom>
          <a:noFill/>
          <a:ln cap="sq" w="228600">
            <a:solidFill>
              <a:srgbClr val="3366ff">
                <a:alpha val="33000"/>
              </a:srgbClr>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53" name=""/>
          <p:cNvSpPr/>
          <p:nvPr/>
        </p:nvSpPr>
        <p:spPr>
          <a:xfrm>
            <a:off x="6518160" y="4795920"/>
            <a:ext cx="1800" cy="1440"/>
          </a:xfrm>
          <a:custGeom>
            <a:avLst/>
            <a:gdLst/>
            <a:ahLst/>
            <a:rect l="l" t="t" r="r" b="b"/>
            <a:pathLst>
              <a:path w="1" h="1">
                <a:moveTo>
                  <a:pt x="18107" y="13320"/>
                </a:moveTo>
                <a:lnTo>
                  <a:pt x="18107" y="13320"/>
                </a:lnTo>
              </a:path>
            </a:pathLst>
          </a:custGeom>
          <a:noFill/>
          <a:ln cap="sq" w="228600">
            <a:solidFill>
              <a:srgbClr val="3366ff">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4" name=""/>
          <p:cNvSpPr/>
          <p:nvPr/>
        </p:nvSpPr>
        <p:spPr>
          <a:xfrm>
            <a:off x="6572160" y="4795920"/>
            <a:ext cx="1800" cy="1440"/>
          </a:xfrm>
          <a:custGeom>
            <a:avLst/>
            <a:gdLst/>
            <a:ahLst/>
            <a:rect l="l" t="t" r="r" b="b"/>
            <a:pathLst>
              <a:path w="1" h="1">
                <a:moveTo>
                  <a:pt x="18256" y="13320"/>
                </a:moveTo>
                <a:lnTo>
                  <a:pt x="18256" y="13320"/>
                </a:lnTo>
              </a:path>
            </a:pathLst>
          </a:custGeom>
          <a:noFill/>
          <a:ln cap="sq" w="228600">
            <a:solidFill>
              <a:srgbClr val="3366ff">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5" name=""/>
          <p:cNvSpPr/>
          <p:nvPr/>
        </p:nvSpPr>
        <p:spPr>
          <a:xfrm>
            <a:off x="6572160" y="4732200"/>
            <a:ext cx="1800" cy="9720"/>
          </a:xfrm>
          <a:custGeom>
            <a:avLst/>
            <a:gdLst/>
            <a:ahLst/>
            <a:rect l="l" t="t" r="r" b="b"/>
            <a:pathLst>
              <a:path w="1" h="26">
                <a:moveTo>
                  <a:pt x="18256" y="13171"/>
                </a:moveTo>
                <a:cubicBezTo>
                  <a:pt x="18256" y="13163"/>
                  <a:pt x="18256" y="13154"/>
                  <a:pt x="18256" y="13146"/>
                </a:cubicBezTo>
              </a:path>
            </a:pathLst>
          </a:custGeom>
          <a:noFill/>
          <a:ln cap="sq" w="228600">
            <a:solidFill>
              <a:srgbClr val="3366ff">
                <a:alpha val="33000"/>
              </a:srgbClr>
            </a:solidFill>
            <a:round/>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56" name=""/>
          <p:cNvSpPr/>
          <p:nvPr/>
        </p:nvSpPr>
        <p:spPr>
          <a:xfrm>
            <a:off x="6446880" y="4357800"/>
            <a:ext cx="9360" cy="1440"/>
          </a:xfrm>
          <a:custGeom>
            <a:avLst/>
            <a:gdLst/>
            <a:ahLst/>
            <a:rect l="l" t="t" r="r" b="b"/>
            <a:pathLst>
              <a:path w="26" h="1">
                <a:moveTo>
                  <a:pt x="17909" y="12105"/>
                </a:moveTo>
                <a:cubicBezTo>
                  <a:pt x="17917" y="12105"/>
                  <a:pt x="17926" y="12105"/>
                  <a:pt x="17934" y="12105"/>
                </a:cubicBezTo>
              </a:path>
            </a:pathLst>
          </a:custGeom>
          <a:noFill/>
          <a:ln cap="sq" w="228600">
            <a:solidFill>
              <a:srgbClr val="3366ff">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7" name=""/>
          <p:cNvSpPr/>
          <p:nvPr/>
        </p:nvSpPr>
        <p:spPr>
          <a:xfrm>
            <a:off x="6491160" y="4241880"/>
            <a:ext cx="250920" cy="17280"/>
          </a:xfrm>
          <a:custGeom>
            <a:avLst/>
            <a:gdLst/>
            <a:ahLst/>
            <a:rect l="l" t="t" r="r" b="b"/>
            <a:pathLst>
              <a:path w="696" h="51">
                <a:moveTo>
                  <a:pt x="18033" y="11782"/>
                </a:moveTo>
                <a:cubicBezTo>
                  <a:pt x="18058" y="11782"/>
                  <a:pt x="18066" y="11782"/>
                  <a:pt x="18083" y="11782"/>
                </a:cubicBezTo>
                <a:cubicBezTo>
                  <a:pt x="18095" y="11820"/>
                  <a:pt x="18112" y="11807"/>
                  <a:pt x="18157" y="11807"/>
                </a:cubicBezTo>
                <a:cubicBezTo>
                  <a:pt x="18171" y="11849"/>
                  <a:pt x="18205" y="11832"/>
                  <a:pt x="18256" y="11832"/>
                </a:cubicBezTo>
                <a:cubicBezTo>
                  <a:pt x="18413" y="11832"/>
                  <a:pt x="18571" y="11832"/>
                  <a:pt x="18728" y="11832"/>
                </a:cubicBezTo>
              </a:path>
            </a:pathLst>
          </a:custGeom>
          <a:noFill/>
          <a:ln cap="sq" w="228600">
            <a:solidFill>
              <a:srgbClr val="3366ff">
                <a:alpha val="33000"/>
              </a:srgbClr>
            </a:solidFill>
            <a:roun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58" name=""/>
          <p:cNvSpPr/>
          <p:nvPr/>
        </p:nvSpPr>
        <p:spPr>
          <a:xfrm>
            <a:off x="6491160" y="4259160"/>
            <a:ext cx="27000" cy="285840"/>
          </a:xfrm>
          <a:custGeom>
            <a:avLst/>
            <a:gdLst/>
            <a:ahLst/>
            <a:rect l="l" t="t" r="r" b="b"/>
            <a:pathLst>
              <a:path w="75" h="795">
                <a:moveTo>
                  <a:pt x="18107" y="11832"/>
                </a:moveTo>
                <a:cubicBezTo>
                  <a:pt x="18107" y="11840"/>
                  <a:pt x="18107" y="11849"/>
                  <a:pt x="18107" y="11857"/>
                </a:cubicBezTo>
                <a:cubicBezTo>
                  <a:pt x="18068" y="11870"/>
                  <a:pt x="18098" y="11868"/>
                  <a:pt x="18058" y="11881"/>
                </a:cubicBezTo>
                <a:cubicBezTo>
                  <a:pt x="18045" y="11919"/>
                  <a:pt x="18033" y="11902"/>
                  <a:pt x="18033" y="11956"/>
                </a:cubicBezTo>
                <a:cubicBezTo>
                  <a:pt x="18033" y="12019"/>
                  <a:pt x="18040" y="12053"/>
                  <a:pt x="18058" y="12105"/>
                </a:cubicBezTo>
                <a:cubicBezTo>
                  <a:pt x="18058" y="12113"/>
                  <a:pt x="18058" y="12121"/>
                  <a:pt x="18058" y="12129"/>
                </a:cubicBezTo>
                <a:cubicBezTo>
                  <a:pt x="18107" y="12141"/>
                  <a:pt x="18107" y="12154"/>
                  <a:pt x="18107" y="12204"/>
                </a:cubicBezTo>
                <a:cubicBezTo>
                  <a:pt x="18107" y="12319"/>
                  <a:pt x="18148" y="12565"/>
                  <a:pt x="18058" y="12626"/>
                </a:cubicBezTo>
              </a:path>
            </a:pathLst>
          </a:custGeom>
          <a:noFill/>
          <a:ln cap="sq" w="228600">
            <a:solidFill>
              <a:srgbClr val="3366ff">
                <a:alpha val="33000"/>
              </a:srgbClr>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6180120" y="3973680"/>
            <a:ext cx="741240" cy="233280"/>
          </a:xfrm>
          <a:custGeom>
            <a:avLst/>
            <a:gdLst/>
            <a:ahLst/>
            <a:rect l="l" t="t" r="r" b="b"/>
            <a:pathLst>
              <a:path w="2060" h="646">
                <a:moveTo>
                  <a:pt x="17165" y="11385"/>
                </a:moveTo>
                <a:cubicBezTo>
                  <a:pt x="17350" y="11385"/>
                  <a:pt x="17805" y="11466"/>
                  <a:pt x="17959" y="11361"/>
                </a:cubicBezTo>
                <a:cubicBezTo>
                  <a:pt x="18005" y="11329"/>
                  <a:pt x="18031" y="11272"/>
                  <a:pt x="18058" y="11237"/>
                </a:cubicBezTo>
                <a:cubicBezTo>
                  <a:pt x="18077" y="11212"/>
                  <a:pt x="18064" y="11201"/>
                  <a:pt x="18083" y="11162"/>
                </a:cubicBezTo>
                <a:cubicBezTo>
                  <a:pt x="18092" y="11144"/>
                  <a:pt x="18102" y="11103"/>
                  <a:pt x="18132" y="11088"/>
                </a:cubicBezTo>
                <a:cubicBezTo>
                  <a:pt x="18218" y="11046"/>
                  <a:pt x="18529" y="11077"/>
                  <a:pt x="18604" y="11112"/>
                </a:cubicBezTo>
                <a:cubicBezTo>
                  <a:pt x="18633" y="11126"/>
                  <a:pt x="18643" y="11145"/>
                  <a:pt x="18653" y="11187"/>
                </a:cubicBezTo>
                <a:cubicBezTo>
                  <a:pt x="18661" y="11223"/>
                  <a:pt x="18673" y="11283"/>
                  <a:pt x="18678" y="11311"/>
                </a:cubicBezTo>
                <a:cubicBezTo>
                  <a:pt x="18682" y="11336"/>
                  <a:pt x="18683" y="11398"/>
                  <a:pt x="18703" y="11410"/>
                </a:cubicBezTo>
                <a:cubicBezTo>
                  <a:pt x="18753" y="11441"/>
                  <a:pt x="18988" y="11419"/>
                  <a:pt x="19025" y="11385"/>
                </a:cubicBezTo>
                <a:cubicBezTo>
                  <a:pt x="19068" y="11345"/>
                  <a:pt x="19030" y="11329"/>
                  <a:pt x="19050" y="11286"/>
                </a:cubicBezTo>
                <a:cubicBezTo>
                  <a:pt x="19059" y="11266"/>
                  <a:pt x="19072" y="11261"/>
                  <a:pt x="19075" y="11212"/>
                </a:cubicBezTo>
                <a:cubicBezTo>
                  <a:pt x="19078" y="11161"/>
                  <a:pt x="19088" y="11159"/>
                  <a:pt x="19100" y="11137"/>
                </a:cubicBezTo>
                <a:cubicBezTo>
                  <a:pt x="19116" y="11107"/>
                  <a:pt x="19133" y="11057"/>
                  <a:pt x="19174" y="11038"/>
                </a:cubicBezTo>
                <a:cubicBezTo>
                  <a:pt x="19249" y="11003"/>
                  <a:pt x="19172" y="11038"/>
                  <a:pt x="19100" y="11038"/>
                </a:cubicBezTo>
                <a:cubicBezTo>
                  <a:pt x="19013" y="11038"/>
                  <a:pt x="18939" y="11060"/>
                  <a:pt x="18852" y="11063"/>
                </a:cubicBezTo>
                <a:cubicBezTo>
                  <a:pt x="18591" y="11073"/>
                  <a:pt x="18027" y="10956"/>
                  <a:pt x="17810" y="11088"/>
                </a:cubicBezTo>
                <a:cubicBezTo>
                  <a:pt x="17778" y="11107"/>
                  <a:pt x="17776" y="11101"/>
                  <a:pt x="17760" y="11137"/>
                </a:cubicBezTo>
                <a:cubicBezTo>
                  <a:pt x="17760" y="11145"/>
                  <a:pt x="17760" y="11154"/>
                  <a:pt x="17760" y="11162"/>
                </a:cubicBezTo>
                <a:cubicBezTo>
                  <a:pt x="17806" y="11218"/>
                  <a:pt x="17868" y="11220"/>
                  <a:pt x="17909" y="11261"/>
                </a:cubicBezTo>
                <a:cubicBezTo>
                  <a:pt x="17927" y="11279"/>
                  <a:pt x="17979" y="11359"/>
                  <a:pt x="17983" y="11361"/>
                </a:cubicBezTo>
                <a:cubicBezTo>
                  <a:pt x="18031" y="11385"/>
                  <a:pt x="18055" y="11394"/>
                  <a:pt x="18107" y="11410"/>
                </a:cubicBezTo>
                <a:cubicBezTo>
                  <a:pt x="18151" y="11424"/>
                  <a:pt x="18189" y="11471"/>
                  <a:pt x="18231" y="11485"/>
                </a:cubicBezTo>
                <a:cubicBezTo>
                  <a:pt x="18294" y="11506"/>
                  <a:pt x="18345" y="11530"/>
                  <a:pt x="18405" y="11559"/>
                </a:cubicBezTo>
                <a:cubicBezTo>
                  <a:pt x="18446" y="11578"/>
                  <a:pt x="18522" y="11611"/>
                  <a:pt x="18554" y="11633"/>
                </a:cubicBezTo>
                <a:cubicBezTo>
                  <a:pt x="18616" y="11675"/>
                  <a:pt x="18598" y="11679"/>
                  <a:pt x="18678" y="11683"/>
                </a:cubicBezTo>
                <a:cubicBezTo>
                  <a:pt x="18834" y="11692"/>
                  <a:pt x="18993" y="11683"/>
                  <a:pt x="19149" y="11683"/>
                </a:cubicBezTo>
                <a:cubicBezTo>
                  <a:pt x="19132" y="11622"/>
                  <a:pt x="19148" y="11654"/>
                  <a:pt x="19100" y="11609"/>
                </a:cubicBezTo>
                <a:cubicBezTo>
                  <a:pt x="19065" y="11576"/>
                  <a:pt x="19020" y="11526"/>
                  <a:pt x="18976" y="11509"/>
                </a:cubicBezTo>
                <a:cubicBezTo>
                  <a:pt x="18951" y="11509"/>
                  <a:pt x="18943" y="11509"/>
                  <a:pt x="18926" y="11509"/>
                </a:cubicBezTo>
              </a:path>
            </a:pathLst>
          </a:custGeom>
          <a:noFill/>
          <a:ln cap="sq" w="228600">
            <a:solidFill>
              <a:srgbClr val="3366ff">
                <a:alpha val="33000"/>
              </a:srgbClr>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6510240" y="3963960"/>
            <a:ext cx="7920" cy="9720"/>
          </a:xfrm>
          <a:custGeom>
            <a:avLst/>
            <a:gdLst/>
            <a:ahLst/>
            <a:rect l="l" t="t" r="r" b="b"/>
            <a:pathLst>
              <a:path w="25" h="26">
                <a:moveTo>
                  <a:pt x="18083" y="11013"/>
                </a:moveTo>
                <a:cubicBezTo>
                  <a:pt x="18091" y="11021"/>
                  <a:pt x="18099" y="11030"/>
                  <a:pt x="18107" y="11038"/>
                </a:cubicBezTo>
              </a:path>
            </a:pathLst>
          </a:custGeom>
          <a:noFill/>
          <a:ln cap="sq" w="228600">
            <a:solidFill>
              <a:srgbClr val="3366ff">
                <a:alpha val="33000"/>
              </a:srgbClr>
            </a:solidFill>
            <a:round/>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61" name=""/>
          <p:cNvSpPr/>
          <p:nvPr/>
        </p:nvSpPr>
        <p:spPr>
          <a:xfrm>
            <a:off x="6912000" y="4000680"/>
            <a:ext cx="1440" cy="1440"/>
          </a:xfrm>
          <a:custGeom>
            <a:avLst/>
            <a:gdLst/>
            <a:ahLst/>
            <a:rect l="l" t="t" r="r" b="b"/>
            <a:pathLst>
              <a:path w="1" h="1">
                <a:moveTo>
                  <a:pt x="19199" y="11112"/>
                </a:moveTo>
                <a:lnTo>
                  <a:pt x="19199" y="11112"/>
                </a:lnTo>
              </a:path>
            </a:pathLst>
          </a:custGeom>
          <a:noFill/>
          <a:ln cap="sq" w="228600">
            <a:solidFill>
              <a:srgbClr val="3366ff">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2" name=""/>
          <p:cNvSpPr/>
          <p:nvPr/>
        </p:nvSpPr>
        <p:spPr>
          <a:xfrm>
            <a:off x="6599160" y="4687920"/>
            <a:ext cx="36720" cy="1440"/>
          </a:xfrm>
          <a:custGeom>
            <a:avLst/>
            <a:gdLst/>
            <a:ahLst/>
            <a:rect l="l" t="t" r="r" b="b"/>
            <a:pathLst>
              <a:path w="100" h="1">
                <a:moveTo>
                  <a:pt x="18430" y="13022"/>
                </a:moveTo>
                <a:cubicBezTo>
                  <a:pt x="18397" y="13022"/>
                  <a:pt x="18364" y="13022"/>
                  <a:pt x="18331" y="13022"/>
                </a:cubicBezTo>
              </a:path>
            </a:pathLst>
          </a:custGeom>
          <a:noFill/>
          <a:ln cap="sq" w="228600">
            <a:solidFill>
              <a:srgbClr val="3366ff">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3" name=""/>
          <p:cNvSpPr/>
          <p:nvPr/>
        </p:nvSpPr>
        <p:spPr>
          <a:xfrm>
            <a:off x="6670800" y="4687920"/>
            <a:ext cx="1440" cy="1440"/>
          </a:xfrm>
          <a:custGeom>
            <a:avLst/>
            <a:gdLst/>
            <a:ahLst/>
            <a:rect l="l" t="t" r="r" b="b"/>
            <a:pathLst>
              <a:path w="1" h="1">
                <a:moveTo>
                  <a:pt x="18529" y="13022"/>
                </a:moveTo>
                <a:lnTo>
                  <a:pt x="18529" y="13022"/>
                </a:lnTo>
              </a:path>
            </a:pathLst>
          </a:custGeom>
          <a:noFill/>
          <a:ln cap="sq" w="228600">
            <a:solidFill>
              <a:srgbClr val="3366ff">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4" name=""/>
          <p:cNvSpPr/>
          <p:nvPr/>
        </p:nvSpPr>
        <p:spPr>
          <a:xfrm>
            <a:off x="5180040" y="4286160"/>
            <a:ext cx="955800" cy="81000"/>
          </a:xfrm>
          <a:custGeom>
            <a:avLst/>
            <a:gdLst/>
            <a:ahLst/>
            <a:rect l="l" t="t" r="r" b="b"/>
            <a:pathLst>
              <a:path w="2655" h="224">
                <a:moveTo>
                  <a:pt x="17041" y="11906"/>
                </a:moveTo>
                <a:cubicBezTo>
                  <a:pt x="17016" y="11906"/>
                  <a:pt x="16991" y="11906"/>
                  <a:pt x="16966" y="11906"/>
                </a:cubicBezTo>
                <a:cubicBezTo>
                  <a:pt x="16949" y="11928"/>
                  <a:pt x="16929" y="11944"/>
                  <a:pt x="16917" y="11981"/>
                </a:cubicBezTo>
                <a:cubicBezTo>
                  <a:pt x="16917" y="11989"/>
                  <a:pt x="16917" y="11997"/>
                  <a:pt x="16917" y="12005"/>
                </a:cubicBezTo>
                <a:cubicBezTo>
                  <a:pt x="16885" y="12025"/>
                  <a:pt x="16845" y="12039"/>
                  <a:pt x="16818" y="12080"/>
                </a:cubicBezTo>
                <a:cubicBezTo>
                  <a:pt x="16818" y="12088"/>
                  <a:pt x="16818" y="12097"/>
                  <a:pt x="16818" y="12105"/>
                </a:cubicBezTo>
                <a:cubicBezTo>
                  <a:pt x="16745" y="12105"/>
                  <a:pt x="16688" y="12118"/>
                  <a:pt x="16619" y="12129"/>
                </a:cubicBezTo>
                <a:cubicBezTo>
                  <a:pt x="15918" y="12243"/>
                  <a:pt x="15103" y="12129"/>
                  <a:pt x="14387" y="12129"/>
                </a:cubicBezTo>
              </a:path>
            </a:pathLst>
          </a:custGeom>
          <a:noFill/>
          <a:ln cap="sq" w="228600">
            <a:solidFill>
              <a:srgbClr val="3366ff">
                <a:alpha val="33000"/>
              </a:srgbClr>
            </a:solidFill>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65" name=""/>
          <p:cNvSpPr/>
          <p:nvPr/>
        </p:nvSpPr>
        <p:spPr>
          <a:xfrm>
            <a:off x="6535800" y="4081320"/>
            <a:ext cx="1440" cy="1800"/>
          </a:xfrm>
          <a:custGeom>
            <a:avLst/>
            <a:gdLst/>
            <a:ahLst/>
            <a:rect l="l" t="t" r="r" b="b"/>
            <a:pathLst>
              <a:path w="1" h="1">
                <a:moveTo>
                  <a:pt x="18157" y="11336"/>
                </a:moveTo>
                <a:lnTo>
                  <a:pt x="18157" y="11336"/>
                </a:lnTo>
              </a:path>
            </a:pathLst>
          </a:custGeom>
          <a:noFill/>
          <a:ln cap="sq" w="228600">
            <a:solidFill>
              <a:srgbClr val="3366ff">
                <a:alpha val="33000"/>
              </a:srgbClr>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66" name=""/>
          <p:cNvSpPr/>
          <p:nvPr/>
        </p:nvSpPr>
        <p:spPr>
          <a:xfrm>
            <a:off x="7116840" y="4160880"/>
            <a:ext cx="1440" cy="1440"/>
          </a:xfrm>
          <a:custGeom>
            <a:avLst/>
            <a:gdLst/>
            <a:ahLst/>
            <a:rect l="l" t="t" r="r" b="b"/>
            <a:pathLst>
              <a:path w="1" h="1">
                <a:moveTo>
                  <a:pt x="19769" y="11559"/>
                </a:moveTo>
                <a:lnTo>
                  <a:pt x="19769" y="11559"/>
                </a:lnTo>
              </a:path>
            </a:pathLst>
          </a:custGeom>
          <a:noFill/>
          <a:ln cap="sq" w="228600">
            <a:solidFill>
              <a:srgbClr val="3366ff">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7" name=""/>
          <p:cNvSpPr/>
          <p:nvPr/>
        </p:nvSpPr>
        <p:spPr>
          <a:xfrm>
            <a:off x="6991200" y="4321080"/>
            <a:ext cx="144720" cy="1800"/>
          </a:xfrm>
          <a:custGeom>
            <a:avLst/>
            <a:gdLst/>
            <a:ahLst/>
            <a:rect l="l" t="t" r="r" b="b"/>
            <a:pathLst>
              <a:path w="398" h="1">
                <a:moveTo>
                  <a:pt x="19422" y="12005"/>
                </a:moveTo>
                <a:cubicBezTo>
                  <a:pt x="19554" y="12005"/>
                  <a:pt x="19687" y="12005"/>
                  <a:pt x="19819" y="12005"/>
                </a:cubicBezTo>
              </a:path>
            </a:pathLst>
          </a:custGeom>
          <a:noFill/>
          <a:ln cap="sq" w="228600">
            <a:solidFill>
              <a:srgbClr val="3366ff">
                <a:alpha val="33000"/>
              </a:srgbClr>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68" name=""/>
          <p:cNvSpPr/>
          <p:nvPr/>
        </p:nvSpPr>
        <p:spPr>
          <a:xfrm>
            <a:off x="7170840" y="4286160"/>
            <a:ext cx="1440" cy="1800"/>
          </a:xfrm>
          <a:custGeom>
            <a:avLst/>
            <a:gdLst/>
            <a:ahLst/>
            <a:rect l="l" t="t" r="r" b="b"/>
            <a:pathLst>
              <a:path w="1" h="1">
                <a:moveTo>
                  <a:pt x="19918" y="11906"/>
                </a:moveTo>
                <a:lnTo>
                  <a:pt x="19918" y="11906"/>
                </a:lnTo>
              </a:path>
            </a:pathLst>
          </a:custGeom>
          <a:noFill/>
          <a:ln cap="sq" w="228600">
            <a:solidFill>
              <a:srgbClr val="3366ff">
                <a:alpha val="33000"/>
              </a:srgbClr>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69" name=""/>
          <p:cNvSpPr/>
          <p:nvPr/>
        </p:nvSpPr>
        <p:spPr>
          <a:xfrm>
            <a:off x="7126200" y="4160880"/>
            <a:ext cx="1800" cy="1440"/>
          </a:xfrm>
          <a:custGeom>
            <a:avLst/>
            <a:gdLst/>
            <a:ahLst/>
            <a:rect l="l" t="t" r="r" b="b"/>
            <a:pathLst>
              <a:path w="1" h="1">
                <a:moveTo>
                  <a:pt x="19794" y="11559"/>
                </a:moveTo>
                <a:lnTo>
                  <a:pt x="19794" y="11559"/>
                </a:lnTo>
              </a:path>
            </a:pathLst>
          </a:custGeom>
          <a:noFill/>
          <a:ln cap="sq" w="228600">
            <a:solidFill>
              <a:srgbClr val="3366ff">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0" name=""/>
          <p:cNvSpPr/>
          <p:nvPr/>
        </p:nvSpPr>
        <p:spPr>
          <a:xfrm>
            <a:off x="7134120" y="4170240"/>
            <a:ext cx="1800" cy="1800"/>
          </a:xfrm>
          <a:custGeom>
            <a:avLst/>
            <a:gdLst/>
            <a:ahLst/>
            <a:rect l="l" t="t" r="r" b="b"/>
            <a:pathLst>
              <a:path w="1" h="1">
                <a:moveTo>
                  <a:pt x="19819" y="11584"/>
                </a:moveTo>
                <a:lnTo>
                  <a:pt x="19819" y="11584"/>
                </a:lnTo>
              </a:path>
            </a:pathLst>
          </a:custGeom>
          <a:noFill/>
          <a:ln cap="sq" w="228600">
            <a:solidFill>
              <a:srgbClr val="3366ff">
                <a:alpha val="33000"/>
              </a:srgbClr>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71" name=""/>
          <p:cNvSpPr/>
          <p:nvPr/>
        </p:nvSpPr>
        <p:spPr>
          <a:xfrm rot="20796600">
            <a:off x="5036760" y="3739680"/>
            <a:ext cx="2362320" cy="1287720"/>
          </a:xfrm>
          <a:prstGeom prst="ellipse">
            <a:avLst/>
          </a:prstGeom>
          <a:noFill/>
          <a:ln w="57240">
            <a:solidFill>
              <a:srgbClr val="ff33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 name=""/>
          <p:cNvSpPr/>
          <p:nvPr/>
        </p:nvSpPr>
        <p:spPr>
          <a:xfrm>
            <a:off x="4419720" y="4419720"/>
            <a:ext cx="260280" cy="1440"/>
          </a:xfrm>
          <a:custGeom>
            <a:avLst/>
            <a:gdLst/>
            <a:ahLst/>
            <a:rect l="l" t="t" r="r" b="b"/>
            <a:pathLst>
              <a:path w="721" h="1">
                <a:moveTo>
                  <a:pt x="12278" y="12278"/>
                </a:moveTo>
                <a:cubicBezTo>
                  <a:pt x="12518" y="12278"/>
                  <a:pt x="12758" y="12278"/>
                  <a:pt x="12998" y="12278"/>
                </a:cubicBezTo>
              </a:path>
            </a:pathLst>
          </a:custGeom>
          <a:noFill/>
          <a:ln cap="sq" w="228600">
            <a:solidFill>
              <a:srgbClr val="9933ff">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3" name=""/>
          <p:cNvSpPr/>
          <p:nvPr/>
        </p:nvSpPr>
        <p:spPr>
          <a:xfrm>
            <a:off x="4038480" y="4114800"/>
            <a:ext cx="990720" cy="533520"/>
          </a:xfrm>
          <a:prstGeom prst="ellipse">
            <a:avLst/>
          </a:prstGeom>
          <a:noFill/>
          <a:ln w="57240">
            <a:solidFill>
              <a:srgbClr val="ff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 name=""/>
          <p:cNvSpPr/>
          <p:nvPr/>
        </p:nvSpPr>
        <p:spPr>
          <a:xfrm>
            <a:off x="182520" y="1692360"/>
            <a:ext cx="274680" cy="274680"/>
          </a:xfrm>
          <a:custGeom>
            <a:avLst/>
            <a:gdLst>
              <a:gd name="textAreaLeft" fmla="*/ 64440 w 274680"/>
              <a:gd name="textAreaRight" fmla="*/ 209880 w 274680"/>
              <a:gd name="textAreaTop" fmla="*/ 32040 h 274680"/>
              <a:gd name="textAreaBottom" fmla="*/ 172440 h 274680"/>
            </a:gdLst>
            <a:ahLst/>
            <a:rect l="textAreaLeft" t="textAreaTop" r="textAreaRight" b="textAreaBottom"/>
            <a:pathLst>
              <a:path w="21615" h="21602">
                <a:moveTo>
                  <a:pt x="10800" y="21599"/>
                </a:moveTo>
                <a:lnTo>
                  <a:pt x="321" y="6886"/>
                </a:lnTo>
                <a:lnTo>
                  <a:pt x="70" y="6036"/>
                </a:lnTo>
                <a:cubicBezTo>
                  <a:pt x="-9" y="5766"/>
                  <a:pt x="-1" y="5474"/>
                  <a:pt x="2" y="5192"/>
                </a:cubicBezTo>
                <a:cubicBezTo>
                  <a:pt x="6" y="4918"/>
                  <a:pt x="43" y="4641"/>
                  <a:pt x="101" y="4370"/>
                </a:cubicBezTo>
                <a:cubicBezTo>
                  <a:pt x="159" y="4103"/>
                  <a:pt x="245" y="3837"/>
                  <a:pt x="353" y="3582"/>
                </a:cubicBezTo>
                <a:cubicBezTo>
                  <a:pt x="460" y="3326"/>
                  <a:pt x="591" y="3077"/>
                  <a:pt x="741" y="2839"/>
                </a:cubicBezTo>
                <a:cubicBezTo>
                  <a:pt x="892" y="2598"/>
                  <a:pt x="1066" y="2369"/>
                  <a:pt x="1253" y="2155"/>
                </a:cubicBezTo>
                <a:cubicBezTo>
                  <a:pt x="1443" y="1938"/>
                  <a:pt x="1651" y="1732"/>
                  <a:pt x="1874" y="1543"/>
                </a:cubicBezTo>
                <a:cubicBezTo>
                  <a:pt x="2097" y="1351"/>
                  <a:pt x="2337" y="1174"/>
                  <a:pt x="2587" y="1014"/>
                </a:cubicBezTo>
                <a:cubicBezTo>
                  <a:pt x="2839" y="854"/>
                  <a:pt x="3106" y="708"/>
                  <a:pt x="3380" y="584"/>
                </a:cubicBezTo>
                <a:cubicBezTo>
                  <a:pt x="3656" y="459"/>
                  <a:pt x="3945" y="350"/>
                  <a:pt x="4237" y="264"/>
                </a:cubicBezTo>
                <a:cubicBezTo>
                  <a:pt x="4533" y="176"/>
                  <a:pt x="4838" y="108"/>
                  <a:pt x="5144" y="66"/>
                </a:cubicBezTo>
                <a:cubicBezTo>
                  <a:pt x="5454" y="22"/>
                  <a:pt x="5771" y="1"/>
                  <a:pt x="6086" y="3"/>
                </a:cubicBezTo>
                <a:cubicBezTo>
                  <a:pt x="6407" y="7"/>
                  <a:pt x="6731" y="35"/>
                  <a:pt x="7048" y="89"/>
                </a:cubicBezTo>
                <a:cubicBezTo>
                  <a:pt x="7374" y="144"/>
                  <a:pt x="7700" y="226"/>
                  <a:pt x="8015" y="335"/>
                </a:cubicBezTo>
                <a:cubicBezTo>
                  <a:pt x="8344" y="447"/>
                  <a:pt x="8667" y="590"/>
                  <a:pt x="8972" y="756"/>
                </a:cubicBezTo>
                <a:cubicBezTo>
                  <a:pt x="9297" y="932"/>
                  <a:pt x="9613" y="1135"/>
                  <a:pt x="9907" y="1363"/>
                </a:cubicBezTo>
                <a:cubicBezTo>
                  <a:pt x="10224" y="1609"/>
                  <a:pt x="10504" y="1900"/>
                  <a:pt x="10802" y="2169"/>
                </a:cubicBezTo>
                <a:lnTo>
                  <a:pt x="11697" y="1363"/>
                </a:lnTo>
                <a:cubicBezTo>
                  <a:pt x="11971" y="1116"/>
                  <a:pt x="12304" y="934"/>
                  <a:pt x="12630" y="756"/>
                </a:cubicBezTo>
                <a:cubicBezTo>
                  <a:pt x="12935" y="590"/>
                  <a:pt x="13528" y="450"/>
                  <a:pt x="13589" y="335"/>
                </a:cubicBezTo>
                <a:cubicBezTo>
                  <a:pt x="13901" y="226"/>
                  <a:pt x="14227" y="144"/>
                  <a:pt x="14556" y="89"/>
                </a:cubicBezTo>
                <a:cubicBezTo>
                  <a:pt x="14872" y="35"/>
                  <a:pt x="15195" y="7"/>
                  <a:pt x="15517" y="3"/>
                </a:cubicBezTo>
                <a:cubicBezTo>
                  <a:pt x="15830" y="0"/>
                  <a:pt x="16147" y="22"/>
                  <a:pt x="16458" y="66"/>
                </a:cubicBezTo>
                <a:cubicBezTo>
                  <a:pt x="16764" y="109"/>
                  <a:pt x="17068" y="177"/>
                  <a:pt x="17365" y="264"/>
                </a:cubicBezTo>
                <a:cubicBezTo>
                  <a:pt x="17658" y="349"/>
                  <a:pt x="17946" y="458"/>
                  <a:pt x="18222" y="584"/>
                </a:cubicBezTo>
                <a:cubicBezTo>
                  <a:pt x="18496" y="708"/>
                  <a:pt x="18762" y="854"/>
                  <a:pt x="19015" y="1014"/>
                </a:cubicBezTo>
                <a:cubicBezTo>
                  <a:pt x="19264" y="1172"/>
                  <a:pt x="19504" y="1349"/>
                  <a:pt x="19730" y="1543"/>
                </a:cubicBezTo>
                <a:cubicBezTo>
                  <a:pt x="19950" y="1731"/>
                  <a:pt x="20158" y="1937"/>
                  <a:pt x="20350" y="2155"/>
                </a:cubicBezTo>
                <a:cubicBezTo>
                  <a:pt x="20536" y="2369"/>
                  <a:pt x="20710" y="2598"/>
                  <a:pt x="20861" y="2839"/>
                </a:cubicBezTo>
                <a:cubicBezTo>
                  <a:pt x="21010" y="3074"/>
                  <a:pt x="21143" y="3323"/>
                  <a:pt x="21251" y="3582"/>
                </a:cubicBezTo>
                <a:cubicBezTo>
                  <a:pt x="21357" y="3835"/>
                  <a:pt x="21443" y="4099"/>
                  <a:pt x="21502" y="4370"/>
                </a:cubicBezTo>
                <a:cubicBezTo>
                  <a:pt x="21561" y="4639"/>
                  <a:pt x="21595" y="4916"/>
                  <a:pt x="21600" y="5192"/>
                </a:cubicBezTo>
                <a:cubicBezTo>
                  <a:pt x="21606" y="5474"/>
                  <a:pt x="21584" y="5760"/>
                  <a:pt x="21532" y="6036"/>
                </a:cubicBezTo>
                <a:cubicBezTo>
                  <a:pt x="21478" y="6326"/>
                  <a:pt x="21366" y="6603"/>
                  <a:pt x="21282" y="6887"/>
                </a:cubicBezTo>
                <a:lnTo>
                  <a:pt x="10802" y="21602"/>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 name=""/>
          <p:cNvSpPr/>
          <p:nvPr/>
        </p:nvSpPr>
        <p:spPr>
          <a:xfrm>
            <a:off x="182520" y="685800"/>
            <a:ext cx="274680" cy="27288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med" advTm="75000">
    <p:wheel spokes="8"/>
  </p:transition>
  <p:timing>
    <p:tnLst>
      <p:par>
        <p:cTn id="110" dur="indefinite" restart="never" nodeType="tmRoot">
          <p:childTnLst>
            <p:seq>
              <p:cTn id="111" dur="indefinite" nodeType="mainSeq">
                <p:childTnLst>
                  <p:par>
                    <p:cTn id="112" fill="hold">
                      <p:stCondLst>
                        <p:cond delay="indefinite"/>
                      </p:stCondLst>
                      <p:childTnLst>
                        <p:par>
                          <p:cTn id="113" fill="hold">
                            <p:stCondLst>
                              <p:cond delay="0"/>
                            </p:stCondLst>
                            <p:childTnLst>
                              <p:par>
                                <p:cTn id="114" nodeType="clickEffect" fill="hold" presetClass="entr" presetID="51">
                                  <p:stCondLst>
                                    <p:cond delay="0"/>
                                  </p:stCondLst>
                                  <p:childTnLst>
                                    <p:set>
                                      <p:cBhvr>
                                        <p:cTn id="115" dur="1" fill="hold">
                                          <p:stCondLst>
                                            <p:cond delay="0"/>
                                          </p:stCondLst>
                                        </p:cTn>
                                        <p:tgtEl>
                                          <p:spTgt spid="79"/>
                                        </p:tgtEl>
                                        <p:attrNameLst>
                                          <p:attrName>style.visibility</p:attrName>
                                        </p:attrNameLst>
                                      </p:cBhvr>
                                      <p:to>
                                        <p:strVal val="visible"/>
                                      </p:to>
                                    </p:set>
                                    <p:animEffect filter="fade" transition="in">
                                      <p:cBhvr additive="repl">
                                        <p:cTn id="116" dur="770"/>
                                        <p:tgtEl>
                                          <p:spTgt spid="79"/>
                                        </p:tgtEl>
                                      </p:cBhvr>
                                    </p:animEffect>
                                    <p:animScale>
                                      <p:cBhvr>
                                        <p:cTn id="117" dur="770" fill="hold"/>
                                        <p:tgtEl>
                                          <p:spTgt spid="79"/>
                                        </p:tgtEl>
                                      </p:cBhvr>
                                      <p:from x="10000" y="10000"/>
                                      <p:to x="200000" y="450000"/>
                                    </p:animScale>
                                    <p:animScale>
                                      <p:cBhvr>
                                        <p:cTn id="118" dur="1230" fill="hold">
                                          <p:stCondLst>
                                            <p:cond delay="770"/>
                                          </p:stCondLst>
                                        </p:cTn>
                                        <p:tgtEl>
                                          <p:spTgt spid="79"/>
                                        </p:tgtEl>
                                      </p:cBhvr>
                                      <p:from x="200000" y="450000"/>
                                      <p:to x="100000" y="100000"/>
                                    </p:animScale>
                                    <p:set>
                                      <p:cBhvr>
                                        <p:cTn id="119" dur="770" fill="hold"/>
                                        <p:tgtEl>
                                          <p:spTgt spid="79"/>
                                        </p:tgtEl>
                                        <p:attrNameLst>
                                          <p:attrName>ppt_x</p:attrName>
                                        </p:attrNameLst>
                                      </p:cBhvr>
                                      <p:to>
                                        <p:strVal val="(0.5)"/>
                                      </p:to>
                                    </p:set>
                                    <p:anim calcmode="lin" valueType="num" from="(0.5)" to="(#ppt_x)">
                                      <p:cBhvr additive="repl">
                                        <p:cTn id="120" dur="1230" fill="hold">
                                          <p:stCondLst>
                                            <p:cond delay="770"/>
                                          </p:stCondLst>
                                        </p:cTn>
                                        <p:tgtEl>
                                          <p:spTgt spid="79"/>
                                        </p:tgtEl>
                                        <p:attrNameLst>
                                          <p:attrName>ppt_x</p:attrName>
                                        </p:attrNameLst>
                                      </p:cBhvr>
                                    </p:anim>
                                    <p:set>
                                      <p:cBhvr>
                                        <p:cTn id="121" dur="770" fill="hold"/>
                                        <p:tgtEl>
                                          <p:spTgt spid="79"/>
                                        </p:tgtEl>
                                        <p:attrNameLst>
                                          <p:attrName>ppt_y</p:attrName>
                                        </p:attrNameLst>
                                      </p:cBhvr>
                                      <p:to>
                                        <p:strVal val="(#ppt_y+0.4)"/>
                                      </p:to>
                                    </p:set>
                                    <p:anim calcmode="lin" valueType="num" from="(#ppt_y+0.4)" to="(#ppt_y)">
                                      <p:cBhvr additive="repl">
                                        <p:cTn id="122" dur="1230" fill="hold">
                                          <p:stCondLst>
                                            <p:cond delay="770"/>
                                          </p:stCondLst>
                                        </p:cTn>
                                        <p:tgtEl>
                                          <p:spTgt spid="79"/>
                                        </p:tgtEl>
                                        <p:attrNameLst>
                                          <p:attrName>ppt_y</p:attrName>
                                        </p:attrNameLst>
                                      </p:cBhvr>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35">
                                  <p:stCondLst>
                                    <p:cond delay="0"/>
                                  </p:stCondLst>
                                  <p:childTnLst>
                                    <p:set>
                                      <p:cBhvr>
                                        <p:cTn id="126" dur="1" fill="hold">
                                          <p:stCondLst>
                                            <p:cond delay="0"/>
                                          </p:stCondLst>
                                        </p:cTn>
                                        <p:tgtEl>
                                          <p:spTgt spid="78">
                                            <p:txEl>
                                              <p:pRg st="0" end="0"/>
                                            </p:txEl>
                                          </p:spTgt>
                                        </p:tgtEl>
                                        <p:attrNameLst>
                                          <p:attrName>style.visibility</p:attrName>
                                        </p:attrNameLst>
                                      </p:cBhvr>
                                      <p:to>
                                        <p:strVal val="visible"/>
                                      </p:to>
                                    </p:set>
                                    <p:animEffect filter="fade" transition="in">
                                      <p:cBhvr additive="repl">
                                        <p:cTn id="127" dur="2000"/>
                                        <p:tgtEl>
                                          <p:spTgt spid="78">
                                            <p:txEl>
                                              <p:pRg st="0" end="0"/>
                                            </p:txEl>
                                          </p:spTgt>
                                        </p:tgtEl>
                                      </p:cBhvr>
                                    </p:animEffect>
                                    <p:anim calcmode="lin" valueType="num">
                                      <p:cBhvr additive="repl">
                                        <p:cTn id="128" dur="2000" fill="hold"/>
                                        <p:tgtEl>
                                          <p:spTgt spid="78">
                                            <p:txEl>
                                              <p:pRg st="0" end="0"/>
                                            </p:txEl>
                                          </p:spTgt>
                                        </p:tgtEl>
                                        <p:attrNameLst>
                                          <p:attrName>r</p:attrName>
                                        </p:attrNameLst>
                                      </p:cBhvr>
                                      <p:tavLst>
                                        <p:tav tm="0">
                                          <p:val>
                                            <p:strVal val="720"/>
                                          </p:val>
                                        </p:tav>
                                        <p:tav tm="100000">
                                          <p:val>
                                            <p:strVal val="0"/>
                                          </p:val>
                                        </p:tav>
                                      </p:tavLst>
                                    </p:anim>
                                    <p:anim calcmode="lin" valueType="num">
                                      <p:cBhvr additive="repl">
                                        <p:cTn id="129" dur="2000" fill="hold"/>
                                        <p:tgtEl>
                                          <p:spTgt spid="78">
                                            <p:txEl>
                                              <p:pRg st="0" end="0"/>
                                            </p:txEl>
                                          </p:spTgt>
                                        </p:tgtEl>
                                        <p:attrNameLst>
                                          <p:attrName>ppt_h</p:attrName>
                                        </p:attrNameLst>
                                      </p:cBhvr>
                                      <p:tavLst>
                                        <p:tav tm="0">
                                          <p:val>
                                            <p:fltVal val="0"/>
                                          </p:val>
                                        </p:tav>
                                        <p:tav tm="100000">
                                          <p:val>
                                            <p:strVal val="#ppt_h"/>
                                          </p:val>
                                        </p:tav>
                                      </p:tavLst>
                                    </p:anim>
                                    <p:anim calcmode="lin" valueType="num">
                                      <p:cBhvr additive="repl">
                                        <p:cTn id="130" dur="2000" fill="hold"/>
                                        <p:tgtEl>
                                          <p:spTgt spid="78">
                                            <p:txEl>
                                              <p:pRg st="0" end="0"/>
                                            </p:txEl>
                                          </p:spTgt>
                                        </p:tgtEl>
                                        <p:attrNameLst>
                                          <p:attrName>ppt_w</p:attrName>
                                        </p:attrNameLst>
                                      </p:cBhvr>
                                      <p:tavLst>
                                        <p:tav tm="0">
                                          <p:val>
                                            <p:fltVal val="0"/>
                                          </p:val>
                                        </p:tav>
                                        <p:tav tm="100000">
                                          <p:val>
                                            <p:strVal val="#ppt_w"/>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35">
                                  <p:stCondLst>
                                    <p:cond delay="0"/>
                                  </p:stCondLst>
                                  <p:childTnLst>
                                    <p:set>
                                      <p:cBhvr>
                                        <p:cTn id="134" dur="1" fill="hold">
                                          <p:stCondLst>
                                            <p:cond delay="0"/>
                                          </p:stCondLst>
                                        </p:cTn>
                                        <p:tgtEl>
                                          <p:spTgt spid="78">
                                            <p:txEl>
                                              <p:pRg st="1" end="1"/>
                                            </p:txEl>
                                          </p:spTgt>
                                        </p:tgtEl>
                                        <p:attrNameLst>
                                          <p:attrName>style.visibility</p:attrName>
                                        </p:attrNameLst>
                                      </p:cBhvr>
                                      <p:to>
                                        <p:strVal val="visible"/>
                                      </p:to>
                                    </p:set>
                                    <p:animEffect filter="fade" transition="in">
                                      <p:cBhvr additive="repl">
                                        <p:cTn id="135" dur="2000"/>
                                        <p:tgtEl>
                                          <p:spTgt spid="78">
                                            <p:txEl>
                                              <p:pRg st="1" end="1"/>
                                            </p:txEl>
                                          </p:spTgt>
                                        </p:tgtEl>
                                      </p:cBhvr>
                                    </p:animEffect>
                                    <p:anim calcmode="lin" valueType="num">
                                      <p:cBhvr additive="repl">
                                        <p:cTn id="136" dur="2000" fill="hold"/>
                                        <p:tgtEl>
                                          <p:spTgt spid="78">
                                            <p:txEl>
                                              <p:pRg st="1" end="1"/>
                                            </p:txEl>
                                          </p:spTgt>
                                        </p:tgtEl>
                                        <p:attrNameLst>
                                          <p:attrName>r</p:attrName>
                                        </p:attrNameLst>
                                      </p:cBhvr>
                                      <p:tavLst>
                                        <p:tav tm="0">
                                          <p:val>
                                            <p:strVal val="720"/>
                                          </p:val>
                                        </p:tav>
                                        <p:tav tm="100000">
                                          <p:val>
                                            <p:strVal val="0"/>
                                          </p:val>
                                        </p:tav>
                                      </p:tavLst>
                                    </p:anim>
                                    <p:anim calcmode="lin" valueType="num">
                                      <p:cBhvr additive="repl">
                                        <p:cTn id="137" dur="2000" fill="hold"/>
                                        <p:tgtEl>
                                          <p:spTgt spid="78">
                                            <p:txEl>
                                              <p:pRg st="1" end="1"/>
                                            </p:txEl>
                                          </p:spTgt>
                                        </p:tgtEl>
                                        <p:attrNameLst>
                                          <p:attrName>ppt_h</p:attrName>
                                        </p:attrNameLst>
                                      </p:cBhvr>
                                      <p:tavLst>
                                        <p:tav tm="0">
                                          <p:val>
                                            <p:fltVal val="0"/>
                                          </p:val>
                                        </p:tav>
                                        <p:tav tm="100000">
                                          <p:val>
                                            <p:strVal val="#ppt_h"/>
                                          </p:val>
                                        </p:tav>
                                      </p:tavLst>
                                    </p:anim>
                                    <p:anim calcmode="lin" valueType="num">
                                      <p:cBhvr additive="repl">
                                        <p:cTn id="138" dur="2000" fill="hold"/>
                                        <p:tgtEl>
                                          <p:spTgt spid="78">
                                            <p:txEl>
                                              <p:pRg st="1" end="1"/>
                                            </p:txEl>
                                          </p:spTgt>
                                        </p:tgtEl>
                                        <p:attrNameLst>
                                          <p:attrName>ppt_w</p:attrName>
                                        </p:attrNameLst>
                                      </p:cBhvr>
                                      <p:tavLst>
                                        <p:tav tm="0">
                                          <p:val>
                                            <p:fltVal val="0"/>
                                          </p:val>
                                        </p:tav>
                                        <p:tav tm="100000">
                                          <p:val>
                                            <p:strVal val="#ppt_w"/>
                                          </p:val>
                                        </p:tav>
                                      </p:tavLst>
                                    </p:anim>
                                  </p:childTnLst>
                                </p:cTn>
                              </p:par>
                              <p:par>
                                <p:cTn id="139" nodeType="withEffect" fill="hold" presetClass="entr" presetID="35">
                                  <p:stCondLst>
                                    <p:cond delay="0"/>
                                  </p:stCondLst>
                                  <p:childTnLst>
                                    <p:set>
                                      <p:cBhvr>
                                        <p:cTn id="140" dur="1" fill="hold">
                                          <p:stCondLst>
                                            <p:cond delay="0"/>
                                          </p:stCondLst>
                                        </p:cTn>
                                        <p:tgtEl>
                                          <p:spTgt spid="78">
                                            <p:txEl>
                                              <p:pRg st="2" end="2"/>
                                            </p:txEl>
                                          </p:spTgt>
                                        </p:tgtEl>
                                        <p:attrNameLst>
                                          <p:attrName>style.visibility</p:attrName>
                                        </p:attrNameLst>
                                      </p:cBhvr>
                                      <p:to>
                                        <p:strVal val="visible"/>
                                      </p:to>
                                    </p:set>
                                    <p:animEffect filter="fade" transition="in">
                                      <p:cBhvr additive="repl">
                                        <p:cTn id="141" dur="2000"/>
                                        <p:tgtEl>
                                          <p:spTgt spid="78">
                                            <p:txEl>
                                              <p:pRg st="2" end="2"/>
                                            </p:txEl>
                                          </p:spTgt>
                                        </p:tgtEl>
                                      </p:cBhvr>
                                    </p:animEffect>
                                    <p:anim calcmode="lin" valueType="num">
                                      <p:cBhvr additive="repl">
                                        <p:cTn id="142" dur="2000" fill="hold"/>
                                        <p:tgtEl>
                                          <p:spTgt spid="78">
                                            <p:txEl>
                                              <p:pRg st="2" end="2"/>
                                            </p:txEl>
                                          </p:spTgt>
                                        </p:tgtEl>
                                        <p:attrNameLst>
                                          <p:attrName>r</p:attrName>
                                        </p:attrNameLst>
                                      </p:cBhvr>
                                      <p:tavLst>
                                        <p:tav tm="0">
                                          <p:val>
                                            <p:strVal val="720"/>
                                          </p:val>
                                        </p:tav>
                                        <p:tav tm="100000">
                                          <p:val>
                                            <p:strVal val="0"/>
                                          </p:val>
                                        </p:tav>
                                      </p:tavLst>
                                    </p:anim>
                                    <p:anim calcmode="lin" valueType="num">
                                      <p:cBhvr additive="repl">
                                        <p:cTn id="143" dur="2000" fill="hold"/>
                                        <p:tgtEl>
                                          <p:spTgt spid="78">
                                            <p:txEl>
                                              <p:pRg st="2" end="2"/>
                                            </p:txEl>
                                          </p:spTgt>
                                        </p:tgtEl>
                                        <p:attrNameLst>
                                          <p:attrName>ppt_h</p:attrName>
                                        </p:attrNameLst>
                                      </p:cBhvr>
                                      <p:tavLst>
                                        <p:tav tm="0">
                                          <p:val>
                                            <p:fltVal val="0"/>
                                          </p:val>
                                        </p:tav>
                                        <p:tav tm="100000">
                                          <p:val>
                                            <p:strVal val="#ppt_h"/>
                                          </p:val>
                                        </p:tav>
                                      </p:tavLst>
                                    </p:anim>
                                    <p:anim calcmode="lin" valueType="num">
                                      <p:cBhvr additive="repl">
                                        <p:cTn id="144" dur="2000" fill="hold"/>
                                        <p:tgtEl>
                                          <p:spTgt spid="78">
                                            <p:txEl>
                                              <p:pRg st="2" end="2"/>
                                            </p:txEl>
                                          </p:spTgt>
                                        </p:tgtEl>
                                        <p:attrNameLst>
                                          <p:attrName>ppt_w</p:attrName>
                                        </p:attrNameLst>
                                      </p:cBhvr>
                                      <p:tavLst>
                                        <p:tav tm="0">
                                          <p:val>
                                            <p:fltVal val="0"/>
                                          </p:val>
                                        </p:tav>
                                        <p:tav tm="100000">
                                          <p:val>
                                            <p:strVal val="#ppt_w"/>
                                          </p:val>
                                        </p:tav>
                                      </p:tavLst>
                                    </p:anim>
                                  </p:childTnLst>
                                </p:cTn>
                              </p:par>
                              <p:par>
                                <p:cTn id="145" nodeType="withEffect" fill="hold" presetClass="entr" presetID="35">
                                  <p:stCondLst>
                                    <p:cond delay="0"/>
                                  </p:stCondLst>
                                  <p:childTnLst>
                                    <p:set>
                                      <p:cBhvr>
                                        <p:cTn id="146" dur="1" fill="hold">
                                          <p:stCondLst>
                                            <p:cond delay="0"/>
                                          </p:stCondLst>
                                        </p:cTn>
                                        <p:tgtEl>
                                          <p:spTgt spid="78">
                                            <p:txEl>
                                              <p:pRg st="4" end="4"/>
                                            </p:txEl>
                                          </p:spTgt>
                                        </p:tgtEl>
                                        <p:attrNameLst>
                                          <p:attrName>style.visibility</p:attrName>
                                        </p:attrNameLst>
                                      </p:cBhvr>
                                      <p:to>
                                        <p:strVal val="visible"/>
                                      </p:to>
                                    </p:set>
                                    <p:animEffect filter="fade" transition="in">
                                      <p:cBhvr additive="repl">
                                        <p:cTn id="147" dur="2000"/>
                                        <p:tgtEl>
                                          <p:spTgt spid="78">
                                            <p:txEl>
                                              <p:pRg st="4" end="4"/>
                                            </p:txEl>
                                          </p:spTgt>
                                        </p:tgtEl>
                                      </p:cBhvr>
                                    </p:animEffect>
                                    <p:anim calcmode="lin" valueType="num">
                                      <p:cBhvr additive="repl">
                                        <p:cTn id="148" dur="2000" fill="hold"/>
                                        <p:tgtEl>
                                          <p:spTgt spid="78">
                                            <p:txEl>
                                              <p:pRg st="4" end="4"/>
                                            </p:txEl>
                                          </p:spTgt>
                                        </p:tgtEl>
                                        <p:attrNameLst>
                                          <p:attrName>r</p:attrName>
                                        </p:attrNameLst>
                                      </p:cBhvr>
                                      <p:tavLst>
                                        <p:tav tm="0">
                                          <p:val>
                                            <p:strVal val="720"/>
                                          </p:val>
                                        </p:tav>
                                        <p:tav tm="100000">
                                          <p:val>
                                            <p:strVal val="0"/>
                                          </p:val>
                                        </p:tav>
                                      </p:tavLst>
                                    </p:anim>
                                    <p:anim calcmode="lin" valueType="num">
                                      <p:cBhvr additive="repl">
                                        <p:cTn id="149" dur="2000" fill="hold"/>
                                        <p:tgtEl>
                                          <p:spTgt spid="78">
                                            <p:txEl>
                                              <p:pRg st="4" end="4"/>
                                            </p:txEl>
                                          </p:spTgt>
                                        </p:tgtEl>
                                        <p:attrNameLst>
                                          <p:attrName>ppt_h</p:attrName>
                                        </p:attrNameLst>
                                      </p:cBhvr>
                                      <p:tavLst>
                                        <p:tav tm="0">
                                          <p:val>
                                            <p:fltVal val="0"/>
                                          </p:val>
                                        </p:tav>
                                        <p:tav tm="100000">
                                          <p:val>
                                            <p:strVal val="#ppt_h"/>
                                          </p:val>
                                        </p:tav>
                                      </p:tavLst>
                                    </p:anim>
                                    <p:anim calcmode="lin" valueType="num">
                                      <p:cBhvr additive="repl">
                                        <p:cTn id="150" dur="2000" fill="hold"/>
                                        <p:tgtEl>
                                          <p:spTgt spid="78">
                                            <p:txEl>
                                              <p:pRg st="4" end="4"/>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cc9900"/>
            </a:gs>
          </a:gsLst>
          <a:path path="rect">
            <a:fillToRect l="50000" t="50000" r="50000" b="50000"/>
          </a:path>
        </a:gradFill>
      </p:bgPr>
    </p:bg>
    <p:spTree>
      <p:nvGrpSpPr>
        <p:cNvPr id="1" name=""/>
        <p:cNvGrpSpPr/>
        <p:nvPr/>
      </p:nvGrpSpPr>
      <p:grpSpPr>
        <a:xfrm>
          <a:off x="0" y="0"/>
          <a:ext cx="0" cy="0"/>
          <a:chOff x="0" y="0"/>
          <a:chExt cx="0" cy="0"/>
        </a:xfrm>
      </p:grpSpPr>
      <p:pic>
        <p:nvPicPr>
          <p:cNvPr id="176" name="" descr=""/>
          <p:cNvPicPr/>
          <p:nvPr/>
        </p:nvPicPr>
        <p:blipFill>
          <a:blip r:embed="rId1"/>
          <a:stretch/>
        </p:blipFill>
        <p:spPr>
          <a:xfrm>
            <a:off x="274680" y="1874880"/>
            <a:ext cx="7680240" cy="2592360"/>
          </a:xfrm>
          <a:prstGeom prst="rect">
            <a:avLst/>
          </a:prstGeom>
          <a:ln w="0">
            <a:noFill/>
          </a:ln>
        </p:spPr>
      </p:pic>
      <p:sp>
        <p:nvSpPr>
          <p:cNvPr id="177" name=""/>
          <p:cNvSpPr/>
          <p:nvPr/>
        </p:nvSpPr>
        <p:spPr>
          <a:xfrm>
            <a:off x="0" y="2879640"/>
            <a:ext cx="274680" cy="27324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plus/>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8" name=""/>
          <p:cNvSpPr/>
          <p:nvPr/>
        </p:nvSpPr>
        <p:spPr>
          <a:xfrm>
            <a:off x="3048120" y="338760"/>
            <a:ext cx="2286000" cy="1373760"/>
          </a:xfrm>
          <a:prstGeom prst="rect">
            <a:avLst/>
          </a:prstGeom>
          <a:solidFill>
            <a:srgbClr val="ff3399"/>
          </a:solidFill>
          <a:ln w="57240">
            <a:solidFill>
              <a:srgbClr val="66ff99"/>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Lucida Console"/>
              </a:rPr>
              <a:t>=)Local       species</a:t>
            </a:r>
            <a:endParaRPr b="0" lang="en-US" sz="2800" spc="-1" strike="noStrike">
              <a:solidFill>
                <a:srgbClr val="000000"/>
              </a:solidFill>
              <a:latin typeface="Arial"/>
            </a:endParaRPr>
          </a:p>
        </p:txBody>
      </p:sp>
      <p:pic>
        <p:nvPicPr>
          <p:cNvPr id="179" name="images" descr="">
            <a:hlinkClick r:id="rId2"/>
          </p:cNvPr>
          <p:cNvPicPr/>
          <p:nvPr/>
        </p:nvPicPr>
        <p:blipFill>
          <a:blip r:embed="rId3"/>
          <a:stretch/>
        </p:blipFill>
        <p:spPr>
          <a:xfrm>
            <a:off x="457200" y="1943280"/>
            <a:ext cx="3048120" cy="2238120"/>
          </a:xfrm>
          <a:prstGeom prst="rect">
            <a:avLst/>
          </a:prstGeom>
          <a:ln w="38160">
            <a:solidFill>
              <a:srgbClr val="0000ff"/>
            </a:solidFill>
            <a:miter/>
          </a:ln>
        </p:spPr>
      </p:pic>
      <p:sp>
        <p:nvSpPr>
          <p:cNvPr id="180" name=""/>
          <p:cNvSpPr txBox="1"/>
          <p:nvPr/>
        </p:nvSpPr>
        <p:spPr>
          <a:xfrm>
            <a:off x="228600" y="4191120"/>
            <a:ext cx="2971800" cy="419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00"/>
                </a:solidFill>
                <a:latin typeface="Arial Rounded MT Bold"/>
              </a:rPr>
              <a:t>Embioptera</a:t>
            </a:r>
            <a:endParaRPr b="0" lang="en-US" sz="1800" spc="1" strike="noStrike">
              <a:ln w="9360">
                <a:solidFill>
                  <a:srgbClr val="000000"/>
                </a:solidFill>
                <a:miter/>
              </a:ln>
              <a:solidFill>
                <a:srgbClr val="ffff00"/>
              </a:solidFill>
              <a:latin typeface="Arial Rounded MT Bold"/>
              <a:ea typeface="Arial Rounded MT Bold"/>
            </a:endParaRPr>
          </a:p>
        </p:txBody>
      </p:sp>
      <p:sp>
        <p:nvSpPr>
          <p:cNvPr id="181" name=""/>
          <p:cNvSpPr/>
          <p:nvPr/>
        </p:nvSpPr>
        <p:spPr>
          <a:xfrm>
            <a:off x="228600" y="4648320"/>
            <a:ext cx="2895480" cy="0"/>
          </a:xfrm>
          <a:prstGeom prst="line">
            <a:avLst/>
          </a:prstGeom>
          <a:ln cap="rnd" w="57240">
            <a:solidFill>
              <a:srgbClr val="80008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82" name="d1-25cn33011053" descr=""/>
          <p:cNvPicPr/>
          <p:nvPr/>
        </p:nvPicPr>
        <p:blipFill>
          <a:blip r:embed="rId4"/>
          <a:stretch/>
        </p:blipFill>
        <p:spPr>
          <a:xfrm>
            <a:off x="3429000" y="3809880"/>
            <a:ext cx="2743200" cy="2200320"/>
          </a:xfrm>
          <a:prstGeom prst="rect">
            <a:avLst/>
          </a:prstGeom>
          <a:ln w="57240">
            <a:solidFill>
              <a:srgbClr val="ff0000"/>
            </a:solidFill>
            <a:miter/>
          </a:ln>
        </p:spPr>
      </p:pic>
      <p:sp>
        <p:nvSpPr>
          <p:cNvPr id="183" name=""/>
          <p:cNvSpPr txBox="1"/>
          <p:nvPr/>
        </p:nvSpPr>
        <p:spPr>
          <a:xfrm>
            <a:off x="2895480" y="6095880"/>
            <a:ext cx="36576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00"/>
                </a:solidFill>
                <a:latin typeface="Arial Rounded MT Bold"/>
              </a:rPr>
              <a:t>Grylloblattodea</a:t>
            </a:r>
            <a:endParaRPr b="0" lang="en-US" sz="1800" spc="1" strike="noStrike">
              <a:ln w="9360">
                <a:solidFill>
                  <a:srgbClr val="000000"/>
                </a:solidFill>
                <a:miter/>
              </a:ln>
              <a:solidFill>
                <a:srgbClr val="ffff00"/>
              </a:solidFill>
              <a:latin typeface="Arial Rounded MT Bold"/>
              <a:ea typeface="Arial Rounded MT Bold"/>
            </a:endParaRPr>
          </a:p>
        </p:txBody>
      </p:sp>
      <p:sp>
        <p:nvSpPr>
          <p:cNvPr id="184" name=""/>
          <p:cNvSpPr/>
          <p:nvPr/>
        </p:nvSpPr>
        <p:spPr>
          <a:xfrm>
            <a:off x="2819520" y="6553080"/>
            <a:ext cx="3809880" cy="0"/>
          </a:xfrm>
          <a:prstGeom prst="line">
            <a:avLst/>
          </a:prstGeom>
          <a:ln cap="rnd" w="57240">
            <a:solidFill>
              <a:srgbClr val="80008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85" name="images" descr="">
            <a:hlinkClick r:id="rId5"/>
          </p:cNvPr>
          <p:cNvPicPr/>
          <p:nvPr/>
        </p:nvPicPr>
        <p:blipFill>
          <a:blip r:embed="rId6"/>
          <a:stretch/>
        </p:blipFill>
        <p:spPr>
          <a:xfrm>
            <a:off x="6019920" y="1752480"/>
            <a:ext cx="2819160" cy="2256120"/>
          </a:xfrm>
          <a:prstGeom prst="rect">
            <a:avLst/>
          </a:prstGeom>
          <a:ln w="57240">
            <a:solidFill>
              <a:srgbClr val="00ff00"/>
            </a:solidFill>
            <a:miter/>
          </a:ln>
        </p:spPr>
      </p:pic>
      <p:sp>
        <p:nvSpPr>
          <p:cNvPr id="186" name=""/>
          <p:cNvSpPr txBox="1"/>
          <p:nvPr/>
        </p:nvSpPr>
        <p:spPr>
          <a:xfrm>
            <a:off x="6019920" y="4114800"/>
            <a:ext cx="312408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00"/>
                </a:solidFill>
                <a:latin typeface="Arial Rounded MT Bold"/>
              </a:rPr>
              <a:t>Embiidina</a:t>
            </a:r>
            <a:endParaRPr b="0" lang="en-US" sz="1800" spc="1" strike="noStrike">
              <a:ln w="9360">
                <a:solidFill>
                  <a:srgbClr val="000000"/>
                </a:solidFill>
                <a:miter/>
              </a:ln>
              <a:solidFill>
                <a:srgbClr val="ffff00"/>
              </a:solidFill>
              <a:latin typeface="Arial Rounded MT Bold"/>
              <a:ea typeface="Arial Rounded MT Bold"/>
            </a:endParaRPr>
          </a:p>
        </p:txBody>
      </p:sp>
      <p:sp>
        <p:nvSpPr>
          <p:cNvPr id="187" name=""/>
          <p:cNvSpPr/>
          <p:nvPr/>
        </p:nvSpPr>
        <p:spPr>
          <a:xfrm>
            <a:off x="6019920" y="4572000"/>
            <a:ext cx="3124080" cy="0"/>
          </a:xfrm>
          <a:prstGeom prst="line">
            <a:avLst/>
          </a:prstGeom>
          <a:ln cap="rnd" w="57240">
            <a:solidFill>
              <a:srgbClr val="80008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4724280" y="838080"/>
            <a:ext cx="457200" cy="457200"/>
          </a:xfrm>
          <a:prstGeom prst="smileyFace">
            <a:avLst>
              <a:gd name="adj" fmla="val 9282"/>
            </a:avLst>
          </a:prstGeom>
          <a:solidFill>
            <a:srgbClr val="ffff66"/>
          </a:solidFill>
          <a:ln w="57240">
            <a:solidFill>
              <a:srgbClr val="9933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9" name=""/>
          <p:cNvSpPr/>
          <p:nvPr/>
        </p:nvSpPr>
        <p:spPr>
          <a:xfrm>
            <a:off x="0" y="3336840"/>
            <a:ext cx="274680" cy="27324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checker dir="vert"/>
  </p:transition>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19" presetSubtype="5">
                                  <p:stCondLst>
                                    <p:cond delay="0"/>
                                  </p:stCondLst>
                                  <p:childTnLst>
                                    <p:set>
                                      <p:cBhvr>
                                        <p:cTn id="156" dur="1" fill="hold">
                                          <p:stCondLst>
                                            <p:cond delay="0"/>
                                          </p:stCondLst>
                                        </p:cTn>
                                        <p:tgtEl>
                                          <p:spTgt spid="178"/>
                                        </p:tgtEl>
                                        <p:attrNameLst>
                                          <p:attrName>style.visibility</p:attrName>
                                        </p:attrNameLst>
                                      </p:cBhvr>
                                      <p:to>
                                        <p:strVal val="visible"/>
                                      </p:to>
                                    </p:set>
                                    <p:anim calcmode="lin" valueType="num">
                                      <p:cBhvr additive="repl">
                                        <p:cTn id="157" dur="3000" fill="hold"/>
                                        <p:tgtEl>
                                          <p:spTgt spid="178"/>
                                        </p:tgtEl>
                                        <p:attrNameLst>
                                          <p:attrName>ppt_w</p:attrName>
                                        </p:attrNameLst>
                                      </p:cBhvr>
                                      <p:tavLst>
                                        <p:tav tm="0">
                                          <p:val>
                                            <p:strVal val="#ppt_w"/>
                                          </p:val>
                                        </p:tav>
                                        <p:tav tm="100000">
                                          <p:val>
                                            <p:strVal val="#ppt_w"/>
                                          </p:val>
                                        </p:tav>
                                      </p:tavLst>
                                    </p:anim>
                                    <p:anim calcmode="lin" valueType="num">
                                      <p:cBhvr additive="repl">
                                        <p:cTn id="158" dur="3000" fill="hold"/>
                                        <p:tgtEl>
                                          <p:spTgt spid="178"/>
                                        </p:tgtEl>
                                        <p:attrNameLst>
                                          <p:attrName>ppt_h</p:attrName>
                                        </p:attrNameLst>
                                      </p:cBhvr>
                                      <p:tavLst>
                                        <p:tav fmla="height*sin(2.5*pi*$)" tm="0">
                                          <p:val>
                                            <p:fltVal val="0"/>
                                          </p:val>
                                        </p:tav>
                                        <p:tav fmla="height*sin(2.5*pi*$)" tm="100000">
                                          <p:val>
                                            <p:fltVal val="1"/>
                                          </p:val>
                                        </p:tav>
                                      </p:tavLst>
                                    </p:anim>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21" presetSubtype="4">
                                  <p:stCondLst>
                                    <p:cond delay="0"/>
                                  </p:stCondLst>
                                  <p:childTnLst>
                                    <p:set>
                                      <p:cBhvr>
                                        <p:cTn id="162" dur="1" fill="hold">
                                          <p:stCondLst>
                                            <p:cond delay="0"/>
                                          </p:stCondLst>
                                        </p:cTn>
                                        <p:tgtEl>
                                          <p:spTgt spid="185"/>
                                        </p:tgtEl>
                                        <p:attrNameLst>
                                          <p:attrName>style.visibility</p:attrName>
                                        </p:attrNameLst>
                                      </p:cBhvr>
                                      <p:to>
                                        <p:strVal val="visible"/>
                                      </p:to>
                                    </p:set>
                                    <p:animEffect filter="wheel(4)" transition="in">
                                      <p:cBhvr additive="repl">
                                        <p:cTn id="163" dur="2000"/>
                                        <p:tgtEl>
                                          <p:spTgt spid="185"/>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21" presetSubtype="4">
                                  <p:stCondLst>
                                    <p:cond delay="0"/>
                                  </p:stCondLst>
                                  <p:childTnLst>
                                    <p:set>
                                      <p:cBhvr>
                                        <p:cTn id="167" dur="1" fill="hold">
                                          <p:stCondLst>
                                            <p:cond delay="0"/>
                                          </p:stCondLst>
                                        </p:cTn>
                                        <p:tgtEl>
                                          <p:spTgt spid="179"/>
                                        </p:tgtEl>
                                        <p:attrNameLst>
                                          <p:attrName>style.visibility</p:attrName>
                                        </p:attrNameLst>
                                      </p:cBhvr>
                                      <p:to>
                                        <p:strVal val="visible"/>
                                      </p:to>
                                    </p:set>
                                    <p:animEffect filter="wheel(4)" transition="in">
                                      <p:cBhvr additive="repl">
                                        <p:cTn id="168" dur="2000"/>
                                        <p:tgtEl>
                                          <p:spTgt spid="179"/>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1" presetSubtype="4">
                                  <p:stCondLst>
                                    <p:cond delay="0"/>
                                  </p:stCondLst>
                                  <p:childTnLst>
                                    <p:set>
                                      <p:cBhvr>
                                        <p:cTn id="172" dur="1" fill="hold">
                                          <p:stCondLst>
                                            <p:cond delay="0"/>
                                          </p:stCondLst>
                                        </p:cTn>
                                        <p:tgtEl>
                                          <p:spTgt spid="182"/>
                                        </p:tgtEl>
                                        <p:attrNameLst>
                                          <p:attrName>style.visibility</p:attrName>
                                        </p:attrNameLst>
                                      </p:cBhvr>
                                      <p:to>
                                        <p:strVal val="visible"/>
                                      </p:to>
                                    </p:set>
                                    <p:animEffect filter="wheel(4)" transition="in">
                                      <p:cBhvr additive="repl">
                                        <p:cTn id="173" dur="2000"/>
                                        <p:tgtEl>
                                          <p:spTgt spid="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28240"/>
            <a:ext cx="8229600" cy="1143000"/>
          </a:xfrm>
          <a:prstGeom prst="rect">
            <a:avLst/>
          </a:prstGeom>
          <a:solidFill>
            <a:srgbClr val="000000"/>
          </a:solidFill>
          <a:ln w="57240">
            <a:solidFill>
              <a:srgbClr val="66ff99"/>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Lucida Console"/>
              </a:rPr>
              <a:t>More Local species</a:t>
            </a:r>
            <a:endParaRPr b="0" lang="en-US" sz="3600" spc="-1" strike="noStrike">
              <a:solidFill>
                <a:srgbClr val="000000"/>
              </a:solidFill>
              <a:latin typeface="Arial"/>
            </a:endParaRPr>
          </a:p>
        </p:txBody>
      </p:sp>
      <p:pic>
        <p:nvPicPr>
          <p:cNvPr id="191" name="Raphidioptera_46750" descr=""/>
          <p:cNvPicPr/>
          <p:nvPr/>
        </p:nvPicPr>
        <p:blipFill>
          <a:blip r:embed="rId2"/>
          <a:stretch/>
        </p:blipFill>
        <p:spPr>
          <a:xfrm>
            <a:off x="380880" y="3809880"/>
            <a:ext cx="3124440" cy="2044800"/>
          </a:xfrm>
          <a:prstGeom prst="rect">
            <a:avLst/>
          </a:prstGeom>
          <a:ln w="57240">
            <a:solidFill>
              <a:srgbClr val="00ffff"/>
            </a:solidFill>
            <a:miter/>
          </a:ln>
        </p:spPr>
      </p:pic>
      <p:sp>
        <p:nvSpPr>
          <p:cNvPr id="192" name=""/>
          <p:cNvSpPr txBox="1"/>
          <p:nvPr/>
        </p:nvSpPr>
        <p:spPr>
          <a:xfrm>
            <a:off x="228600" y="5943600"/>
            <a:ext cx="3505320" cy="533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00"/>
                </a:solidFill>
                <a:latin typeface="Arial Rounded MT Bold"/>
              </a:rPr>
              <a:t>Raphidioptera</a:t>
            </a:r>
            <a:endParaRPr b="0" lang="en-US" sz="1800" spc="1" strike="noStrike">
              <a:ln w="9360">
                <a:solidFill>
                  <a:srgbClr val="000000"/>
                </a:solidFill>
                <a:miter/>
              </a:ln>
              <a:solidFill>
                <a:srgbClr val="ffff00"/>
              </a:solidFill>
              <a:latin typeface="Arial Rounded MT Bold"/>
              <a:ea typeface="Arial Rounded MT Bold"/>
            </a:endParaRPr>
          </a:p>
        </p:txBody>
      </p:sp>
      <p:sp>
        <p:nvSpPr>
          <p:cNvPr id="193" name=""/>
          <p:cNvSpPr/>
          <p:nvPr/>
        </p:nvSpPr>
        <p:spPr>
          <a:xfrm>
            <a:off x="304920" y="6477120"/>
            <a:ext cx="3504960" cy="0"/>
          </a:xfrm>
          <a:prstGeom prst="line">
            <a:avLst/>
          </a:prstGeom>
          <a:ln cap="rnd" w="57240">
            <a:solidFill>
              <a:srgbClr val="80008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94" name="images" descr="">
            <a:hlinkClick r:id="rId3"/>
          </p:cNvPr>
          <p:cNvPicPr/>
          <p:nvPr/>
        </p:nvPicPr>
        <p:blipFill>
          <a:blip r:embed="rId4"/>
          <a:stretch/>
        </p:blipFill>
        <p:spPr>
          <a:xfrm>
            <a:off x="5181480" y="3919680"/>
            <a:ext cx="3429000" cy="1944720"/>
          </a:xfrm>
          <a:prstGeom prst="rect">
            <a:avLst/>
          </a:prstGeom>
          <a:ln w="57240">
            <a:solidFill>
              <a:srgbClr val="ffff00"/>
            </a:solidFill>
            <a:miter/>
          </a:ln>
        </p:spPr>
      </p:pic>
      <p:sp>
        <p:nvSpPr>
          <p:cNvPr id="195" name=""/>
          <p:cNvSpPr txBox="1"/>
          <p:nvPr/>
        </p:nvSpPr>
        <p:spPr>
          <a:xfrm>
            <a:off x="5257800" y="5943600"/>
            <a:ext cx="32004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00"/>
                </a:solidFill>
                <a:latin typeface="Arial Rounded MT Bold"/>
              </a:rPr>
              <a:t>Zoraptera</a:t>
            </a:r>
            <a:endParaRPr b="0" lang="en-US" sz="1800" spc="1" strike="noStrike">
              <a:ln w="9360">
                <a:solidFill>
                  <a:srgbClr val="000000"/>
                </a:solidFill>
                <a:miter/>
              </a:ln>
              <a:solidFill>
                <a:srgbClr val="ffff00"/>
              </a:solidFill>
              <a:latin typeface="Arial Rounded MT Bold"/>
              <a:ea typeface="Arial Rounded MT Bold"/>
            </a:endParaRPr>
          </a:p>
        </p:txBody>
      </p:sp>
      <p:sp>
        <p:nvSpPr>
          <p:cNvPr id="196" name=""/>
          <p:cNvSpPr/>
          <p:nvPr/>
        </p:nvSpPr>
        <p:spPr>
          <a:xfrm>
            <a:off x="5257800" y="6400800"/>
            <a:ext cx="3276720" cy="0"/>
          </a:xfrm>
          <a:prstGeom prst="line">
            <a:avLst/>
          </a:prstGeom>
          <a:ln cap="rnd" w="57240">
            <a:solidFill>
              <a:srgbClr val="80008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97" name="images" descr="">
            <a:hlinkClick r:id="rId5"/>
          </p:cNvPr>
          <p:cNvPicPr/>
          <p:nvPr/>
        </p:nvPicPr>
        <p:blipFill>
          <a:blip r:embed="rId6"/>
          <a:stretch/>
        </p:blipFill>
        <p:spPr>
          <a:xfrm>
            <a:off x="3352680" y="1371600"/>
            <a:ext cx="2276640" cy="2438280"/>
          </a:xfrm>
          <a:prstGeom prst="rect">
            <a:avLst/>
          </a:prstGeom>
          <a:ln w="57240">
            <a:solidFill>
              <a:srgbClr val="cc99ff"/>
            </a:solidFill>
            <a:miter/>
          </a:ln>
        </p:spPr>
      </p:pic>
      <p:sp>
        <p:nvSpPr>
          <p:cNvPr id="198" name=""/>
          <p:cNvSpPr txBox="1"/>
          <p:nvPr/>
        </p:nvSpPr>
        <p:spPr>
          <a:xfrm>
            <a:off x="2971800" y="3581280"/>
            <a:ext cx="3200400" cy="533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00"/>
                  </a:solidFill>
                  <a:miter/>
                </a:ln>
                <a:solidFill>
                  <a:srgbClr val="ffff00"/>
                </a:solidFill>
                <a:latin typeface="Arial Rounded MT Bold"/>
              </a:rPr>
              <a:t>Galloisiana</a:t>
            </a:r>
            <a:endParaRPr b="0" lang="en-US" sz="1800" spc="1" strike="noStrike">
              <a:ln w="12600">
                <a:solidFill>
                  <a:srgbClr val="000000"/>
                </a:solidFill>
                <a:miter/>
              </a:ln>
              <a:solidFill>
                <a:srgbClr val="ffff00"/>
              </a:solidFill>
              <a:latin typeface="Arial Rounded MT Bold"/>
              <a:ea typeface="Arial Rounded MT Bold"/>
            </a:endParaRPr>
          </a:p>
        </p:txBody>
      </p:sp>
      <p:sp>
        <p:nvSpPr>
          <p:cNvPr id="199" name=""/>
          <p:cNvSpPr/>
          <p:nvPr/>
        </p:nvSpPr>
        <p:spPr>
          <a:xfrm>
            <a:off x="2895480" y="4191120"/>
            <a:ext cx="3505320" cy="0"/>
          </a:xfrm>
          <a:prstGeom prst="line">
            <a:avLst/>
          </a:prstGeom>
          <a:ln cap="rnd" w="57240">
            <a:solidFill>
              <a:srgbClr val="80008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0" y="2971800"/>
            <a:ext cx="274680" cy="274680"/>
          </a:xfrm>
          <a:custGeom>
            <a:avLst/>
            <a:gdLst>
              <a:gd name="textAreaLeft" fmla="*/ 64440 w 274680"/>
              <a:gd name="textAreaRight" fmla="*/ 209880 w 274680"/>
              <a:gd name="textAreaTop" fmla="*/ 32040 h 274680"/>
              <a:gd name="textAreaBottom" fmla="*/ 172440 h 274680"/>
            </a:gdLst>
            <a:ahLst/>
            <a:rect l="textAreaLeft" t="textAreaTop" r="textAreaRight" b="textAreaBottom"/>
            <a:pathLst>
              <a:path w="21615" h="21602">
                <a:moveTo>
                  <a:pt x="10800" y="21599"/>
                </a:moveTo>
                <a:lnTo>
                  <a:pt x="321" y="6886"/>
                </a:lnTo>
                <a:lnTo>
                  <a:pt x="70" y="6036"/>
                </a:lnTo>
                <a:cubicBezTo>
                  <a:pt x="-9" y="5766"/>
                  <a:pt x="-1" y="5474"/>
                  <a:pt x="2" y="5192"/>
                </a:cubicBezTo>
                <a:cubicBezTo>
                  <a:pt x="6" y="4918"/>
                  <a:pt x="43" y="4641"/>
                  <a:pt x="101" y="4370"/>
                </a:cubicBezTo>
                <a:cubicBezTo>
                  <a:pt x="159" y="4103"/>
                  <a:pt x="245" y="3837"/>
                  <a:pt x="353" y="3582"/>
                </a:cubicBezTo>
                <a:cubicBezTo>
                  <a:pt x="460" y="3326"/>
                  <a:pt x="591" y="3077"/>
                  <a:pt x="741" y="2839"/>
                </a:cubicBezTo>
                <a:cubicBezTo>
                  <a:pt x="892" y="2598"/>
                  <a:pt x="1066" y="2369"/>
                  <a:pt x="1253" y="2155"/>
                </a:cubicBezTo>
                <a:cubicBezTo>
                  <a:pt x="1443" y="1938"/>
                  <a:pt x="1651" y="1732"/>
                  <a:pt x="1874" y="1543"/>
                </a:cubicBezTo>
                <a:cubicBezTo>
                  <a:pt x="2097" y="1351"/>
                  <a:pt x="2337" y="1174"/>
                  <a:pt x="2587" y="1014"/>
                </a:cubicBezTo>
                <a:cubicBezTo>
                  <a:pt x="2839" y="854"/>
                  <a:pt x="3106" y="708"/>
                  <a:pt x="3380" y="584"/>
                </a:cubicBezTo>
                <a:cubicBezTo>
                  <a:pt x="3656" y="459"/>
                  <a:pt x="3945" y="350"/>
                  <a:pt x="4237" y="264"/>
                </a:cubicBezTo>
                <a:cubicBezTo>
                  <a:pt x="4533" y="176"/>
                  <a:pt x="4838" y="108"/>
                  <a:pt x="5144" y="66"/>
                </a:cubicBezTo>
                <a:cubicBezTo>
                  <a:pt x="5454" y="22"/>
                  <a:pt x="5771" y="1"/>
                  <a:pt x="6086" y="3"/>
                </a:cubicBezTo>
                <a:cubicBezTo>
                  <a:pt x="6407" y="7"/>
                  <a:pt x="6731" y="35"/>
                  <a:pt x="7048" y="89"/>
                </a:cubicBezTo>
                <a:cubicBezTo>
                  <a:pt x="7374" y="144"/>
                  <a:pt x="7700" y="226"/>
                  <a:pt x="8015" y="335"/>
                </a:cubicBezTo>
                <a:cubicBezTo>
                  <a:pt x="8344" y="447"/>
                  <a:pt x="8667" y="590"/>
                  <a:pt x="8972" y="756"/>
                </a:cubicBezTo>
                <a:cubicBezTo>
                  <a:pt x="9297" y="932"/>
                  <a:pt x="9613" y="1135"/>
                  <a:pt x="9907" y="1363"/>
                </a:cubicBezTo>
                <a:cubicBezTo>
                  <a:pt x="10224" y="1609"/>
                  <a:pt x="10504" y="1900"/>
                  <a:pt x="10802" y="2169"/>
                </a:cubicBezTo>
                <a:lnTo>
                  <a:pt x="11697" y="1363"/>
                </a:lnTo>
                <a:cubicBezTo>
                  <a:pt x="11971" y="1116"/>
                  <a:pt x="12304" y="934"/>
                  <a:pt x="12630" y="756"/>
                </a:cubicBezTo>
                <a:cubicBezTo>
                  <a:pt x="12935" y="590"/>
                  <a:pt x="13528" y="450"/>
                  <a:pt x="13589" y="335"/>
                </a:cubicBezTo>
                <a:cubicBezTo>
                  <a:pt x="13901" y="226"/>
                  <a:pt x="14227" y="144"/>
                  <a:pt x="14556" y="89"/>
                </a:cubicBezTo>
                <a:cubicBezTo>
                  <a:pt x="14872" y="35"/>
                  <a:pt x="15195" y="7"/>
                  <a:pt x="15517" y="3"/>
                </a:cubicBezTo>
                <a:cubicBezTo>
                  <a:pt x="15830" y="0"/>
                  <a:pt x="16147" y="22"/>
                  <a:pt x="16458" y="66"/>
                </a:cubicBezTo>
                <a:cubicBezTo>
                  <a:pt x="16764" y="109"/>
                  <a:pt x="17068" y="177"/>
                  <a:pt x="17365" y="264"/>
                </a:cubicBezTo>
                <a:cubicBezTo>
                  <a:pt x="17658" y="349"/>
                  <a:pt x="17946" y="458"/>
                  <a:pt x="18222" y="584"/>
                </a:cubicBezTo>
                <a:cubicBezTo>
                  <a:pt x="18496" y="708"/>
                  <a:pt x="18762" y="854"/>
                  <a:pt x="19015" y="1014"/>
                </a:cubicBezTo>
                <a:cubicBezTo>
                  <a:pt x="19264" y="1172"/>
                  <a:pt x="19504" y="1349"/>
                  <a:pt x="19730" y="1543"/>
                </a:cubicBezTo>
                <a:cubicBezTo>
                  <a:pt x="19950" y="1731"/>
                  <a:pt x="20158" y="1937"/>
                  <a:pt x="20350" y="2155"/>
                </a:cubicBezTo>
                <a:cubicBezTo>
                  <a:pt x="20536" y="2369"/>
                  <a:pt x="20710" y="2598"/>
                  <a:pt x="20861" y="2839"/>
                </a:cubicBezTo>
                <a:cubicBezTo>
                  <a:pt x="21010" y="3074"/>
                  <a:pt x="21143" y="3323"/>
                  <a:pt x="21251" y="3582"/>
                </a:cubicBezTo>
                <a:cubicBezTo>
                  <a:pt x="21357" y="3835"/>
                  <a:pt x="21443" y="4099"/>
                  <a:pt x="21502" y="4370"/>
                </a:cubicBezTo>
                <a:cubicBezTo>
                  <a:pt x="21561" y="4639"/>
                  <a:pt x="21595" y="4916"/>
                  <a:pt x="21600" y="5192"/>
                </a:cubicBezTo>
                <a:cubicBezTo>
                  <a:pt x="21606" y="5474"/>
                  <a:pt x="21584" y="5760"/>
                  <a:pt x="21532" y="6036"/>
                </a:cubicBezTo>
                <a:cubicBezTo>
                  <a:pt x="21478" y="6326"/>
                  <a:pt x="21366" y="6603"/>
                  <a:pt x="21282" y="6887"/>
                </a:cubicBezTo>
                <a:lnTo>
                  <a:pt x="10802" y="21602"/>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med">
    <p:dissolve/>
  </p:transition>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mph" presetID="34">
                                  <p:stCondLst>
                                    <p:cond delay="0"/>
                                  </p:stCondLst>
                                  <p:iterate type="lt">
                                    <p:tmAbs val="50"/>
                                  </p:iterate>
                                  <p:childTnLst>
                                    <p:animMotion origin="layout" path="M 0 0 L 0 -0.07213 E">
                                      <p:cBhvr>
                                        <p:cTn id="179" dur="250" autoRev="1" fill="hold">
                                          <p:stCondLst>
                                            <p:cond delay="0"/>
                                          </p:stCondLst>
                                        </p:cTn>
                                        <p:tgtEl>
                                          <p:spTgt spid="190"/>
                                        </p:tgtEl>
                                      </p:cBhvr>
                                    </p:animMotion>
                                    <p:animRot by="1500000">
                                      <p:cBhvr>
                                        <p:cTn id="180" dur="125" fill="hold">
                                          <p:stCondLst>
                                            <p:cond delay="0"/>
                                          </p:stCondLst>
                                        </p:cTn>
                                        <p:tgtEl>
                                          <p:spTgt spid="190"/>
                                        </p:tgtEl>
                                        <p:attrNameLst>
                                          <p:attrName>r</p:attrName>
                                        </p:attrNameLst>
                                      </p:cBhvr>
                                    </p:animRot>
                                    <p:animRot by="-1500000">
                                      <p:cBhvr>
                                        <p:cTn id="181" dur="125" fill="hold">
                                          <p:stCondLst>
                                            <p:cond delay="125"/>
                                          </p:stCondLst>
                                        </p:cTn>
                                        <p:tgtEl>
                                          <p:spTgt spid="190"/>
                                        </p:tgtEl>
                                        <p:attrNameLst>
                                          <p:attrName>r</p:attrName>
                                        </p:attrNameLst>
                                      </p:cBhvr>
                                    </p:animRot>
                                    <p:animRot by="-1500000">
                                      <p:cBhvr>
                                        <p:cTn id="182" dur="125" fill="hold">
                                          <p:stCondLst>
                                            <p:cond delay="250"/>
                                          </p:stCondLst>
                                        </p:cTn>
                                        <p:tgtEl>
                                          <p:spTgt spid="190"/>
                                        </p:tgtEl>
                                        <p:attrNameLst>
                                          <p:attrName>r</p:attrName>
                                        </p:attrNameLst>
                                      </p:cBhvr>
                                    </p:animRot>
                                    <p:animRot by="1500000">
                                      <p:cBhvr>
                                        <p:cTn id="183" dur="125" fill="hold">
                                          <p:stCondLst>
                                            <p:cond delay="375"/>
                                          </p:stCondLst>
                                        </p:cTn>
                                        <p:tgtEl>
                                          <p:spTgt spid="190"/>
                                        </p:tgtEl>
                                        <p:attrNameLst>
                                          <p:attrName>r</p:attrName>
                                        </p:attrNameLst>
                                      </p:cBhvr>
                                    </p:animRo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6" presetSubtype="16">
                                  <p:stCondLst>
                                    <p:cond delay="0"/>
                                  </p:stCondLst>
                                  <p:childTnLst>
                                    <p:set>
                                      <p:cBhvr>
                                        <p:cTn id="187" dur="1" fill="hold">
                                          <p:stCondLst>
                                            <p:cond delay="0"/>
                                          </p:stCondLst>
                                        </p:cTn>
                                        <p:tgtEl>
                                          <p:spTgt spid="197"/>
                                        </p:tgtEl>
                                        <p:attrNameLst>
                                          <p:attrName>style.visibility</p:attrName>
                                        </p:attrNameLst>
                                      </p:cBhvr>
                                      <p:to>
                                        <p:strVal val="visible"/>
                                      </p:to>
                                    </p:set>
                                    <p:animEffect filter="circle(in)" transition="in">
                                      <p:cBhvr additive="repl">
                                        <p:cTn id="188" dur="2000"/>
                                        <p:tgtEl>
                                          <p:spTgt spid="197"/>
                                        </p:tgtEl>
                                      </p:cBhvr>
                                    </p:animEffec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6" presetSubtype="16">
                                  <p:stCondLst>
                                    <p:cond delay="0"/>
                                  </p:stCondLst>
                                  <p:childTnLst>
                                    <p:set>
                                      <p:cBhvr>
                                        <p:cTn id="192" dur="1" fill="hold">
                                          <p:stCondLst>
                                            <p:cond delay="0"/>
                                          </p:stCondLst>
                                        </p:cTn>
                                        <p:tgtEl>
                                          <p:spTgt spid="191"/>
                                        </p:tgtEl>
                                        <p:attrNameLst>
                                          <p:attrName>style.visibility</p:attrName>
                                        </p:attrNameLst>
                                      </p:cBhvr>
                                      <p:to>
                                        <p:strVal val="visible"/>
                                      </p:to>
                                    </p:set>
                                    <p:animEffect filter="circle(in)" transition="in">
                                      <p:cBhvr additive="repl">
                                        <p:cTn id="193" dur="2000"/>
                                        <p:tgtEl>
                                          <p:spTgt spid="191"/>
                                        </p:tgtEl>
                                      </p:cBhvr>
                                    </p:animEffec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6" presetSubtype="16">
                                  <p:stCondLst>
                                    <p:cond delay="0"/>
                                  </p:stCondLst>
                                  <p:childTnLst>
                                    <p:set>
                                      <p:cBhvr>
                                        <p:cTn id="197" dur="1" fill="hold">
                                          <p:stCondLst>
                                            <p:cond delay="0"/>
                                          </p:stCondLst>
                                        </p:cTn>
                                        <p:tgtEl>
                                          <p:spTgt spid="194"/>
                                        </p:tgtEl>
                                        <p:attrNameLst>
                                          <p:attrName>style.visibility</p:attrName>
                                        </p:attrNameLst>
                                      </p:cBhvr>
                                      <p:to>
                                        <p:strVal val="visible"/>
                                      </p:to>
                                    </p:set>
                                    <p:animEffect filter="circle(in)" transition="in">
                                      <p:cBhvr additive="repl">
                                        <p:cTn id="198" dur="2000"/>
                                        <p:tgtEl>
                                          <p:spTgt spid="1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solidFill>
            <a:srgbClr val="000000"/>
          </a:solidFill>
          <a:ln w="57240">
            <a:solidFill>
              <a:srgbClr val="ffff00"/>
            </a:solidFill>
            <a:prstDash val="dash"/>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00"/>
                </a:solidFill>
                <a:latin typeface="Lucida Console"/>
              </a:rPr>
              <a:t>More local species</a:t>
            </a:r>
            <a:endParaRPr b="0" lang="en-US" sz="3600" spc="-1" strike="noStrike">
              <a:solidFill>
                <a:srgbClr val="000000"/>
              </a:solidFill>
              <a:latin typeface="Arial"/>
            </a:endParaRPr>
          </a:p>
        </p:txBody>
      </p:sp>
      <p:sp>
        <p:nvSpPr>
          <p:cNvPr id="202" name=""/>
          <p:cNvSpPr/>
          <p:nvPr/>
        </p:nvSpPr>
        <p:spPr>
          <a:xfrm>
            <a:off x="0" y="4114800"/>
            <a:ext cx="3505320" cy="0"/>
          </a:xfrm>
          <a:prstGeom prst="line">
            <a:avLst/>
          </a:prstGeom>
          <a:ln cap="rnd" w="57240">
            <a:solidFill>
              <a:srgbClr val="80008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03" name="wild16" descr=""/>
          <p:cNvPicPr/>
          <p:nvPr/>
        </p:nvPicPr>
        <p:blipFill>
          <a:blip r:embed="rId2"/>
          <a:stretch/>
        </p:blipFill>
        <p:spPr>
          <a:xfrm>
            <a:off x="304920" y="1523880"/>
            <a:ext cx="2361960" cy="1944720"/>
          </a:xfrm>
          <a:prstGeom prst="rect">
            <a:avLst/>
          </a:prstGeom>
          <a:ln w="57240">
            <a:solidFill>
              <a:srgbClr val="ff6600"/>
            </a:solidFill>
            <a:miter/>
          </a:ln>
        </p:spPr>
      </p:pic>
      <p:sp>
        <p:nvSpPr>
          <p:cNvPr id="204" name=""/>
          <p:cNvSpPr txBox="1"/>
          <p:nvPr/>
        </p:nvSpPr>
        <p:spPr>
          <a:xfrm>
            <a:off x="0" y="3581280"/>
            <a:ext cx="335268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00"/>
                </a:solidFill>
                <a:latin typeface="Arial Rounded MT Bold"/>
              </a:rPr>
              <a:t>Neuroptera</a:t>
            </a:r>
            <a:endParaRPr b="0" lang="en-US" sz="1800" spc="1" strike="noStrike">
              <a:ln w="9360">
                <a:solidFill>
                  <a:srgbClr val="000000"/>
                </a:solidFill>
                <a:miter/>
              </a:ln>
              <a:solidFill>
                <a:srgbClr val="ffff00"/>
              </a:solidFill>
              <a:latin typeface="Arial Rounded MT Bold"/>
              <a:ea typeface="Arial Rounded MT Bold"/>
            </a:endParaRPr>
          </a:p>
        </p:txBody>
      </p:sp>
      <p:pic>
        <p:nvPicPr>
          <p:cNvPr id="205" name="images" descr="">
            <a:hlinkClick r:id="rId3"/>
          </p:cNvPr>
          <p:cNvPicPr/>
          <p:nvPr/>
        </p:nvPicPr>
        <p:blipFill>
          <a:blip r:embed="rId4"/>
          <a:stretch/>
        </p:blipFill>
        <p:spPr>
          <a:xfrm>
            <a:off x="3657600" y="2209680"/>
            <a:ext cx="2243160" cy="2438640"/>
          </a:xfrm>
          <a:prstGeom prst="rect">
            <a:avLst/>
          </a:prstGeom>
          <a:ln w="57240">
            <a:solidFill>
              <a:srgbClr val="000000"/>
            </a:solidFill>
            <a:miter/>
          </a:ln>
        </p:spPr>
      </p:pic>
      <p:sp>
        <p:nvSpPr>
          <p:cNvPr id="206" name=""/>
          <p:cNvSpPr txBox="1"/>
          <p:nvPr/>
        </p:nvSpPr>
        <p:spPr>
          <a:xfrm>
            <a:off x="3200400" y="4419720"/>
            <a:ext cx="3276720" cy="533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00"/>
                </a:solidFill>
                <a:latin typeface="Arial Rounded MT Bold"/>
              </a:rPr>
              <a:t>Notoptera</a:t>
            </a:r>
            <a:endParaRPr b="0" lang="en-US" sz="1800" spc="1" strike="noStrike">
              <a:ln w="9360">
                <a:solidFill>
                  <a:srgbClr val="000000"/>
                </a:solidFill>
                <a:miter/>
              </a:ln>
              <a:solidFill>
                <a:srgbClr val="ffff00"/>
              </a:solidFill>
              <a:latin typeface="Arial Rounded MT Bold"/>
              <a:ea typeface="Arial Rounded MT Bold"/>
            </a:endParaRPr>
          </a:p>
        </p:txBody>
      </p:sp>
      <p:sp>
        <p:nvSpPr>
          <p:cNvPr id="207" name=""/>
          <p:cNvSpPr/>
          <p:nvPr/>
        </p:nvSpPr>
        <p:spPr>
          <a:xfrm>
            <a:off x="3048120" y="4952880"/>
            <a:ext cx="3504960" cy="0"/>
          </a:xfrm>
          <a:prstGeom prst="line">
            <a:avLst/>
          </a:prstGeom>
          <a:ln cap="rnd" w="57240">
            <a:solidFill>
              <a:srgbClr val="80008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08" name="chloronia3" descr=""/>
          <p:cNvPicPr/>
          <p:nvPr/>
        </p:nvPicPr>
        <p:blipFill>
          <a:blip r:embed="rId5"/>
          <a:stretch/>
        </p:blipFill>
        <p:spPr>
          <a:xfrm>
            <a:off x="6629400" y="3733920"/>
            <a:ext cx="2286000" cy="1612800"/>
          </a:xfrm>
          <a:prstGeom prst="rect">
            <a:avLst/>
          </a:prstGeom>
          <a:ln w="57240">
            <a:solidFill>
              <a:srgbClr val="ff99cc"/>
            </a:solidFill>
            <a:miter/>
          </a:ln>
        </p:spPr>
      </p:pic>
      <p:sp>
        <p:nvSpPr>
          <p:cNvPr id="209" name=""/>
          <p:cNvSpPr txBox="1"/>
          <p:nvPr/>
        </p:nvSpPr>
        <p:spPr>
          <a:xfrm>
            <a:off x="5562720" y="5410080"/>
            <a:ext cx="358128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00"/>
                </a:solidFill>
                <a:latin typeface="Arial Rounded MT Bold"/>
              </a:rPr>
              <a:t>Neuropterida</a:t>
            </a:r>
            <a:endParaRPr b="0" lang="en-US" sz="1800" spc="1" strike="noStrike">
              <a:ln w="9360">
                <a:solidFill>
                  <a:srgbClr val="000000"/>
                </a:solidFill>
                <a:miter/>
              </a:ln>
              <a:solidFill>
                <a:srgbClr val="ffff00"/>
              </a:solidFill>
              <a:latin typeface="Arial Rounded MT Bold"/>
              <a:ea typeface="Arial Rounded MT Bold"/>
            </a:endParaRPr>
          </a:p>
        </p:txBody>
      </p:sp>
      <p:sp>
        <p:nvSpPr>
          <p:cNvPr id="210" name=""/>
          <p:cNvSpPr/>
          <p:nvPr/>
        </p:nvSpPr>
        <p:spPr>
          <a:xfrm>
            <a:off x="5486400" y="5867280"/>
            <a:ext cx="3657600" cy="0"/>
          </a:xfrm>
          <a:prstGeom prst="line">
            <a:avLst/>
          </a:prstGeom>
          <a:ln cap="rnd" w="57240">
            <a:solidFill>
              <a:srgbClr val="80008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0" y="2971800"/>
            <a:ext cx="274680" cy="274680"/>
          </a:xfrm>
          <a:custGeom>
            <a:avLst/>
            <a:gdLst>
              <a:gd name="textAreaLeft" fmla="*/ 64440 w 274680"/>
              <a:gd name="textAreaRight" fmla="*/ 209880 w 274680"/>
              <a:gd name="textAreaTop" fmla="*/ 32040 h 274680"/>
              <a:gd name="textAreaBottom" fmla="*/ 172440 h 274680"/>
            </a:gdLst>
            <a:ahLst/>
            <a:rect l="textAreaLeft" t="textAreaTop" r="textAreaRight" b="textAreaBottom"/>
            <a:pathLst>
              <a:path w="21615" h="21602">
                <a:moveTo>
                  <a:pt x="10800" y="21599"/>
                </a:moveTo>
                <a:lnTo>
                  <a:pt x="321" y="6886"/>
                </a:lnTo>
                <a:lnTo>
                  <a:pt x="70" y="6036"/>
                </a:lnTo>
                <a:cubicBezTo>
                  <a:pt x="-9" y="5766"/>
                  <a:pt x="-1" y="5474"/>
                  <a:pt x="2" y="5192"/>
                </a:cubicBezTo>
                <a:cubicBezTo>
                  <a:pt x="6" y="4918"/>
                  <a:pt x="43" y="4641"/>
                  <a:pt x="101" y="4370"/>
                </a:cubicBezTo>
                <a:cubicBezTo>
                  <a:pt x="159" y="4103"/>
                  <a:pt x="245" y="3837"/>
                  <a:pt x="353" y="3582"/>
                </a:cubicBezTo>
                <a:cubicBezTo>
                  <a:pt x="460" y="3326"/>
                  <a:pt x="591" y="3077"/>
                  <a:pt x="741" y="2839"/>
                </a:cubicBezTo>
                <a:cubicBezTo>
                  <a:pt x="892" y="2598"/>
                  <a:pt x="1066" y="2369"/>
                  <a:pt x="1253" y="2155"/>
                </a:cubicBezTo>
                <a:cubicBezTo>
                  <a:pt x="1443" y="1938"/>
                  <a:pt x="1651" y="1732"/>
                  <a:pt x="1874" y="1543"/>
                </a:cubicBezTo>
                <a:cubicBezTo>
                  <a:pt x="2097" y="1351"/>
                  <a:pt x="2337" y="1174"/>
                  <a:pt x="2587" y="1014"/>
                </a:cubicBezTo>
                <a:cubicBezTo>
                  <a:pt x="2839" y="854"/>
                  <a:pt x="3106" y="708"/>
                  <a:pt x="3380" y="584"/>
                </a:cubicBezTo>
                <a:cubicBezTo>
                  <a:pt x="3656" y="459"/>
                  <a:pt x="3945" y="350"/>
                  <a:pt x="4237" y="264"/>
                </a:cubicBezTo>
                <a:cubicBezTo>
                  <a:pt x="4533" y="176"/>
                  <a:pt x="4838" y="108"/>
                  <a:pt x="5144" y="66"/>
                </a:cubicBezTo>
                <a:cubicBezTo>
                  <a:pt x="5454" y="22"/>
                  <a:pt x="5771" y="1"/>
                  <a:pt x="6086" y="3"/>
                </a:cubicBezTo>
                <a:cubicBezTo>
                  <a:pt x="6407" y="7"/>
                  <a:pt x="6731" y="35"/>
                  <a:pt x="7048" y="89"/>
                </a:cubicBezTo>
                <a:cubicBezTo>
                  <a:pt x="7374" y="144"/>
                  <a:pt x="7700" y="226"/>
                  <a:pt x="8015" y="335"/>
                </a:cubicBezTo>
                <a:cubicBezTo>
                  <a:pt x="8344" y="447"/>
                  <a:pt x="8667" y="590"/>
                  <a:pt x="8972" y="756"/>
                </a:cubicBezTo>
                <a:cubicBezTo>
                  <a:pt x="9297" y="932"/>
                  <a:pt x="9613" y="1135"/>
                  <a:pt x="9907" y="1363"/>
                </a:cubicBezTo>
                <a:cubicBezTo>
                  <a:pt x="10224" y="1609"/>
                  <a:pt x="10504" y="1900"/>
                  <a:pt x="10802" y="2169"/>
                </a:cubicBezTo>
                <a:lnTo>
                  <a:pt x="11697" y="1363"/>
                </a:lnTo>
                <a:cubicBezTo>
                  <a:pt x="11971" y="1116"/>
                  <a:pt x="12304" y="934"/>
                  <a:pt x="12630" y="756"/>
                </a:cubicBezTo>
                <a:cubicBezTo>
                  <a:pt x="12935" y="590"/>
                  <a:pt x="13528" y="450"/>
                  <a:pt x="13589" y="335"/>
                </a:cubicBezTo>
                <a:cubicBezTo>
                  <a:pt x="13901" y="226"/>
                  <a:pt x="14227" y="144"/>
                  <a:pt x="14556" y="89"/>
                </a:cubicBezTo>
                <a:cubicBezTo>
                  <a:pt x="14872" y="35"/>
                  <a:pt x="15195" y="7"/>
                  <a:pt x="15517" y="3"/>
                </a:cubicBezTo>
                <a:cubicBezTo>
                  <a:pt x="15830" y="0"/>
                  <a:pt x="16147" y="22"/>
                  <a:pt x="16458" y="66"/>
                </a:cubicBezTo>
                <a:cubicBezTo>
                  <a:pt x="16764" y="109"/>
                  <a:pt x="17068" y="177"/>
                  <a:pt x="17365" y="264"/>
                </a:cubicBezTo>
                <a:cubicBezTo>
                  <a:pt x="17658" y="349"/>
                  <a:pt x="17946" y="458"/>
                  <a:pt x="18222" y="584"/>
                </a:cubicBezTo>
                <a:cubicBezTo>
                  <a:pt x="18496" y="708"/>
                  <a:pt x="18762" y="854"/>
                  <a:pt x="19015" y="1014"/>
                </a:cubicBezTo>
                <a:cubicBezTo>
                  <a:pt x="19264" y="1172"/>
                  <a:pt x="19504" y="1349"/>
                  <a:pt x="19730" y="1543"/>
                </a:cubicBezTo>
                <a:cubicBezTo>
                  <a:pt x="19950" y="1731"/>
                  <a:pt x="20158" y="1937"/>
                  <a:pt x="20350" y="2155"/>
                </a:cubicBezTo>
                <a:cubicBezTo>
                  <a:pt x="20536" y="2369"/>
                  <a:pt x="20710" y="2598"/>
                  <a:pt x="20861" y="2839"/>
                </a:cubicBezTo>
                <a:cubicBezTo>
                  <a:pt x="21010" y="3074"/>
                  <a:pt x="21143" y="3323"/>
                  <a:pt x="21251" y="3582"/>
                </a:cubicBezTo>
                <a:cubicBezTo>
                  <a:pt x="21357" y="3835"/>
                  <a:pt x="21443" y="4099"/>
                  <a:pt x="21502" y="4370"/>
                </a:cubicBezTo>
                <a:cubicBezTo>
                  <a:pt x="21561" y="4639"/>
                  <a:pt x="21595" y="4916"/>
                  <a:pt x="21600" y="5192"/>
                </a:cubicBezTo>
                <a:cubicBezTo>
                  <a:pt x="21606" y="5474"/>
                  <a:pt x="21584" y="5760"/>
                  <a:pt x="21532" y="6036"/>
                </a:cubicBezTo>
                <a:cubicBezTo>
                  <a:pt x="21478" y="6326"/>
                  <a:pt x="21366" y="6603"/>
                  <a:pt x="21282" y="6887"/>
                </a:cubicBezTo>
                <a:lnTo>
                  <a:pt x="10802" y="21602"/>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blinds dir="vert"/>
  </p:transition>
  <p:timing>
    <p:tnLst>
      <p:par>
        <p:cTn id="199" dur="indefinite" restart="never" nodeType="tmRoot">
          <p:childTnLst>
            <p:seq>
              <p:cTn id="200" dur="indefinite" nodeType="mainSeq">
                <p:childTnLst>
                  <p:par>
                    <p:cTn id="201" fill="hold">
                      <p:stCondLst>
                        <p:cond delay="indefinite"/>
                      </p:stCondLst>
                      <p:childTnLst>
                        <p:par>
                          <p:cTn id="202" fill="hold">
                            <p:stCondLst>
                              <p:cond delay="0"/>
                            </p:stCondLst>
                            <p:childTnLst>
                              <p:par>
                                <p:cTn id="203" nodeType="clickEffect" fill="hold" presetClass="entr" presetID="7" presetSubtype="4">
                                  <p:stCondLst>
                                    <p:cond delay="0"/>
                                  </p:stCondLst>
                                  <p:childTnLst>
                                    <p:set>
                                      <p:cBhvr>
                                        <p:cTn id="204" dur="1" fill="hold">
                                          <p:stCondLst>
                                            <p:cond delay="0"/>
                                          </p:stCondLst>
                                        </p:cTn>
                                        <p:tgtEl>
                                          <p:spTgt spid="201"/>
                                        </p:tgtEl>
                                        <p:attrNameLst>
                                          <p:attrName>style.visibility</p:attrName>
                                        </p:attrNameLst>
                                      </p:cBhvr>
                                      <p:to>
                                        <p:strVal val="visible"/>
                                      </p:to>
                                    </p:set>
                                    <p:anim calcmode="lin" valueType="num">
                                      <p:cBhvr additive="base">
                                        <p:cTn id="205" dur="2000" fill="hold"/>
                                        <p:tgtEl>
                                          <p:spTgt spid="201"/>
                                        </p:tgtEl>
                                        <p:attrNameLst>
                                          <p:attrName>ppt_x</p:attrName>
                                        </p:attrNameLst>
                                      </p:cBhvr>
                                      <p:tavLst>
                                        <p:tav tm="0">
                                          <p:val>
                                            <p:strVal val="#ppt_x"/>
                                          </p:val>
                                        </p:tav>
                                        <p:tav tm="100000">
                                          <p:val>
                                            <p:strVal val="#ppt_x"/>
                                          </p:val>
                                        </p:tav>
                                      </p:tavLst>
                                    </p:anim>
                                    <p:anim calcmode="lin" valueType="num">
                                      <p:cBhvr additive="base">
                                        <p:cTn id="206" dur="2000" fill="hold"/>
                                        <p:tgtEl>
                                          <p:spTgt spid="201"/>
                                        </p:tgtEl>
                                        <p:attrNameLst>
                                          <p:attrName>ppt_y</p:attrName>
                                        </p:attrNameLst>
                                      </p:cBhvr>
                                      <p:tavLst>
                                        <p:tav tm="0">
                                          <p:val>
                                            <p:strVal val="1+#ppt_h/2"/>
                                          </p:val>
                                        </p:tav>
                                        <p:tav tm="100000">
                                          <p:val>
                                            <p:strVal val="#ppt_y"/>
                                          </p:val>
                                        </p:tav>
                                      </p:tavLst>
                                    </p:anim>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18" presetSubtype="12">
                                  <p:stCondLst>
                                    <p:cond delay="0"/>
                                  </p:stCondLst>
                                  <p:childTnLst>
                                    <p:set>
                                      <p:cBhvr>
                                        <p:cTn id="210" dur="1" fill="hold">
                                          <p:stCondLst>
                                            <p:cond delay="0"/>
                                          </p:stCondLst>
                                        </p:cTn>
                                        <p:tgtEl>
                                          <p:spTgt spid="203"/>
                                        </p:tgtEl>
                                        <p:attrNameLst>
                                          <p:attrName>style.visibility</p:attrName>
                                        </p:attrNameLst>
                                      </p:cBhvr>
                                      <p:to>
                                        <p:strVal val="visible"/>
                                      </p:to>
                                    </p:set>
                                    <p:animEffect filter="strips(downLeft)" transition="in">
                                      <p:cBhvr additive="repl">
                                        <p:cTn id="211" dur="500"/>
                                        <p:tgtEl>
                                          <p:spTgt spid="203"/>
                                        </p:tgtEl>
                                      </p:cBhvr>
                                    </p:animEffec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18" presetSubtype="12">
                                  <p:stCondLst>
                                    <p:cond delay="0"/>
                                  </p:stCondLst>
                                  <p:childTnLst>
                                    <p:set>
                                      <p:cBhvr>
                                        <p:cTn id="215" dur="1" fill="hold">
                                          <p:stCondLst>
                                            <p:cond delay="0"/>
                                          </p:stCondLst>
                                        </p:cTn>
                                        <p:tgtEl>
                                          <p:spTgt spid="205"/>
                                        </p:tgtEl>
                                        <p:attrNameLst>
                                          <p:attrName>style.visibility</p:attrName>
                                        </p:attrNameLst>
                                      </p:cBhvr>
                                      <p:to>
                                        <p:strVal val="visible"/>
                                      </p:to>
                                    </p:set>
                                    <p:animEffect filter="strips(downLeft)" transition="in">
                                      <p:cBhvr additive="repl">
                                        <p:cTn id="216" dur="500"/>
                                        <p:tgtEl>
                                          <p:spTgt spid="205"/>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8" presetSubtype="12">
                                  <p:stCondLst>
                                    <p:cond delay="0"/>
                                  </p:stCondLst>
                                  <p:childTnLst>
                                    <p:set>
                                      <p:cBhvr>
                                        <p:cTn id="220" dur="1" fill="hold">
                                          <p:stCondLst>
                                            <p:cond delay="0"/>
                                          </p:stCondLst>
                                        </p:cTn>
                                        <p:tgtEl>
                                          <p:spTgt spid="208"/>
                                        </p:tgtEl>
                                        <p:attrNameLst>
                                          <p:attrName>style.visibility</p:attrName>
                                        </p:attrNameLst>
                                      </p:cBhvr>
                                      <p:to>
                                        <p:strVal val="visible"/>
                                      </p:to>
                                    </p:set>
                                    <p:animEffect filter="strips(downLeft)" transition="in">
                                      <p:cBhvr additive="repl">
                                        <p:cTn id="221"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14T09:13:02Z</dcterms:created>
  <dc:creator>Noelleda</dc:creator>
  <dc:description/>
  <dc:language>en-US</dc:language>
  <cp:lastModifiedBy>Noelleda</cp:lastModifiedBy>
  <dcterms:modified xsi:type="dcterms:W3CDTF">2009-10-14T12:18:07Z</dcterms:modified>
  <cp:revision>38</cp:revision>
  <dc:subject/>
  <dc:title>Slide 1</dc:title>
</cp:coreProperties>
</file>