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AAFD-A584-407F-9042-D9E3C7205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C670-0E3C-4992-A61A-410657E7F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165-5D75-451A-89F9-BD43402AD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12AE-258D-4ADB-8148-154A0FDF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9050-8840-4CDE-B536-29E7366B2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911-DCFD-41F9-83F1-C2145705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75A1-1E94-4D1C-BB13-0CE1A897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B9F89-BE12-4A06-9255-9150D8E7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6046-76A0-470E-AB11-F5E31122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DF8-511A-4F65-B464-E626C0EB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7315-D783-4203-8AA7-4FB94087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2FB1-151E-46A9-A095-F1B4033E6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FD6A-33C6-4D74-B13A-FE033A8335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391160" cy="2160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76520" y="2209680"/>
            <a:ext cx="5486400" cy="1671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name is Noelleda Ah S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birthday is on the 2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f December,19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have the exact same birth date as my best friend “Dilshaa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urite subject is sport and 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talents are tennis, running and s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7620120" cy="1523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5943600" cy="149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8534520" cy="158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6:33:40Z</dcterms:created>
  <dc:creator>Noelleda</dc:creator>
  <dc:description/>
  <dc:language>en-US</dc:language>
  <cp:lastModifiedBy>Noelleda</cp:lastModifiedBy>
  <dcterms:modified xsi:type="dcterms:W3CDTF">2009-10-15T06:50:06Z</dcterms:modified>
  <cp:revision>2</cp:revision>
  <dc:subject/>
  <dc:title>Slide 1</dc:title>
</cp:coreProperties>
</file>