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56F9-9641-4B3B-8615-91934A41C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83E-5F4C-4F0D-B1FF-7EFF0545F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C09-F6A1-4576-B139-821916EFE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B7CC-7F71-485F-A20F-0F6183B9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48A-3044-41D6-AE5E-53BB8FB7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6547-25A1-4DD1-A4C9-4DEBECB42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C988-4C27-4550-9F7D-CF6FFA434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26B-A704-498D-8DF9-53DB7B4A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57EE-7FE2-4ABE-A7DC-B4751D5A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6EF7-0BC0-46ED-B3F2-FCCD51D3C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438-536C-42E9-A5D8-EC392D6C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97D3-103C-48C1-AF4F-4423128F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D5B5-442D-4344-AE2E-63387B52E71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91160" cy="216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5486400" cy="167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name is Noelleda Ah S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birthday is on the 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f December,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have the exact same birth date as my best friend “Dilshaa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urite subject is sport and 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talents are tennis, running and s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5943600" cy="149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8534520" cy="158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6:33:40Z</dcterms:created>
  <dc:creator>Noelleda</dc:creator>
  <dc:description/>
  <dc:language>en-US</dc:language>
  <cp:lastModifiedBy>Noelleda</cp:lastModifiedBy>
  <dcterms:modified xsi:type="dcterms:W3CDTF">2009-10-15T06:50:06Z</dcterms:modified>
  <cp:revision>2</cp:revision>
  <dc:subject/>
  <dc:title>Slide 1</dc:title>
</cp:coreProperties>
</file>