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363-8BF4-44E4-B943-D6B64C97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FCB-43DE-4BE9-A428-BEDECCE7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B24-679E-4657-9925-77EAC552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7AE-E932-4C42-BB81-D77645D8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4C1-5C5D-4D0C-939F-C94831D7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F83-D0C3-4BED-B871-9B36EBF8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63E-75F3-47A7-8945-E97CBD88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8E1-8549-4193-A496-D9E47484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D11-6E52-4C72-9778-6F53BCC8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01C-048E-4EB6-8392-00E64481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CCE-5A35-407F-84B0-4F2A3339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E6C5-5213-41D7-9217-FFCD94C8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954C-C1B4-47F5-A57F-1DC66DD8B9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391160" cy="2160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76520" y="2209680"/>
            <a:ext cx="5486400" cy="1671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name is Noelleda Ah S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birthday is on the 2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of December,19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have the exact same birth date as my best friend “Dilshaad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urite subject is sport and 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talents are tennis, running and s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7620120" cy="1523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5943600" cy="149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8534520" cy="1589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6:33:40Z</dcterms:created>
  <dc:creator>Noelleda</dc:creator>
  <dc:description/>
  <dc:language>en-US</dc:language>
  <cp:lastModifiedBy>Noelleda</cp:lastModifiedBy>
  <dcterms:modified xsi:type="dcterms:W3CDTF">2009-10-15T06:50:06Z</dcterms:modified>
  <cp:revision>2</cp:revision>
  <dc:subject/>
  <dc:title>Slide 1</dc:title>
</cp:coreProperties>
</file>