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jpeg" ContentType="image/jpeg"/>
  <Override PartName="/ppt/media/image4.gif" ContentType="image/gif"/>
  <Override PartName="/ppt/media/image5.jpeg" ContentType="image/jpeg"/>
  <Override PartName="/ppt/media/image6.gif" ContentType="image/gif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55CA-0B14-49FA-A243-56B0B2753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FCB3-B00A-4254-8EBE-87CC61230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DBDC-585E-452B-B7A2-B7BE4A410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B551-C85B-4EA5-9BD4-AEEF34160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91FC-7717-473B-95BC-02B77CF0E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6864-F55E-4DCA-933A-16EC2B4E2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D73B-B6F7-4EEF-889A-179DE3592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A20A-DD5C-4830-A4F1-47BAD8167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2108-E964-410A-82B9-6AFE9825B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E8CC-CEE3-40EA-8177-687A567BF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3920-1D92-44E8-95C3-EEC0F027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7DBB-C3C0-4383-87A5-EE1B7F63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23e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c08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c08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274ED-6CFB-4E87-9001-BF43A96F251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50000">
              <a:srgbClr val="a603ab"/>
            </a:gs>
            <a:gs pos="100000">
              <a:srgbClr val="a603a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2120" y="380880"/>
            <a:ext cx="7391160" cy="2160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76520" y="2209680"/>
            <a:ext cx="5486400" cy="16718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y name is Noelleda Ah S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y birthday is on the 2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of December,1997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 have the exact same birth date as my best friend “Dilshaad”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y favourite subject is sport and a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y talents are tennis, running and spor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09480" y="228600"/>
            <a:ext cx="7620120" cy="152388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5943600" cy="1494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3124080"/>
            <a:ext cx="8534520" cy="1589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5T06:33:40Z</dcterms:created>
  <dc:creator>Noelleda</dc:creator>
  <dc:description/>
  <dc:language>en-US</dc:language>
  <cp:lastModifiedBy>Noelleda</cp:lastModifiedBy>
  <dcterms:modified xsi:type="dcterms:W3CDTF">2009-10-15T06:50:06Z</dcterms:modified>
  <cp:revision>2</cp:revision>
  <dc:subject/>
  <dc:title>Slide 1</dc:title>
</cp:coreProperties>
</file>